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7016-4E74-4AC5-B124-0E344339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4002840"/>
            <a:ext cx="85392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4370-8673-42EF-93F1-2DA7A605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4002840"/>
            <a:ext cx="41670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7480" y="4002840"/>
            <a:ext cx="41670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8647-4543-495D-A134-59DBE608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4002840"/>
            <a:ext cx="27493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8880" y="4002840"/>
            <a:ext cx="27493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080" y="4002840"/>
            <a:ext cx="27493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67DE-6816-4E64-B540-EF6AB5DD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C7C5-2172-4D59-A33F-637CF14A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EA3A-0707-4B48-960A-FCBCF0F2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D806-5B9B-4B61-8B17-871B4B3B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4183-976A-4BE2-917D-F5CC031F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AABE-5945-4C5F-B048-20C36F8C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82440"/>
            <a:ext cx="8539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10B7-B7C2-41BA-9F5F-B36BA5A6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02840"/>
            <a:ext cx="41670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5FC1-DFBF-443A-B2E0-2CCCDC02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EDCB-335E-4056-A414-E89019B6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7480" y="4002840"/>
            <a:ext cx="41670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17FA-A23D-4652-AF86-60B14A7F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4002840"/>
            <a:ext cx="85392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930F-00DA-4E55-A530-D1485027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4002840"/>
            <a:ext cx="85392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2F0A-3307-4DF5-B1EA-0FCC5623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4002840"/>
            <a:ext cx="41670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7480" y="4002840"/>
            <a:ext cx="41670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6BAF-F0D4-47AD-A78E-9088C9E9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4002840"/>
            <a:ext cx="27493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8880" y="4002840"/>
            <a:ext cx="27493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080" y="4002840"/>
            <a:ext cx="27493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058B-B836-4217-9AFD-56E9C9EA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BEE3-9272-4DD1-80CA-B6631F89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02D1-5776-4703-93EE-3ACA6AA7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8661-FFB2-4864-BA1C-0B8022ED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82440"/>
            <a:ext cx="8539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40D4-9EE9-4EE1-B2D9-6B425092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4002840"/>
            <a:ext cx="41670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7625-542B-4132-9710-AF1A8F5D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7480" y="4002840"/>
            <a:ext cx="41670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908F-C040-44FB-8C58-2156B53A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4002840"/>
            <a:ext cx="85392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B920-C63B-4121-9295-75FE4C2F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200" y="1422360"/>
            <a:ext cx="9138240" cy="5434200"/>
            <a:chOff x="7200" y="1422360"/>
            <a:chExt cx="9138240" cy="543420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3760" cy="5434200"/>
              <a:chOff x="31680" y="1422360"/>
              <a:chExt cx="9113760" cy="543420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7240" cy="33480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4600" cy="37544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7920" cy="493092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48720" cy="438012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2440" cy="188604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7640" cy="17715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1120" cy="380196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19400" cy="21398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2240" cy="128448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19440" cy="124956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4720" cy="13539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3840" cy="6206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1960" cy="304668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7200" y="3642840"/>
              <a:ext cx="2186640" cy="2685960"/>
              <a:chOff x="7200" y="3642840"/>
              <a:chExt cx="2186640" cy="2685960"/>
            </a:xfrm>
          </p:grpSpPr>
          <p:sp>
            <p:nvSpPr>
              <p:cNvPr id="16" name=""/>
              <p:cNvSpPr/>
              <p:nvPr/>
            </p:nvSpPr>
            <p:spPr>
              <a:xfrm rot="6780000">
                <a:off x="101160" y="615888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80000">
                <a:off x="55440" y="615564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80000">
                <a:off x="12600" y="614772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000000">
                <a:off x="335880" y="616032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000000">
                <a:off x="293040" y="617004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0000">
                <a:off x="244080" y="61668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40000">
                <a:off x="198360" y="616356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400000">
                <a:off x="579960" y="61380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400000">
                <a:off x="531000" y="6143040"/>
                <a:ext cx="107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0000">
                <a:off x="483480" y="6150600"/>
                <a:ext cx="107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60000">
                <a:off x="430560" y="615888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40000">
                <a:off x="820440" y="607464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0000">
                <a:off x="774720" y="608112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0000">
                <a:off x="725760" y="61048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0000">
                <a:off x="677880" y="610956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40000">
                <a:off x="1054440" y="596916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40000">
                <a:off x="1006920" y="599724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080000">
                <a:off x="961200" y="601488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0000">
                <a:off x="914040" y="603504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0000">
                <a:off x="1268280" y="584352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0000">
                <a:off x="1225440" y="586908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0000">
                <a:off x="1182600" y="589752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40000">
                <a:off x="1138320" y="592416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280000">
                <a:off x="1463760" y="569052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280000">
                <a:off x="1425600" y="57204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0000">
                <a:off x="1389960" y="57531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0000">
                <a:off x="1348920" y="578196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00000">
                <a:off x="1630440" y="551160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00000">
                <a:off x="1602000" y="554940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800000">
                <a:off x="1571400" y="558468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800000">
                <a:off x="1536840" y="562428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0000">
                <a:off x="1765080" y="532332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0000">
                <a:off x="1745640" y="536148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20000">
                <a:off x="1723320" y="540252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20000">
                <a:off x="1688400" y="543420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80000">
                <a:off x="1858320" y="511740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40000">
                <a:off x="1844280" y="5158800"/>
                <a:ext cx="126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20000">
                <a:off x="1829880" y="5199840"/>
                <a:ext cx="126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20000">
                <a:off x="1809000" y="524232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0000">
                <a:off x="1920240" y="491580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04400" y="4955760"/>
                <a:ext cx="126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02960" y="499536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40000">
                <a:off x="1884960" y="503532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880000">
                <a:off x="1932480" y="47084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20000">
                <a:off x="1934280" y="47480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20000">
                <a:off x="1934280" y="47858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00000">
                <a:off x="1932840" y="482724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0000">
                <a:off x="1915560" y="45140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40000">
                <a:off x="1923480" y="454680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40000">
                <a:off x="1928160" y="45849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60000">
                <a:off x="1932840" y="462780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40000">
                <a:off x="1848600" y="432972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20000">
                <a:off x="1866240" y="437148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20000">
                <a:off x="1878840" y="4407840"/>
                <a:ext cx="133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20000">
                <a:off x="1895040" y="4439520"/>
                <a:ext cx="133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80000">
                <a:off x="1746000" y="41745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40000">
                <a:off x="1767960" y="42015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60000">
                <a:off x="1792080" y="423648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60000">
                <a:off x="1812240" y="426348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40000">
                <a:off x="1609560" y="403200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40000">
                <a:off x="1642680" y="40622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40000">
                <a:off x="1667160" y="4089600"/>
                <a:ext cx="133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60000">
                <a:off x="1694880" y="411300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2560" y="4070520"/>
                <a:ext cx="282960" cy="23760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600000">
                <a:off x="-341280" y="4979520"/>
                <a:ext cx="19400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40000">
                <a:off x="10440" y="4992120"/>
                <a:ext cx="1630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60000">
                <a:off x="1439280" y="392904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60000">
                <a:off x="1476000" y="394884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60000">
                <a:off x="1512720" y="3965760"/>
                <a:ext cx="134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00000">
                <a:off x="1545120" y="398628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40000">
                <a:off x="1250640" y="385416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40000">
                <a:off x="1293840" y="386640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60000">
                <a:off x="1328760" y="3877920"/>
                <a:ext cx="126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60000">
                <a:off x="1368000" y="389700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80000">
                <a:off x="1031040" y="380628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0000">
                <a:off x="1075680" y="381744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0000">
                <a:off x="1122840" y="382572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580000">
                <a:off x="1170720" y="383004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40000">
                <a:off x="801360" y="38048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0000">
                <a:off x="847440" y="380304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20000">
                <a:off x="894960" y="379872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40000">
                <a:off x="944280" y="379836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380000">
                <a:off x="567360" y="383544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60000">
                <a:off x="614520" y="38286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20000">
                <a:off x="667080" y="382212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40000">
                <a:off x="716040" y="381276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80000">
                <a:off x="331560" y="390456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60000">
                <a:off x="380520" y="38890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0000">
                <a:off x="426600" y="38728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60000">
                <a:off x="466200" y="385704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0000">
                <a:off x="12960" y="404856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00000">
                <a:off x="104400" y="399924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60000">
                <a:off x="150480" y="397620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60000">
                <a:off x="193320" y="396036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20000">
                <a:off x="242640" y="393624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40000">
                <a:off x="2880" y="533736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300000">
                <a:off x="811800" y="5519520"/>
                <a:ext cx="3816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300000">
                <a:off x="58320" y="4442400"/>
                <a:ext cx="3816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40000">
                <a:off x="1112400" y="4528080"/>
                <a:ext cx="5004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880000">
                <a:off x="318960" y="6211800"/>
                <a:ext cx="21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60000">
                <a:off x="75240" y="6210360"/>
                <a:ext cx="226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20000">
                <a:off x="574200" y="6176520"/>
                <a:ext cx="20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9080" y="6104160"/>
                <a:ext cx="20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780000">
                <a:off x="1064880" y="5993280"/>
                <a:ext cx="20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89520" y="5852520"/>
                <a:ext cx="20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100000">
                <a:off x="1487880" y="5682600"/>
                <a:ext cx="20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00000">
                <a:off x="-25560" y="3979800"/>
                <a:ext cx="20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80000">
                <a:off x="218160" y="3865680"/>
                <a:ext cx="20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0000">
                <a:off x="710280" y="3756600"/>
                <a:ext cx="21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280000">
                <a:off x="949320" y="3748680"/>
                <a:ext cx="2358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40000">
                <a:off x="1173600" y="3791880"/>
                <a:ext cx="243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20000">
                <a:off x="1379160" y="3861720"/>
                <a:ext cx="2631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60000">
                <a:off x="1562040" y="3967200"/>
                <a:ext cx="2624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380000">
                <a:off x="1704600" y="4106880"/>
                <a:ext cx="2721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60000">
                <a:off x="1818360" y="426996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00000">
                <a:off x="1901160" y="4453200"/>
                <a:ext cx="2624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20000">
                <a:off x="1932840" y="4651200"/>
                <a:ext cx="2624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00000">
                <a:off x="1923120" y="486900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720000">
                <a:off x="1787040" y="5294880"/>
                <a:ext cx="235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00000">
                <a:off x="1650960" y="5499000"/>
                <a:ext cx="2196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8560" y="4978080"/>
                <a:ext cx="321120" cy="18828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120" y="4322160"/>
                <a:ext cx="140400" cy="1220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6600" y="4209840"/>
                <a:ext cx="158040" cy="13932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7680"/>
                <a:ext cx="129600" cy="12168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1120" y="4417560"/>
                <a:ext cx="140760" cy="1123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4520" y="4312800"/>
                <a:ext cx="140400" cy="1314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040" y="6088320"/>
                <a:ext cx="7560" cy="172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4040" y="4057920"/>
                <a:ext cx="45720" cy="741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4040" y="6098040"/>
                <a:ext cx="55080" cy="10260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0000">
                <a:off x="1868040" y="5079240"/>
                <a:ext cx="253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20000">
                <a:off x="463680" y="3790080"/>
                <a:ext cx="216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3200" y="5670360"/>
                <a:ext cx="226440" cy="24228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20000">
                <a:off x="982080" y="5634720"/>
                <a:ext cx="105840" cy="1076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5120" y="3975480"/>
                <a:ext cx="549000" cy="201276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20000">
                <a:off x="470160" y="4838400"/>
                <a:ext cx="348120" cy="273960"/>
              </a:xfrm>
              <a:prstGeom prst="ellipse">
                <a:avLst/>
              </a:prstGeom>
              <a:gradFill rotWithShape="0">
                <a:gsLst>
                  <a:gs pos="0">
                    <a:srgbClr val="5b5d6b"/>
                  </a:gs>
                  <a:gs pos="50000">
                    <a:srgbClr val="525460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680" y="6245280"/>
            <a:ext cx="2287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a-ES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a-ES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2878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a-ES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9C801A-E5DA-4B63-AB1A-2A32C5471234}" type="slidenum">
              <a:rPr b="0" lang="ca-ES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39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7200" y="1422360"/>
            <a:ext cx="9138240" cy="5434200"/>
            <a:chOff x="7200" y="1422360"/>
            <a:chExt cx="9138240" cy="543420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3760" cy="5434200"/>
              <a:chOff x="31680" y="1422360"/>
              <a:chExt cx="9113760" cy="543420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7240" cy="33480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4600" cy="37544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7920" cy="493092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48720" cy="438012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2440" cy="188604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7640" cy="17715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1120" cy="380196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19400" cy="21398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2240" cy="128448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19440" cy="124956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4720" cy="13539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3840" cy="6206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1960" cy="304668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7200" y="3642840"/>
              <a:ext cx="2186640" cy="2685960"/>
              <a:chOff x="7200" y="3642840"/>
              <a:chExt cx="2186640" cy="2685960"/>
            </a:xfrm>
          </p:grpSpPr>
          <p:sp>
            <p:nvSpPr>
              <p:cNvPr id="208" name=""/>
              <p:cNvSpPr/>
              <p:nvPr/>
            </p:nvSpPr>
            <p:spPr>
              <a:xfrm rot="6780000">
                <a:off x="101160" y="615888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80000">
                <a:off x="55440" y="615564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80000">
                <a:off x="12600" y="614772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000000">
                <a:off x="335880" y="616032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000000">
                <a:off x="293040" y="617004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0000">
                <a:off x="244080" y="61668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40000">
                <a:off x="198360" y="616356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400000">
                <a:off x="579960" y="61380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400000">
                <a:off x="531000" y="6143040"/>
                <a:ext cx="107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0000">
                <a:off x="483480" y="6150600"/>
                <a:ext cx="107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60000">
                <a:off x="430560" y="615888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40000">
                <a:off x="820440" y="607464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0000">
                <a:off x="774720" y="608112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0000">
                <a:off x="725760" y="61048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0000">
                <a:off x="677880" y="610956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40000">
                <a:off x="1054440" y="596916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40000">
                <a:off x="1006920" y="599724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080000">
                <a:off x="961200" y="601488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0000">
                <a:off x="914040" y="603504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0000">
                <a:off x="1268280" y="584352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0000">
                <a:off x="1225440" y="586908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0000">
                <a:off x="1182600" y="589752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40000">
                <a:off x="1138320" y="592416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280000">
                <a:off x="1463760" y="569052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280000">
                <a:off x="1425600" y="57204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0000">
                <a:off x="1389960" y="57531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0000">
                <a:off x="1348920" y="578196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00000">
                <a:off x="1630440" y="551160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00000">
                <a:off x="1602000" y="554940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800000">
                <a:off x="1571400" y="558468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800000">
                <a:off x="1536840" y="562428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0000">
                <a:off x="1765080" y="532332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0000">
                <a:off x="1745640" y="536148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20000">
                <a:off x="1723320" y="540252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20000">
                <a:off x="1688400" y="543420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80000">
                <a:off x="1858320" y="511740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40000">
                <a:off x="1844280" y="5158800"/>
                <a:ext cx="126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20000">
                <a:off x="1829880" y="5199840"/>
                <a:ext cx="126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20000">
                <a:off x="1809000" y="524232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0000">
                <a:off x="1920240" y="491580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04400" y="4955760"/>
                <a:ext cx="126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02960" y="499536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40000">
                <a:off x="1884960" y="503532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880000">
                <a:off x="1932480" y="47084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20000">
                <a:off x="1934280" y="47480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20000">
                <a:off x="1934280" y="47858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00000">
                <a:off x="1932840" y="482724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0000">
                <a:off x="1915560" y="45140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40000">
                <a:off x="1923480" y="454680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40000">
                <a:off x="1928160" y="45849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60000">
                <a:off x="1932840" y="462780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40000">
                <a:off x="1848600" y="432972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20000">
                <a:off x="1866240" y="437148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20000">
                <a:off x="1878840" y="4407840"/>
                <a:ext cx="133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20000">
                <a:off x="1895040" y="4439520"/>
                <a:ext cx="133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80000">
                <a:off x="1746000" y="41745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40000">
                <a:off x="1767960" y="42015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60000">
                <a:off x="1792080" y="423648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60000">
                <a:off x="1812240" y="426348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40000">
                <a:off x="1609560" y="403200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40000">
                <a:off x="1642680" y="40622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40000">
                <a:off x="1667160" y="4089600"/>
                <a:ext cx="133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60000">
                <a:off x="1694880" y="411300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2560" y="4070520"/>
                <a:ext cx="282960" cy="23760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600000">
                <a:off x="-341280" y="4979520"/>
                <a:ext cx="19400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40000">
                <a:off x="10440" y="4992120"/>
                <a:ext cx="1630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60000">
                <a:off x="1439280" y="392904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60000">
                <a:off x="1476000" y="394884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60000">
                <a:off x="1512720" y="3965760"/>
                <a:ext cx="134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00000">
                <a:off x="1545120" y="398628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40000">
                <a:off x="1250640" y="385416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40000">
                <a:off x="1293840" y="386640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60000">
                <a:off x="1328760" y="3877920"/>
                <a:ext cx="126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60000">
                <a:off x="1368000" y="389700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80000">
                <a:off x="1031040" y="380628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0000">
                <a:off x="1075680" y="381744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0000">
                <a:off x="1122840" y="382572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580000">
                <a:off x="1170720" y="383004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40000">
                <a:off x="801360" y="38048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0000">
                <a:off x="847440" y="380304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20000">
                <a:off x="894960" y="379872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40000">
                <a:off x="944280" y="379836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380000">
                <a:off x="567360" y="383544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60000">
                <a:off x="614520" y="38286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20000">
                <a:off x="667080" y="382212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40000">
                <a:off x="716040" y="381276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80000">
                <a:off x="331560" y="390456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60000">
                <a:off x="380520" y="38890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0000">
                <a:off x="426600" y="38728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60000">
                <a:off x="466200" y="385704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0000">
                <a:off x="12960" y="404856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00000">
                <a:off x="104400" y="399924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60000">
                <a:off x="150480" y="397620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60000">
                <a:off x="193320" y="396036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20000">
                <a:off x="242640" y="393624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40000">
                <a:off x="2880" y="533736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300000">
                <a:off x="811800" y="5519520"/>
                <a:ext cx="3816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300000">
                <a:off x="58320" y="4442400"/>
                <a:ext cx="3816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40000">
                <a:off x="1112400" y="4528080"/>
                <a:ext cx="5004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880000">
                <a:off x="318960" y="6211800"/>
                <a:ext cx="21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60000">
                <a:off x="75240" y="6210360"/>
                <a:ext cx="226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20000">
                <a:off x="574200" y="6176520"/>
                <a:ext cx="20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9080" y="6104160"/>
                <a:ext cx="20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780000">
                <a:off x="1064880" y="5993280"/>
                <a:ext cx="20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89520" y="5852520"/>
                <a:ext cx="20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100000">
                <a:off x="1487880" y="5682600"/>
                <a:ext cx="20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00000">
                <a:off x="-25560" y="3979800"/>
                <a:ext cx="20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80000">
                <a:off x="218160" y="3865680"/>
                <a:ext cx="20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0000">
                <a:off x="710280" y="3756600"/>
                <a:ext cx="21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280000">
                <a:off x="949320" y="3748680"/>
                <a:ext cx="2358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40000">
                <a:off x="1173600" y="3791880"/>
                <a:ext cx="243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20000">
                <a:off x="1379160" y="3861720"/>
                <a:ext cx="2631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60000">
                <a:off x="1562040" y="3967200"/>
                <a:ext cx="2624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380000">
                <a:off x="1704600" y="4106880"/>
                <a:ext cx="2721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60000">
                <a:off x="1818360" y="426996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00000">
                <a:off x="1901160" y="4453200"/>
                <a:ext cx="2624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20000">
                <a:off x="1932840" y="4651200"/>
                <a:ext cx="2624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00000">
                <a:off x="1923120" y="486900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720000">
                <a:off x="1787040" y="5294880"/>
                <a:ext cx="235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00000">
                <a:off x="1650960" y="5499000"/>
                <a:ext cx="2196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8560" y="4978080"/>
                <a:ext cx="321120" cy="18828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3120" y="4322160"/>
                <a:ext cx="140400" cy="1220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6600" y="4209840"/>
                <a:ext cx="158040" cy="13932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7680"/>
                <a:ext cx="129600" cy="12168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1120" y="4417560"/>
                <a:ext cx="140760" cy="1123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4520" y="4312800"/>
                <a:ext cx="140400" cy="1314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040" y="6088320"/>
                <a:ext cx="7560" cy="172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4040" y="4057920"/>
                <a:ext cx="45720" cy="741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040" y="6098040"/>
                <a:ext cx="55080" cy="10260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0000">
                <a:off x="1868040" y="5079240"/>
                <a:ext cx="253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20000">
                <a:off x="463680" y="3790080"/>
                <a:ext cx="216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3200" y="5670360"/>
                <a:ext cx="226440" cy="24228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20000">
                <a:off x="982080" y="5634720"/>
                <a:ext cx="105840" cy="1076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5120" y="3975480"/>
                <a:ext cx="549000" cy="201276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20000">
                <a:off x="470160" y="4838400"/>
                <a:ext cx="348120" cy="273960"/>
              </a:xfrm>
              <a:prstGeom prst="ellipse">
                <a:avLst/>
              </a:prstGeom>
              <a:gradFill rotWithShape="0">
                <a:gsLst>
                  <a:gs pos="0">
                    <a:srgbClr val="5b5d6b"/>
                  </a:gs>
                  <a:gs pos="50000">
                    <a:srgbClr val="525460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22842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a-ES" sz="1000" spc="-1" strike="noStrike">
                <a:solidFill>
                  <a:srgbClr val="ffffff"/>
                </a:solidFill>
                <a:latin typeface="Tahom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a-ES" sz="1000" spc="-1" strike="noStrike">
                <a:solidFill>
                  <a:srgbClr val="ffffff"/>
                </a:solidFill>
                <a:latin typeface="Tahoma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a-ES" sz="1000" spc="-1" strike="noStrike">
                <a:solidFill>
                  <a:srgbClr val="ffffff"/>
                </a:solidFill>
                <a:latin typeface="Tahom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a-ES" sz="1000" spc="-1" strike="noStrike">
                <a:solidFill>
                  <a:srgbClr val="ffffff"/>
                </a:solidFill>
                <a:latin typeface="Tahoma"/>
                <a:ea typeface="DejaVu 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284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a-ES" sz="1000" spc="-1" strike="noStrike">
                <a:solidFill>
                  <a:srgbClr val="ffffff"/>
                </a:solidFill>
                <a:latin typeface="Tahom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A8DBE-3138-4BC4-A8C7-3FCFD41903EB}" type="slidenum">
              <a:rPr b="0" lang="ca-ES" sz="1000" spc="-1" strike="noStrike">
                <a:solidFill>
                  <a:srgbClr val="ffffff"/>
                </a:solidFill>
                <a:latin typeface="Tahoma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a-ES" sz="6000" spc="-1" strike="noStrike">
                <a:solidFill>
                  <a:srgbClr val="ffffcc"/>
                </a:solidFill>
                <a:latin typeface="Tahoma"/>
              </a:rPr>
              <a:t>INTRODUCTION TO JAVASCRIPT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JavaScript Operators - 3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Tahoma"/>
              </a:rPr>
              <a:t>Comparison Opera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(Karşılaştırma işleci, iki ya da daha çok değeri birbiriyle karşılaştırarak True ya da False olarak mantıksal bir değer döndürür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4648320" y="1600200"/>
          <a:ext cx="4194000" cy="4321080"/>
        </p:xfrm>
        <a:graphic>
          <a:graphicData uri="http://schemas.openxmlformats.org/drawingml/2006/table">
            <a:tbl>
              <a:tblPr/>
              <a:tblGrid>
                <a:gridCol w="931680"/>
                <a:gridCol w="1812960"/>
                <a:gridCol w="1449360"/>
              </a:tblGrid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o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=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 equal 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==8 returns fal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764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==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 equal to (checks for both value and type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="5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0760" bIns="46800" anchor="t">
                      <a:noAutofit/>
                    </a:bodyPr>
                    <a:p>
                      <a:pPr marL="343080" indent="-341640">
                        <a:lnSpc>
                          <a:spcPct val="97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ffffff"/>
                          </a:solidFill>
                          <a:latin typeface="Arial Tu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=y returns tru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==y returns fal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7280">
                <a:tc vMerge="1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!=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 not equ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!=8 returns tru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5840">
                <a:tc vMerge="1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 greater tha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&gt;8 returns fal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7280">
                <a:tc vMerge="1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 less tha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&lt;8 returns tru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3680">
                <a:tc vMerge="1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=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 greater than or equal 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&gt;=8 returns fal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3320">
                <a:tc vMerge="1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=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 less than or equal 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&lt;=8 returns tru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JavaScript Operators - 4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Tahoma"/>
              </a:rPr>
              <a:t>Logical Opera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(İkili işleçler birden çok karşılaştırma işlemini tek bir koşul ifadesi olarak birleştirirler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4648320" y="1600200"/>
          <a:ext cx="4193640" cy="4498560"/>
        </p:xfrm>
        <a:graphic>
          <a:graphicData uri="http://schemas.openxmlformats.org/drawingml/2006/table">
            <a:tbl>
              <a:tblPr/>
              <a:tblGrid>
                <a:gridCol w="1425960"/>
                <a:gridCol w="1327320"/>
                <a:gridCol w="1440360"/>
              </a:tblGrid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o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480">
                <a:tc rowSpan="12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amp;&amp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12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=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0760" bIns="46800" anchor="t">
                      <a:noAutofit/>
                    </a:bodyPr>
                    <a:p>
                      <a:pPr marL="343080" indent="-341640">
                        <a:lnSpc>
                          <a:spcPct val="97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ffffff"/>
                          </a:solidFill>
                          <a:latin typeface="Arial Tu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x &lt; 10 &amp;&amp; y &gt; 1) returns tru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120">
                <a:tc vMerge="1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||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=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0760" bIns="46800" anchor="t">
                      <a:noAutofit/>
                    </a:bodyPr>
                    <a:p>
                      <a:pPr marL="343080" indent="-341640">
                        <a:lnSpc>
                          <a:spcPct val="97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ffffff"/>
                          </a:solidFill>
                          <a:latin typeface="Arial Tu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9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x==5 || y==5) returns fal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!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=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0760" bIns="46800" anchor="t">
                      <a:noAutofit/>
                    </a:bodyPr>
                    <a:p>
                      <a:pPr marL="343080" indent="-341640">
                        <a:lnSpc>
                          <a:spcPct val="97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ffffff"/>
                          </a:solidFill>
                          <a:latin typeface="Arial Tu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9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!(x==y) returns tru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JavaScript Basic Examp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&lt;script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document.write("Hello World!"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&lt;/script&gt; </a:t>
            </a:r>
            <a:r>
              <a:rPr b="0" lang="ca-E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ff0000"/>
                </a:solidFill>
                <a:latin typeface="Tahoma"/>
              </a:rPr>
              <a:t>format text with HTML code - head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&lt;script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alert("Hello World!"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&lt;/script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539640" y="3645000"/>
            <a:ext cx="78487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Tahoma"/>
              </a:rPr>
              <a:t>x=“Hello World!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Tahoma"/>
              </a:rPr>
              <a:t>document.write(x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Tahoma"/>
              </a:rPr>
              <a:t>&lt;/script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Tahoma"/>
              </a:rPr>
              <a:t>x=“İsminizi Yazın…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Tahoma"/>
              </a:rPr>
              <a:t>document.write(“Merhaba” +x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Tahoma"/>
              </a:rPr>
              <a:t>&lt;/script&gt; </a:t>
            </a:r>
            <a:r>
              <a:rPr b="0" lang="ca-E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ca-ES" sz="2000" spc="-1" strike="noStrike">
                <a:solidFill>
                  <a:srgbClr val="ff0000"/>
                </a:solidFill>
                <a:latin typeface="Tahoma"/>
              </a:rPr>
              <a:t> use line break html co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JavaScript Popup Box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Alert Bo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Tahoma"/>
              </a:rPr>
              <a:t>An alert box is often used if you want to make sure information comes through to the us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Tahoma"/>
              </a:rPr>
              <a:t>When an alert box pops up, the user will have to click "OK" to proce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&lt;script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alert("Hello World!"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&lt;/script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JavaScript Popup Boxes - 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Confirm Box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Tahoma"/>
              </a:rPr>
              <a:t>A confirm box is often used if you want the user to verify or accept someth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Tahoma"/>
              </a:rPr>
              <a:t>When a confirm box pops up, the user will have to click either "OK" or "Cancel" to proce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Tahoma"/>
              </a:rPr>
              <a:t>If the user clicks "OK", the box returns true. If the user clicks "Cancel", the box returns fal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JavaScript Popup Boxes - 3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Prompt Bo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Tahoma"/>
              </a:rPr>
              <a:t>A prompt box is often used if you want the user to input a value before entering a p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Tahoma"/>
              </a:rPr>
              <a:t>When a prompt box pops up, the user will have to click either "OK" or "Cancel" to proceed after entering an input valu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Tahoma"/>
              </a:rPr>
              <a:t>If the user clicks "OK“, the box returns the input value. If the user clicks "Cancel“, the box returns nul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Prompt Box Examp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&lt;script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x=prompt (“Adınızı Yazınız”, “ ”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document.write(“Merhaba &lt;br&gt;”,+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&lt;/script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JS Examples -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155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Y=20x+12 ve x=3 ise, sonucu açılan pencerede gösteren kod nasıl yazılmalıdı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324000" y="2997360"/>
            <a:ext cx="8540640" cy="30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&lt;script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x=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y=20*x+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alert(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&lt;/script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Examples -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01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&lt;script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s1=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s2=2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toplam=s1+s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document.write("Sayıların toplamı: "+topla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&lt;/script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JAVASCRIP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a-ES" sz="3200" spc="-1" strike="noStrike">
                <a:solidFill>
                  <a:srgbClr val="ffffff"/>
                </a:solidFill>
                <a:latin typeface="Tahoma"/>
              </a:rPr>
              <a:t>JavaScript is used in millions of Web pages to improve the design, validate forms, detect browsers, create cookies, and much m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a-ES" sz="3200" spc="-1" strike="noStrike">
                <a:solidFill>
                  <a:srgbClr val="ffffff"/>
                </a:solidFill>
                <a:latin typeface="Tahoma"/>
              </a:rPr>
              <a:t>JavaScript is the most popular scripting language on the internet, and works in all major browsers, such as Internet Explorer, Mozilla, Firefox, Netscape, Ope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Examples -3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9280" y="2494080"/>
            <a:ext cx="8785440" cy="434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1900" spc="-1" strike="noStrike">
                <a:solidFill>
                  <a:srgbClr val="ffffff"/>
                </a:solidFill>
                <a:latin typeface="Tahoma"/>
              </a:rPr>
              <a:t>&lt;script&gt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1900" spc="-1" strike="noStrike">
                <a:solidFill>
                  <a:srgbClr val="ffffff"/>
                </a:solidFill>
                <a:latin typeface="Tahoma"/>
              </a:rPr>
              <a:t>s1=12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1900" spc="-1" strike="noStrike">
                <a:solidFill>
                  <a:srgbClr val="ffffff"/>
                </a:solidFill>
                <a:latin typeface="Tahoma"/>
              </a:rPr>
              <a:t>s2=28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1900" spc="-1" strike="noStrike">
                <a:solidFill>
                  <a:srgbClr val="ffffff"/>
                </a:solidFill>
                <a:latin typeface="Tahoma"/>
              </a:rPr>
              <a:t>toplam=s1+s2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1900" spc="-1" strike="noStrike">
                <a:solidFill>
                  <a:srgbClr val="ffffff"/>
                </a:solidFill>
                <a:latin typeface="Tahoma"/>
              </a:rPr>
              <a:t>fark=s1-s2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1900" spc="-1" strike="noStrike">
                <a:solidFill>
                  <a:srgbClr val="ffffff"/>
                </a:solidFill>
                <a:latin typeface="Tahoma"/>
              </a:rPr>
              <a:t>carp=s1*s2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1900" spc="-1" strike="noStrike">
                <a:solidFill>
                  <a:srgbClr val="ffffff"/>
                </a:solidFill>
                <a:latin typeface="Tahoma"/>
              </a:rPr>
              <a:t>bol=s1/s2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1900" spc="-1" strike="noStrike">
                <a:solidFill>
                  <a:srgbClr val="ffffff"/>
                </a:solidFill>
                <a:latin typeface="Tahoma"/>
              </a:rPr>
              <a:t>document.write("&lt;br&gt;Değişkenlerdeki sayılarla ilgili aritmetik işlemler...&lt;br&gt;"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1900" spc="-1" strike="noStrike">
                <a:solidFill>
                  <a:srgbClr val="ffffff"/>
                </a:solidFill>
                <a:latin typeface="Tahoma"/>
              </a:rPr>
              <a:t>document.write("&lt;br&gt;Sayıların toplamı: "+toplam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1900" spc="-1" strike="noStrike">
                <a:solidFill>
                  <a:srgbClr val="ffffff"/>
                </a:solidFill>
                <a:latin typeface="Tahoma"/>
              </a:rPr>
              <a:t>document.write("&lt;br&gt;Sayıların farkı: "+fark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1900" spc="-1" strike="noStrike">
                <a:solidFill>
                  <a:srgbClr val="ffffff"/>
                </a:solidFill>
                <a:latin typeface="Tahoma"/>
              </a:rPr>
              <a:t>document.write("&lt;br&gt;Sayıların çarpımı: "+carp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1900" spc="-1" strike="noStrike">
                <a:solidFill>
                  <a:srgbClr val="ffffff"/>
                </a:solidFill>
                <a:latin typeface="Tahoma"/>
              </a:rPr>
              <a:t>document.write("&lt;br&gt;1.sayının 2.sayıya bölümü: "+bol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1900" spc="-1" strike="noStrike">
                <a:solidFill>
                  <a:srgbClr val="ffffff"/>
                </a:solidFill>
                <a:latin typeface="Tahoma"/>
              </a:rPr>
              <a:t>alert("Hesaplamalar sona erdi!"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1900" spc="-1" strike="noStrike">
                <a:solidFill>
                  <a:srgbClr val="ffffff"/>
                </a:solidFill>
                <a:latin typeface="Tahoma"/>
              </a:rPr>
              <a:t>&lt;/script &gt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"/>
          <p:cNvSpPr/>
          <p:nvPr/>
        </p:nvSpPr>
        <p:spPr>
          <a:xfrm>
            <a:off x="179280" y="1197000"/>
            <a:ext cx="8785440" cy="12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s1=12, s2=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Bu değişkenlere ait sayıların toplamlarını, farklarını, çarpımlarını ve bölümlerini ayrı satırlarda gösteren ve son olarak ekrana “Hesaplamalar sona erdi” yazısını çıkaran js kodunu oluşturunu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Conditional Statem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Very often when you write code, you want to perform different actions for different decisions. You can use conditional statements in your code to do thi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In JavaScript we have the following conditional statement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a-ES" sz="2000" spc="-1" strike="noStrike">
                <a:solidFill>
                  <a:srgbClr val="ffffff"/>
                </a:solidFill>
                <a:latin typeface="Tahoma"/>
              </a:rPr>
              <a:t>if statement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 - use this statement if you want to execute some code only if a specified condition is tru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a-ES" sz="2000" spc="-1" strike="noStrike">
                <a:solidFill>
                  <a:srgbClr val="ffffff"/>
                </a:solidFill>
                <a:latin typeface="Tahoma"/>
              </a:rPr>
              <a:t>if...else statement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 - use this statement if you want to execute some code if the condition is true and another code if the condition is fals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a-ES" sz="2000" spc="-1" strike="noStrike">
                <a:solidFill>
                  <a:srgbClr val="ffffff"/>
                </a:solidFill>
                <a:latin typeface="Tahoma"/>
              </a:rPr>
              <a:t>if...else if....else statement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 - use this statement if you want to select one of many blocks of code to be execut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a-ES" sz="2000" spc="-1" strike="noStrike">
                <a:solidFill>
                  <a:srgbClr val="ffffff"/>
                </a:solidFill>
                <a:latin typeface="Tahoma"/>
              </a:rPr>
              <a:t>switch statement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 - use this statement if you want to select one of many blocks of code to be execut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Conditional Statements - 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if (</a:t>
            </a:r>
            <a:r>
              <a:rPr b="0" i="1" lang="ca-ES" sz="1800" spc="-1" strike="noStrike">
                <a:solidFill>
                  <a:srgbClr val="ffffff"/>
                </a:solidFill>
                <a:latin typeface="Tahoma"/>
              </a:rPr>
              <a:t>condition</a:t>
            </a: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ca-ES" sz="1800" spc="-1" strike="noStrike">
                <a:solidFill>
                  <a:srgbClr val="ffffff"/>
                </a:solidFill>
                <a:latin typeface="Tahoma"/>
              </a:rPr>
              <a:t>code to be executed if condition is tru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Tahoma"/>
              </a:rPr>
              <a:t>}</a:t>
            </a:r>
            <a:r>
              <a:rPr b="0" lang="ca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if (</a:t>
            </a:r>
            <a:r>
              <a:rPr b="0" i="1" lang="ca-ES" sz="2000" spc="-1" strike="noStrike">
                <a:solidFill>
                  <a:srgbClr val="ffffff"/>
                </a:solidFill>
                <a:latin typeface="Tahoma"/>
              </a:rPr>
              <a:t>condition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Tahoma"/>
              </a:rPr>
              <a:t>code to be executed if condition is tr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Tahoma"/>
              </a:rPr>
              <a:t>code to be executed if condition is not tr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"/>
          <p:cNvSpPr/>
          <p:nvPr/>
        </p:nvSpPr>
        <p:spPr>
          <a:xfrm>
            <a:off x="395280" y="3213000"/>
            <a:ext cx="81374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82080"/>
            <a:ext cx="854064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Conditional Statements Examp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671120"/>
            <a:ext cx="8540640" cy="434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600" spc="-1" strike="noStrike">
                <a:solidFill>
                  <a:srgbClr val="ffffff"/>
                </a:solidFill>
                <a:latin typeface="Tahoma"/>
              </a:rPr>
              <a:t>&lt;script&gt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x=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if(x&lt;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alert (“negatif”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alert (“pozitif”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600" spc="-1" strike="noStrike">
                <a:solidFill>
                  <a:srgbClr val="ffffff"/>
                </a:solidFill>
                <a:latin typeface="Tahoma"/>
              </a:rPr>
              <a:t>&lt;/script&gt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142560"/>
            <a:ext cx="85406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4000" spc="-1" strike="noStrike">
                <a:solidFill>
                  <a:srgbClr val="ffffcc"/>
                </a:solidFill>
                <a:latin typeface="Tahoma"/>
              </a:rPr>
              <a:t>Conditional Statements Examples - 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27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600" spc="-1" strike="noStrike">
                <a:solidFill>
                  <a:srgbClr val="ffffff"/>
                </a:solidFill>
                <a:latin typeface="Tahoma"/>
              </a:rPr>
              <a:t>&lt;script&gt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c=confirm(“Kitap Okuyor musunuz?”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if(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alert (“tebrikler walla”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alert (“ayıp ettiniz ama”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600" spc="-1" strike="noStrike">
                <a:solidFill>
                  <a:srgbClr val="ffffff"/>
                </a:solidFill>
                <a:latin typeface="Tahoma"/>
              </a:rPr>
              <a:t>&lt;/script&gt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142560"/>
            <a:ext cx="85406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4000" spc="-1" strike="noStrike">
                <a:solidFill>
                  <a:srgbClr val="ffffcc"/>
                </a:solidFill>
                <a:latin typeface="Tahoma"/>
              </a:rPr>
              <a:t>Conditional Statements Examples - 3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p=prompt("Ankara'nın plaka numarası nedir?", " "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if(p=="06"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alert("Doğru"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alert("Yanlış"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WHAT IS JAVASCRIPT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54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2600" spc="-1" strike="noStrike">
                <a:solidFill>
                  <a:srgbClr val="ffffff"/>
                </a:solidFill>
                <a:latin typeface="Tahoma"/>
              </a:rPr>
              <a:t>JavaScript was designed to add interactivity to HTML pages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2600" spc="-1" strike="noStrike">
                <a:solidFill>
                  <a:srgbClr val="ffffff"/>
                </a:solidFill>
                <a:latin typeface="Tahoma"/>
              </a:rPr>
              <a:t>JavaScript is a scripting language (a scripting language is a lightweight programming language)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2600" spc="-1" strike="noStrike">
                <a:solidFill>
                  <a:srgbClr val="ffffff"/>
                </a:solidFill>
                <a:latin typeface="Tahoma"/>
              </a:rPr>
              <a:t>A JavaScript consists of lines of executable computer cod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2600" spc="-1" strike="noStrike">
                <a:solidFill>
                  <a:srgbClr val="ffffff"/>
                </a:solidFill>
                <a:latin typeface="Tahoma"/>
              </a:rPr>
              <a:t>A JavaScript is usually embedded directly into HTML pages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2600" spc="-1" strike="noStrike">
                <a:solidFill>
                  <a:srgbClr val="ffffff"/>
                </a:solidFill>
                <a:latin typeface="Tahoma"/>
              </a:rPr>
              <a:t>JavaScript is an interpreted language (means that scripts execute without preliminary compilation)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2600" spc="-1" strike="noStrike">
                <a:solidFill>
                  <a:srgbClr val="ffffff"/>
                </a:solidFill>
                <a:latin typeface="Tahoma"/>
              </a:rPr>
              <a:t>Everyone can use JavaScript without purchasing a licens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142560"/>
            <a:ext cx="85406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4000" spc="-1" strike="noStrike">
                <a:solidFill>
                  <a:srgbClr val="ffffcc"/>
                </a:solidFill>
                <a:latin typeface="Tahoma"/>
              </a:rPr>
              <a:t>Are Java and JavaScript the Same?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NO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Java and JavaScript are two completely different languages in both concept and design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Java (developed by Sun Microsystems) is a powerful and much more complex programming language - in the same category as C and C++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142560"/>
            <a:ext cx="85406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4000" spc="-1" strike="noStrike">
                <a:solidFill>
                  <a:srgbClr val="ffffcc"/>
                </a:solidFill>
                <a:latin typeface="Tahoma"/>
              </a:rPr>
              <a:t>How to Put a JavaScript Into an HTML Page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&lt;html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&lt;body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&lt;script type="text/javascript"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document.write("Hello World!"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&lt;/script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&lt;/body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&lt;/html&gt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142560"/>
            <a:ext cx="85406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4000" spc="-1" strike="noStrike">
                <a:solidFill>
                  <a:srgbClr val="ffffcc"/>
                </a:solidFill>
                <a:latin typeface="Tahoma"/>
              </a:rPr>
              <a:t>Ending Statements With a Semicolon?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With traditional programming languages, like C++ and Java, each code statement has to end with a semicolon (;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Many programmers continue this habit when writing JavaScript, but in general, semicolons are </a:t>
            </a:r>
            <a:r>
              <a:rPr b="1" lang="ca-ES" sz="3200" spc="-1" strike="noStrike">
                <a:solidFill>
                  <a:srgbClr val="ffffff"/>
                </a:solidFill>
                <a:latin typeface="Tahoma"/>
              </a:rPr>
              <a:t>optional</a:t>
            </a: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! However, semicolons are required if you want to put more than one statement on a single 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JavaScript Variabl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Tahoma"/>
              </a:rPr>
              <a:t>Variables are used to store dat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Tahoma"/>
              </a:rPr>
              <a:t>A variable is a "container" for information you want to store. A variable's value can change during the script. You can refer to a variable by name to see its value or to change its valu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Tahoma"/>
              </a:rPr>
              <a:t>Rules for variable nam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Variable names are case sensiti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They must begin with a letter or the underscore charact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1560" indent="-22716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strname – STRNAME (not sam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JavaScript Operato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Tahoma"/>
              </a:rPr>
              <a:t>Arithmetic Opera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(İşleçler, iki ya da daha fazla değer üzerinde işlem yapılmasını sağlar. JavaScript içinde aritmetik ve hesaplama işleçleri olmak üzere iki tür işleç kullanılır</a:t>
            </a:r>
            <a:r>
              <a:rPr b="0" lang="ca-ES" sz="1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4648320" y="1600200"/>
          <a:ext cx="4194000" cy="4743000"/>
        </p:xfrm>
        <a:graphic>
          <a:graphicData uri="http://schemas.openxmlformats.org/drawingml/2006/table">
            <a:tbl>
              <a:tblPr/>
              <a:tblGrid>
                <a:gridCol w="876240"/>
                <a:gridCol w="1423800"/>
                <a:gridCol w="1252800"/>
                <a:gridCol w="641160"/>
              </a:tblGrid>
              <a:tr h="25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o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9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i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=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+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rowSpan="15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15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trac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15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=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-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vMerge="1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plic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=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*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vMerge="1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vis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/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/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9120">
                <a:tc vMerge="1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ulus (division remainder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%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%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%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9120">
                <a:tc vMerge="1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m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++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vMerge="1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rem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-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JavaScript Operators – 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Tahoma"/>
              </a:rPr>
              <a:t>Assignment Opera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(Atama deyimi (=), bir değişkene bir değerin atanmasını sağlar. Değişkenlere türlerine ve tanımlamalarına uygun olan herhangi bir değer atanabilir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4648320" y="1600200"/>
          <a:ext cx="4193640" cy="4498920"/>
        </p:xfrm>
        <a:graphic>
          <a:graphicData uri="http://schemas.openxmlformats.org/drawingml/2006/table">
            <a:tbl>
              <a:tblPr/>
              <a:tblGrid>
                <a:gridCol w="1182960"/>
                <a:gridCol w="1095840"/>
                <a:gridCol w="1914840"/>
              </a:tblGrid>
              <a:tr h="974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 The Same 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+=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x+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-=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x-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*=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x*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/=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x/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%=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2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=x%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15:58:21Z</dcterms:created>
  <dc:creator>Elif&amp;Mete Yaman</dc:creator>
  <dc:description/>
  <dc:language>en-US</dc:language>
  <cp:lastModifiedBy>Mete Yaman</cp:lastModifiedBy>
  <dcterms:modified xsi:type="dcterms:W3CDTF">2007-04-30T10:44:14Z</dcterms:modified>
  <cp:revision>24</cp:revision>
  <dc:subject/>
  <dc:title>INTRODUCTION TO JAVASCRIPT</dc:title>
</cp:coreProperties>
</file>