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8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28058-04E1-4BC9-983D-095D4845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1F9AAD-4685-4C7F-80DA-3409E90B8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91E854-9E54-46F6-BDAD-55A38BA2E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660240" y="525600"/>
            <a:ext cx="5478480" cy="410976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447840" y="4879440"/>
            <a:ext cx="590688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C7D12E-7DF1-49FC-9160-54BC063AD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660240" y="525600"/>
            <a:ext cx="5478480" cy="410976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447840" y="4879440"/>
            <a:ext cx="590688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A11BD7-4344-4CCF-BD33-55CB5C065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660240" y="525600"/>
            <a:ext cx="5478480" cy="410976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447840" y="4879440"/>
            <a:ext cx="590688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099BD6-32FE-4A45-9BD7-2FA191A4C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47168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230036-AE13-47B6-93E4-864E761FA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812880" y="24624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398160" y="4395960"/>
            <a:ext cx="6032520" cy="42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1E5AC2-9B99-4769-A348-37865BEB0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914040" y="6257520"/>
            <a:ext cx="1560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A1B11D-A1D4-48F7-8271-699308D7E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914040" y="6257520"/>
            <a:ext cx="1560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BBD0ED-CA69-4FC5-9C73-1666EC0C2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032307-2BFA-4DF1-9B5F-DB08019EEA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B9523A-900F-4640-954C-D78C87D1FA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731209-A0D2-4C86-A616-B73F47E6D2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E6A3C0-8926-4131-BB89-675D6B7FFE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Vulnerabilities are inherent susceptibilities or bugs in the software which can be exploited by hacker for maliciou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960BD0-3425-4EB6-BC6D-0E45A85106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E93C5A-5459-4FA0-A645-23BF53E89F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996C13-0035-43A4-B5E6-5C189A3A67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C5885E-3BC0-4792-BAD0-F5806136C4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77EE90-80DC-4DAA-8BF4-D36C2DECE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51A7-7837-4BE5-96DE-CE3DD064A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F8D6-4CE9-4CF0-83BC-5AFE7672D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9B8A-BC8F-47BF-BDBC-B5CD87404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9C9C-4F0C-480E-BE54-2441EAEF5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EFF-24B0-4039-926D-8514DDF159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24F-5093-41CD-A587-662C13C29F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893-54BD-469C-8028-620B15ECDB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0DB-E51A-45F8-9901-D84CDCB12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201-95E4-40DE-B9EF-3CFF50DEA3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885-7098-4F65-BC2B-C5D823363D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CD0-A7A5-4814-94E1-405EA51924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50A5-36ED-4162-8A4F-2C72411E4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8CE-5F50-4C25-B9E7-C34DDF7022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60E-0913-4110-8A3D-C628CFB282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00F-EB0E-4B83-89F4-458937E8B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29C-9470-46A4-869B-BD6DCCD81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E40-5D91-45BE-B5B0-EFA724BBA5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80FFD-B851-4FAE-893D-DB72FE34CA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25969-468A-4364-8D19-CBBA031CDC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B0D5B-66DF-41A5-AAF0-47A0A27E97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9DD16-B5A0-40E1-8D9A-4930DBBB4E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09827-3E8C-44D8-BE7B-35BDF49F0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5E88-65C5-4B10-92C5-93D6F0E8DF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F6076-17A9-4619-93FD-4B8900A3C8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64531-4082-460A-82C6-C34E6E1B26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B2E1B-66AA-4771-B9EE-EB6E117375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5E421-129B-4BEF-9748-BE3ABEE1DB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5CCCF-1D09-46DE-AF57-3B642F261B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F81BD-9385-4337-92AF-D765D53626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FC37F-431C-429F-A46C-FCA219A99B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FEF98-7858-491E-B2DC-088CA7EDE0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558F8-CE29-4EBA-8623-78444724A2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D27C77-9553-4F10-B7C9-A55DF7C5C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E88C-0ECF-4A97-9F6A-F982E66DA4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D9A293-6CD0-4A4B-ACA8-A745050105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0A48D-4AAB-4205-8071-ECE13D9295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60635-F86A-46D9-8EE9-366F224740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736B0-DCEF-4CD5-B869-43A33F6430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201B3-1156-4516-B0CA-BC47CF2F7D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73946-4A95-4AD7-92BA-859722F0C7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32982-901A-42C3-9856-5D938B8C12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46E43-ECB5-4380-8797-BBC27CB2D9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02EDA-3F2C-4EAD-857C-5FCFBAC9DE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4AE9-A489-4F7D-BA5C-BC1AA6C9DD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56C0-C8A6-42D8-80B0-60DA6C605C7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389C-02B4-48CC-98BC-5F3C0F685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BA39-D7A6-4CF4-84FB-B7883E65D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29E0-95E2-4235-9F13-2424B0F8D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ering and Management of Secure Computer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a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D676F3-DC2A-4619-B8EC-8CC8B1A70925}" type="slidenum"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75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a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89DD00-C50A-4450-87AF-AA5B163C4F6B}" type="slidenum">
              <a:rPr b="0" lang="ca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752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45720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a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FEA5BF-B065-421E-9CBE-3AC5ACEC936F}" type="slidenum">
              <a:rPr b="0" lang="ca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752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6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a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33E3D3-73C7-452F-B059-4FA3CD3B62DA}" type="slidenum">
              <a:rPr b="0" lang="ca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5.wmf"/><Relationship Id="rId11" Type="http://schemas.openxmlformats.org/officeDocument/2006/relationships/image" Target="../media/image3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ntangle.com/video_overview/" TargetMode="External"/><Relationship Id="rId2" Type="http://schemas.openxmlformats.org/officeDocument/2006/relationships/hyperlink" Target="http://www.untangle.com/video_overview/" TargetMode="External"/><Relationship Id="rId3" Type="http://schemas.openxmlformats.org/officeDocument/2006/relationships/hyperlink" Target="http://www.untangle.com/video_overview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etwork Intrusion Detection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MM C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 Adekun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7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ypes of Intrusion Detecti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etwork-Based Intrusion Detec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Connected to network segmen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to monitor, analyze and respond to network traff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A single IDS sensor can monitor many h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NIDS sensors are available in two form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ppliance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 It consists of specialized hardware sensor and  its dedicated software. The hardware consists of specialized NIC’s, processors and hard disks to efficiently capture traffic and perform analysi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Examples: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Cisco IDS 4200 series, IBM Real Secure Networ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oftware: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ensor software installed on server and placed in  network to monitor network traff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Examples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DejaVu Sans"/>
              </a:rPr>
              <a:t>: Snort, Bro, Untang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561C30-3682-4B91-AE97-6F0739E48E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0880" y="2193840"/>
            <a:ext cx="3613320" cy="33973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50480" y="1704960"/>
            <a:ext cx="20232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360" rIns="540360" tIns="270000" bIns="27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orpo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4402080" y="3881520"/>
            <a:ext cx="180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/>
          <p:nvPr/>
        </p:nvSpPr>
        <p:spPr>
          <a:xfrm>
            <a:off x="5851800" y="5032440"/>
            <a:ext cx="761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5354640" y="4295880"/>
            <a:ext cx="1440" cy="455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5735520" y="3838680"/>
            <a:ext cx="1800" cy="4572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/>
          <p:nvPr/>
        </p:nvSpPr>
        <p:spPr>
          <a:xfrm>
            <a:off x="4999680" y="5070600"/>
            <a:ext cx="788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59120" y="3873240"/>
            <a:ext cx="1440" cy="423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527120" y="4156200"/>
            <a:ext cx="646200" cy="556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V="1">
            <a:off x="1192320" y="3874680"/>
            <a:ext cx="144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62120" y="4156200"/>
            <a:ext cx="645840" cy="556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 flipV="1">
            <a:off x="2744640" y="3874680"/>
            <a:ext cx="180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2314440" y="4156200"/>
            <a:ext cx="646200" cy="556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 flipV="1">
            <a:off x="3510000" y="3862440"/>
            <a:ext cx="1440" cy="5112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3078000" y="4143240"/>
            <a:ext cx="646200" cy="557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35160" y="3564000"/>
            <a:ext cx="1800" cy="3045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952880" y="3646440"/>
            <a:ext cx="1800" cy="2318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/>
          <p:nvPr/>
        </p:nvSpPr>
        <p:spPr>
          <a:xfrm>
            <a:off x="6116760" y="4295880"/>
            <a:ext cx="1440" cy="455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>
            <a:off x="4559760" y="2933640"/>
            <a:ext cx="810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/>
          <p:nvPr/>
        </p:nvSpPr>
        <p:spPr>
          <a:xfrm>
            <a:off x="2874960" y="265572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Sens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>
            <a:off x="5838840" y="322884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352680" y="3303360"/>
            <a:ext cx="1800" cy="2314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371600" y="3138120"/>
            <a:ext cx="144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362320" y="3138120"/>
            <a:ext cx="144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6"/>
          <a:stretch/>
        </p:blipFill>
        <p:spPr>
          <a:xfrm>
            <a:off x="998640" y="2793960"/>
            <a:ext cx="645840" cy="557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1981080" y="2771640"/>
            <a:ext cx="646200" cy="557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3035160" y="2946240"/>
            <a:ext cx="676440" cy="435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4610160" y="3254400"/>
            <a:ext cx="687240" cy="4428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90720" y="3549600"/>
            <a:ext cx="2514600" cy="1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/>
          <p:nvPr/>
        </p:nvSpPr>
        <p:spPr>
          <a:xfrm>
            <a:off x="947880" y="3875040"/>
            <a:ext cx="6286320" cy="1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5607000" y="3413160"/>
            <a:ext cx="293760" cy="741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1"/>
          <a:stretch/>
        </p:blipFill>
        <p:spPr>
          <a:xfrm>
            <a:off x="6638760" y="3076560"/>
            <a:ext cx="2046600" cy="1600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629400" y="3349800"/>
            <a:ext cx="227952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360" rIns="540360" tIns="270000" bIns="2700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trus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5138640" y="4305240"/>
            <a:ext cx="1219320" cy="1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2"/>
          <a:stretch/>
        </p:blipFill>
        <p:spPr>
          <a:xfrm>
            <a:off x="4019400" y="4448160"/>
            <a:ext cx="736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5151600" y="4435560"/>
            <a:ext cx="412560" cy="658800"/>
            <a:chOff x="5151600" y="4435560"/>
            <a:chExt cx="412560" cy="658800"/>
          </a:xfrm>
        </p:grpSpPr>
        <p:sp>
          <p:nvSpPr>
            <p:cNvPr id="351" name=""/>
            <p:cNvSpPr/>
            <p:nvPr/>
          </p:nvSpPr>
          <p:spPr>
            <a:xfrm>
              <a:off x="5151600" y="4483080"/>
              <a:ext cx="36324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53040" y="448452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51600" y="4435560"/>
              <a:ext cx="412560" cy="47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1600" y="4435560"/>
              <a:ext cx="412560" cy="47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75360" y="452124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95880" y="4560840"/>
              <a:ext cx="11592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14840" y="443556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14840" y="443556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56280" y="5054760"/>
              <a:ext cx="3585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6280" y="4729320"/>
              <a:ext cx="3585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1600" y="5049720"/>
              <a:ext cx="3632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51600" y="4724280"/>
              <a:ext cx="3632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73560" y="4519440"/>
              <a:ext cx="162000" cy="74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918040" y="4435560"/>
            <a:ext cx="412920" cy="658800"/>
            <a:chOff x="5918040" y="4435560"/>
            <a:chExt cx="412920" cy="658800"/>
          </a:xfrm>
        </p:grpSpPr>
        <p:sp>
          <p:nvSpPr>
            <p:cNvPr id="365" name=""/>
            <p:cNvSpPr/>
            <p:nvPr/>
          </p:nvSpPr>
          <p:spPr>
            <a:xfrm>
              <a:off x="5918040" y="4483080"/>
              <a:ext cx="36360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9840" y="448452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18040" y="443556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18040" y="443556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2160" y="452124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62680" y="4560840"/>
              <a:ext cx="11592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81640" y="443556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81640" y="443556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1280" y="5054760"/>
              <a:ext cx="3603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21280" y="4729320"/>
              <a:ext cx="3603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18040" y="504972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18040" y="472428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0360" y="4519440"/>
              <a:ext cx="162000" cy="74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alibri"/>
              </a:rPr>
              <a:t>Network-Based Intrusion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51800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8A6940-A6F4-4330-B441-495F13A4C2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6340320"/>
            <a:ext cx="411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alibri"/>
              </a:rPr>
              <a:t>Sensor Appliance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5410080"/>
            <a:ext cx="3505320" cy="1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3657600"/>
            <a:ext cx="1017720" cy="1440"/>
          </a:xfrm>
          <a:prstGeom prst="line">
            <a:avLst/>
          </a:prstGeom>
          <a:ln w="5076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4049640" y="4800600"/>
            <a:ext cx="1800" cy="1143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3657600"/>
            <a:ext cx="1800" cy="990720"/>
          </a:xfrm>
          <a:prstGeom prst="line">
            <a:avLst/>
          </a:prstGeom>
          <a:ln w="5076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/>
          <p:nvPr/>
        </p:nvSpPr>
        <p:spPr>
          <a:xfrm>
            <a:off x="5259240" y="1600200"/>
            <a:ext cx="1800" cy="1000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256000" y="3521160"/>
            <a:ext cx="4680" cy="2574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259240" y="2487600"/>
            <a:ext cx="1800" cy="1085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876920" y="4419720"/>
            <a:ext cx="758880" cy="463320"/>
            <a:chOff x="4876920" y="4419720"/>
            <a:chExt cx="758880" cy="463320"/>
          </a:xfrm>
        </p:grpSpPr>
        <p:sp>
          <p:nvSpPr>
            <p:cNvPr id="391" name=""/>
            <p:cNvSpPr/>
            <p:nvPr/>
          </p:nvSpPr>
          <p:spPr>
            <a:xfrm>
              <a:off x="4878360" y="4611600"/>
              <a:ext cx="757440" cy="27144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6920" y="4557600"/>
              <a:ext cx="75564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76920" y="4557600"/>
              <a:ext cx="75564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8360" y="4419720"/>
              <a:ext cx="757440" cy="27144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992840" y="4451400"/>
              <a:ext cx="522000" cy="204840"/>
              <a:chOff x="4992840" y="4451400"/>
              <a:chExt cx="522000" cy="2048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4992840" y="4451400"/>
                <a:ext cx="519120" cy="201600"/>
                <a:chOff x="4992840" y="4451400"/>
                <a:chExt cx="519120" cy="2016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262480" y="4456080"/>
                  <a:ext cx="249480" cy="856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262480" y="4456080"/>
                  <a:ext cx="249480" cy="856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992840" y="4556160"/>
                  <a:ext cx="247320" cy="9216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992840" y="4556160"/>
                  <a:ext cx="247320" cy="9216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005440" y="4451400"/>
                  <a:ext cx="249120" cy="8568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005440" y="4451400"/>
                  <a:ext cx="249120" cy="8568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254560" y="456732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254560" y="456732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997520" y="4456080"/>
                <a:ext cx="517320" cy="200160"/>
                <a:chOff x="4997520" y="4456080"/>
                <a:chExt cx="517320" cy="2001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267160" y="446076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267160" y="446076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97520" y="4562640"/>
                  <a:ext cx="247680" cy="903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997520" y="4562640"/>
                  <a:ext cx="247680" cy="903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010120" y="445608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010120" y="445608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257800" y="4570560"/>
                  <a:ext cx="249120" cy="8568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257800" y="4570560"/>
                  <a:ext cx="249120" cy="8568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14" name=""/>
            <p:cNvSpPr/>
            <p:nvPr/>
          </p:nvSpPr>
          <p:spPr>
            <a:xfrm>
              <a:off x="4876920" y="4551480"/>
              <a:ext cx="1440" cy="19188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32560" y="4551480"/>
              <a:ext cx="1440" cy="19188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890960" y="5715000"/>
            <a:ext cx="747720" cy="615960"/>
            <a:chOff x="4890960" y="5715000"/>
            <a:chExt cx="747720" cy="615960"/>
          </a:xfrm>
        </p:grpSpPr>
        <p:grpSp>
          <p:nvGrpSpPr>
            <p:cNvPr id="417" name=""/>
            <p:cNvGrpSpPr/>
            <p:nvPr/>
          </p:nvGrpSpPr>
          <p:grpSpPr>
            <a:xfrm>
              <a:off x="4890960" y="5715000"/>
              <a:ext cx="747720" cy="615960"/>
              <a:chOff x="4890960" y="5715000"/>
              <a:chExt cx="747720" cy="615960"/>
            </a:xfrm>
          </p:grpSpPr>
          <p:sp>
            <p:nvSpPr>
              <p:cNvPr id="418" name=""/>
              <p:cNvSpPr/>
              <p:nvPr/>
            </p:nvSpPr>
            <p:spPr>
              <a:xfrm>
                <a:off x="4890960" y="6129360"/>
                <a:ext cx="674640" cy="1126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92760" y="6130800"/>
                <a:ext cx="671400" cy="1098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90960" y="60660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90960" y="60660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66880" y="6180120"/>
                <a:ext cx="15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565600" y="6066000"/>
                <a:ext cx="71640" cy="176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65600" y="6066000"/>
                <a:ext cx="71640" cy="176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94200" y="622944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94200" y="622944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16560" y="6229440"/>
                <a:ext cx="74520" cy="1000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416560" y="6229440"/>
                <a:ext cx="74520" cy="1000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94200" y="6315120"/>
                <a:ext cx="520920" cy="158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96000" y="6316560"/>
                <a:ext cx="517320" cy="1296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95720" y="6066000"/>
                <a:ext cx="533520" cy="5220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95720" y="6066000"/>
                <a:ext cx="533520" cy="5220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89600" y="5715000"/>
                <a:ext cx="533160" cy="4608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89600" y="5715000"/>
                <a:ext cx="533160" cy="4608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91040" y="5762520"/>
                <a:ext cx="479520" cy="34308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032440" y="5805360"/>
                <a:ext cx="395280" cy="26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67320" y="57150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67320" y="57150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116680" y="5830920"/>
              <a:ext cx="255600" cy="214200"/>
              <a:chOff x="5116680" y="5830920"/>
              <a:chExt cx="255600" cy="214200"/>
            </a:xfrm>
          </p:grpSpPr>
          <p:sp>
            <p:nvSpPr>
              <p:cNvPr id="440" name=""/>
              <p:cNvSpPr/>
              <p:nvPr/>
            </p:nvSpPr>
            <p:spPr>
              <a:xfrm>
                <a:off x="5119560" y="5835600"/>
                <a:ext cx="230400" cy="2080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119560" y="5835600"/>
                <a:ext cx="230400" cy="2080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16680" y="5830920"/>
                <a:ext cx="34920" cy="46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18120" y="5832360"/>
                <a:ext cx="33480" cy="446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154480" y="5851440"/>
                <a:ext cx="1800" cy="14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54480" y="6002280"/>
                <a:ext cx="65160" cy="4284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57720" y="6002280"/>
                <a:ext cx="60480" cy="39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116680" y="5870520"/>
                <a:ext cx="37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05320" y="5870520"/>
                <a:ext cx="1800" cy="12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84720" y="603900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5144760" y="5830920"/>
                <a:ext cx="127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275440" y="5830920"/>
                <a:ext cx="33120" cy="460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275440" y="5832360"/>
                <a:ext cx="31680" cy="44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337000" y="6002280"/>
                <a:ext cx="35280" cy="428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</a:path>
                  <a:path stroke="0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37000" y="6002280"/>
                <a:ext cx="33480" cy="39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</a:path>
                  <a:path stroke="0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  <a:lnTo>
                      <a:pt x="0" y="10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214960" y="600084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84720" y="587052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84720" y="588960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84720" y="592452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84720" y="594684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84720" y="596736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4720" y="598644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49880" y="60008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4746600" y="3505320"/>
            <a:ext cx="879480" cy="450720"/>
            <a:chOff x="4746600" y="3505320"/>
            <a:chExt cx="879480" cy="450720"/>
          </a:xfrm>
        </p:grpSpPr>
        <p:grpSp>
          <p:nvGrpSpPr>
            <p:cNvPr id="464" name=""/>
            <p:cNvGrpSpPr/>
            <p:nvPr/>
          </p:nvGrpSpPr>
          <p:grpSpPr>
            <a:xfrm>
              <a:off x="4746600" y="3505320"/>
              <a:ext cx="879480" cy="450720"/>
              <a:chOff x="4746600" y="3505320"/>
              <a:chExt cx="879480" cy="450720"/>
            </a:xfrm>
          </p:grpSpPr>
          <p:sp>
            <p:nvSpPr>
              <p:cNvPr id="465" name=""/>
              <p:cNvSpPr/>
              <p:nvPr/>
            </p:nvSpPr>
            <p:spPr>
              <a:xfrm>
                <a:off x="4746600" y="3747960"/>
                <a:ext cx="671400" cy="208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48040" y="3749760"/>
                <a:ext cx="668520" cy="20304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3505320"/>
                <a:ext cx="208080" cy="4492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09" h="195">
                    <a:moveTo>
                      <a:pt x="0" y="105"/>
                    </a:moveTo>
                    <a:lnTo>
                      <a:pt x="109" y="0"/>
                    </a:lnTo>
                    <a:lnTo>
                      <a:pt x="109" y="89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18000" y="3505320"/>
                <a:ext cx="208080" cy="4492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09" h="195">
                    <a:moveTo>
                      <a:pt x="0" y="105"/>
                    </a:moveTo>
                    <a:lnTo>
                      <a:pt x="109" y="0"/>
                    </a:lnTo>
                    <a:lnTo>
                      <a:pt x="109" y="89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46600" y="3505320"/>
                <a:ext cx="879480" cy="24264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460" h="105">
                    <a:moveTo>
                      <a:pt x="351" y="105"/>
                    </a:moveTo>
                    <a:lnTo>
                      <a:pt x="460" y="0"/>
                    </a:lnTo>
                    <a:lnTo>
                      <a:pt x="109" y="0"/>
                    </a:lnTo>
                    <a:lnTo>
                      <a:pt x="0" y="105"/>
                    </a:lnTo>
                    <a:lnTo>
                      <a:pt x="351" y="105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46600" y="3505320"/>
                <a:ext cx="879480" cy="24264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460" h="105">
                    <a:moveTo>
                      <a:pt x="351" y="105"/>
                    </a:moveTo>
                    <a:lnTo>
                      <a:pt x="460" y="0"/>
                    </a:lnTo>
                    <a:lnTo>
                      <a:pt x="109" y="0"/>
                    </a:lnTo>
                    <a:lnTo>
                      <a:pt x="0" y="105"/>
                    </a:lnTo>
                    <a:lnTo>
                      <a:pt x="351" y="105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4843440" y="3511440"/>
              <a:ext cx="679320" cy="222480"/>
              <a:chOff x="4843440" y="3511440"/>
              <a:chExt cx="679320" cy="22248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843440" y="3511440"/>
                <a:ext cx="673200" cy="214560"/>
                <a:chOff x="4843440" y="3511440"/>
                <a:chExt cx="673200" cy="21456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5145120" y="361476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2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1" y="0"/>
                      </a:lnTo>
                      <a:lnTo>
                        <a:pt x="102" y="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145120" y="361476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2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1" y="0"/>
                      </a:lnTo>
                      <a:lnTo>
                        <a:pt x="102" y="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229360" y="3511440"/>
                  <a:ext cx="287280" cy="88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0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0" y="16"/>
                      </a:lnTo>
                      <a:lnTo>
                        <a:pt x="109" y="0"/>
                      </a:lnTo>
                      <a:lnTo>
                        <a:pt x="102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9360" y="3511440"/>
                  <a:ext cx="287280" cy="88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0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0" y="16"/>
                      </a:lnTo>
                      <a:lnTo>
                        <a:pt x="109" y="0"/>
                      </a:lnTo>
                      <a:lnTo>
                        <a:pt x="102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843440" y="364500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7" y="28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8" y="35"/>
                      </a:lnTo>
                      <a:lnTo>
                        <a:pt x="45" y="28"/>
                      </a:lnTo>
                      <a:lnTo>
                        <a:pt x="13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843440" y="364500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7" y="28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8" y="35"/>
                      </a:lnTo>
                      <a:lnTo>
                        <a:pt x="45" y="28"/>
                      </a:lnTo>
                      <a:lnTo>
                        <a:pt x="13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924440" y="3541680"/>
                  <a:ext cx="287280" cy="874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2"/>
                      </a:lnTo>
                      <a:lnTo>
                        <a:pt x="41" y="38"/>
                      </a:lnTo>
                      <a:lnTo>
                        <a:pt x="47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924440" y="3541680"/>
                  <a:ext cx="287280" cy="874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2"/>
                      </a:lnTo>
                      <a:lnTo>
                        <a:pt x="41" y="38"/>
                      </a:lnTo>
                      <a:lnTo>
                        <a:pt x="47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49920" y="3519360"/>
                <a:ext cx="672840" cy="214560"/>
                <a:chOff x="4849920" y="3519360"/>
                <a:chExt cx="672840" cy="214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5149800" y="362268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2" y="0"/>
                      </a:lnTo>
                      <a:lnTo>
                        <a:pt x="102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149800" y="362268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2" y="0"/>
                      </a:lnTo>
                      <a:lnTo>
                        <a:pt x="102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234040" y="3519360"/>
                  <a:ext cx="288720" cy="88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1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1" y="16"/>
                      </a:lnTo>
                      <a:lnTo>
                        <a:pt x="109" y="0"/>
                      </a:lnTo>
                      <a:lnTo>
                        <a:pt x="103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234040" y="3519360"/>
                  <a:ext cx="288720" cy="88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1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1" y="16"/>
                      </a:lnTo>
                      <a:lnTo>
                        <a:pt x="109" y="0"/>
                      </a:lnTo>
                      <a:lnTo>
                        <a:pt x="103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849920" y="365292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8" y="29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9" y="35"/>
                      </a:lnTo>
                      <a:lnTo>
                        <a:pt x="45" y="29"/>
                      </a:lnTo>
                      <a:lnTo>
                        <a:pt x="138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849920" y="365292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8" y="29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9" y="35"/>
                      </a:lnTo>
                      <a:lnTo>
                        <a:pt x="45" y="29"/>
                      </a:lnTo>
                      <a:lnTo>
                        <a:pt x="138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930920" y="3548160"/>
                  <a:ext cx="287280" cy="871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3"/>
                      </a:lnTo>
                      <a:lnTo>
                        <a:pt x="41" y="38"/>
                      </a:lnTo>
                      <a:lnTo>
                        <a:pt x="48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930920" y="3548160"/>
                  <a:ext cx="287280" cy="871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3"/>
                      </a:lnTo>
                      <a:lnTo>
                        <a:pt x="41" y="38"/>
                      </a:lnTo>
                      <a:lnTo>
                        <a:pt x="48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90" name=""/>
          <p:cNvSpPr/>
          <p:nvPr/>
        </p:nvSpPr>
        <p:spPr>
          <a:xfrm>
            <a:off x="4343400" y="1447920"/>
            <a:ext cx="1752480" cy="9144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733920" y="5715000"/>
            <a:ext cx="747720" cy="615960"/>
            <a:chOff x="3733920" y="5715000"/>
            <a:chExt cx="747720" cy="615960"/>
          </a:xfrm>
        </p:grpSpPr>
        <p:grpSp>
          <p:nvGrpSpPr>
            <p:cNvPr id="492" name=""/>
            <p:cNvGrpSpPr/>
            <p:nvPr/>
          </p:nvGrpSpPr>
          <p:grpSpPr>
            <a:xfrm>
              <a:off x="3733920" y="5715000"/>
              <a:ext cx="747720" cy="615960"/>
              <a:chOff x="3733920" y="5715000"/>
              <a:chExt cx="747720" cy="615960"/>
            </a:xfrm>
          </p:grpSpPr>
          <p:sp>
            <p:nvSpPr>
              <p:cNvPr id="493" name=""/>
              <p:cNvSpPr/>
              <p:nvPr/>
            </p:nvSpPr>
            <p:spPr>
              <a:xfrm>
                <a:off x="3733920" y="6129360"/>
                <a:ext cx="674640" cy="1126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735360" y="6130800"/>
                <a:ext cx="671400" cy="1098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33920" y="60660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33920" y="60660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209840" y="6180120"/>
                <a:ext cx="15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408560" y="6066000"/>
                <a:ext cx="71280" cy="176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08560" y="6066000"/>
                <a:ext cx="71280" cy="176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736800" y="622944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36800" y="622944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59160" y="6229440"/>
                <a:ext cx="74880" cy="1000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259160" y="6229440"/>
                <a:ext cx="74880" cy="1000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36800" y="6315120"/>
                <a:ext cx="520920" cy="158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38600" y="6316560"/>
                <a:ext cx="517320" cy="1296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8680" y="6066000"/>
                <a:ext cx="533160" cy="5220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38680" y="6066000"/>
                <a:ext cx="533160" cy="5220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32200" y="571500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32200" y="571500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33640" y="5762520"/>
                <a:ext cx="479520" cy="34308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876840" y="5805360"/>
                <a:ext cx="395280" cy="26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11720" y="57150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311720" y="57150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959280" y="5830920"/>
              <a:ext cx="255600" cy="214200"/>
              <a:chOff x="3959280" y="5830920"/>
              <a:chExt cx="255600" cy="21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3963960" y="5835600"/>
                <a:ext cx="230040" cy="2080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963960" y="5835600"/>
                <a:ext cx="230040" cy="2080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59280" y="5830920"/>
                <a:ext cx="34920" cy="46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60720" y="5832360"/>
                <a:ext cx="33480" cy="446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998880" y="5851440"/>
                <a:ext cx="1800" cy="14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998880" y="6002280"/>
                <a:ext cx="65160" cy="4284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00680" y="6002280"/>
                <a:ext cx="60120" cy="39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59280" y="5870520"/>
                <a:ext cx="38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48280" y="5870520"/>
                <a:ext cx="1440" cy="12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27320" y="603900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3989520" y="5830920"/>
                <a:ext cx="126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18040" y="5830920"/>
                <a:ext cx="33120" cy="460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18040" y="5832360"/>
                <a:ext cx="31680" cy="44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79960" y="6002280"/>
                <a:ext cx="34920" cy="42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</a:path>
                  <a:path stroke="0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79960" y="6002280"/>
                <a:ext cx="33120" cy="39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</a:path>
                  <a:path stroke="0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  <a:lnTo>
                      <a:pt x="0" y="10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57560" y="600084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27320" y="587052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27320" y="588960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27320" y="592452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27320" y="594684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27320" y="596736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27320" y="598644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92480" y="600084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3657600" y="4343400"/>
            <a:ext cx="909720" cy="600120"/>
            <a:chOff x="3657600" y="4343400"/>
            <a:chExt cx="909720" cy="600120"/>
          </a:xfrm>
        </p:grpSpPr>
        <p:grpSp>
          <p:nvGrpSpPr>
            <p:cNvPr id="539" name=""/>
            <p:cNvGrpSpPr/>
            <p:nvPr/>
          </p:nvGrpSpPr>
          <p:grpSpPr>
            <a:xfrm>
              <a:off x="3657600" y="4343400"/>
              <a:ext cx="909720" cy="600120"/>
              <a:chOff x="3657600" y="4343400"/>
              <a:chExt cx="909720" cy="600120"/>
            </a:xfrm>
          </p:grpSpPr>
          <p:sp>
            <p:nvSpPr>
              <p:cNvPr id="540" name=""/>
              <p:cNvSpPr/>
              <p:nvPr/>
            </p:nvSpPr>
            <p:spPr>
              <a:xfrm>
                <a:off x="3657600" y="4444920"/>
                <a:ext cx="825480" cy="4968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59040" y="4446720"/>
                <a:ext cx="820800" cy="49212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83080" y="4343400"/>
                <a:ext cx="84240" cy="600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44" h="259">
                    <a:moveTo>
                      <a:pt x="0" y="259"/>
                    </a:moveTo>
                    <a:lnTo>
                      <a:pt x="44" y="219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483080" y="4343400"/>
                <a:ext cx="84240" cy="600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44" h="259">
                    <a:moveTo>
                      <a:pt x="0" y="259"/>
                    </a:moveTo>
                    <a:lnTo>
                      <a:pt x="44" y="219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657600" y="4343400"/>
                <a:ext cx="909720" cy="10152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75" h="44">
                    <a:moveTo>
                      <a:pt x="431" y="44"/>
                    </a:moveTo>
                    <a:lnTo>
                      <a:pt x="475" y="0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431" y="44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57600" y="4343400"/>
                <a:ext cx="909720" cy="10152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75" h="44">
                    <a:moveTo>
                      <a:pt x="431" y="44"/>
                    </a:moveTo>
                    <a:lnTo>
                      <a:pt x="475" y="0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431" y="44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3911760" y="4500720"/>
              <a:ext cx="334800" cy="403200"/>
            </a:xfrm>
            <a:prstGeom prst="ellipse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06720" y="4491000"/>
              <a:ext cx="333360" cy="40500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3735360" y="4524480"/>
              <a:ext cx="674640" cy="345960"/>
              <a:chOff x="3735360" y="4524480"/>
              <a:chExt cx="674640" cy="34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3735360" y="474192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7"/>
                    </a:lnTo>
                    <a:lnTo>
                      <a:pt x="28" y="37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35360" y="474192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7"/>
                    </a:lnTo>
                    <a:lnTo>
                      <a:pt x="28" y="37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35360" y="452448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6"/>
                    </a:moveTo>
                    <a:lnTo>
                      <a:pt x="0" y="38"/>
                    </a:lnTo>
                    <a:lnTo>
                      <a:pt x="324" y="38"/>
                    </a:lnTo>
                    <a:lnTo>
                      <a:pt x="324" y="53"/>
                    </a:lnTo>
                    <a:lnTo>
                      <a:pt x="349" y="25"/>
                    </a:lnTo>
                    <a:lnTo>
                      <a:pt x="324" y="0"/>
                    </a:lnTo>
                    <a:lnTo>
                      <a:pt x="32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35360" y="452448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6"/>
                    </a:moveTo>
                    <a:lnTo>
                      <a:pt x="0" y="38"/>
                    </a:lnTo>
                    <a:lnTo>
                      <a:pt x="324" y="38"/>
                    </a:lnTo>
                    <a:lnTo>
                      <a:pt x="324" y="53"/>
                    </a:lnTo>
                    <a:lnTo>
                      <a:pt x="349" y="25"/>
                    </a:lnTo>
                    <a:lnTo>
                      <a:pt x="324" y="0"/>
                    </a:lnTo>
                    <a:lnTo>
                      <a:pt x="32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41840" y="4748040"/>
                <a:ext cx="668160" cy="122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8"/>
                    </a:lnTo>
                    <a:lnTo>
                      <a:pt x="28" y="38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741840" y="4748040"/>
                <a:ext cx="668160" cy="122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8"/>
                    </a:lnTo>
                    <a:lnTo>
                      <a:pt x="28" y="38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41840" y="4532400"/>
                <a:ext cx="668160" cy="12204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5"/>
                    </a:moveTo>
                    <a:lnTo>
                      <a:pt x="0" y="37"/>
                    </a:lnTo>
                    <a:lnTo>
                      <a:pt x="324" y="37"/>
                    </a:lnTo>
                    <a:lnTo>
                      <a:pt x="324" y="53"/>
                    </a:lnTo>
                    <a:lnTo>
                      <a:pt x="349" y="24"/>
                    </a:lnTo>
                    <a:lnTo>
                      <a:pt x="324" y="0"/>
                    </a:lnTo>
                    <a:lnTo>
                      <a:pt x="32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741840" y="4532400"/>
                <a:ext cx="668160" cy="12204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5"/>
                    </a:moveTo>
                    <a:lnTo>
                      <a:pt x="0" y="37"/>
                    </a:lnTo>
                    <a:lnTo>
                      <a:pt x="324" y="37"/>
                    </a:lnTo>
                    <a:lnTo>
                      <a:pt x="324" y="53"/>
                    </a:lnTo>
                    <a:lnTo>
                      <a:pt x="349" y="24"/>
                    </a:lnTo>
                    <a:lnTo>
                      <a:pt x="324" y="0"/>
                    </a:lnTo>
                    <a:lnTo>
                      <a:pt x="32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33520" y="2133720"/>
            <a:ext cx="2057400" cy="609480"/>
          </a:xfrm>
          <a:prstGeom prst="wedgeRoundRectCallout">
            <a:avLst>
              <a:gd name="adj1" fmla="val 114814"/>
              <a:gd name="adj2" fmla="val 2875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Monitoring Interf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5334120"/>
            <a:ext cx="1676160" cy="761760"/>
          </a:xfrm>
          <a:prstGeom prst="wedgeRoundRectCallout">
            <a:avLst>
              <a:gd name="adj1" fmla="val 154356"/>
              <a:gd name="adj2" fmla="val -8833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Command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Control Interf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/>
          <p:nvPr/>
        </p:nvSpPr>
        <p:spPr>
          <a:xfrm>
            <a:off x="7238880" y="4724280"/>
            <a:ext cx="1067040" cy="762120"/>
          </a:xfrm>
          <a:prstGeom prst="wedgeRoundRectCallout">
            <a:avLst>
              <a:gd name="adj1" fmla="val -88689"/>
              <a:gd name="adj2" fmla="val 38125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Protec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63237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/>
          <p:nvPr/>
        </p:nvSpPr>
        <p:spPr>
          <a:xfrm>
            <a:off x="2971800" y="4448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3579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/>
          <p:nvPr/>
        </p:nvSpPr>
        <p:spPr>
          <a:xfrm>
            <a:off x="5638680" y="2697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/>
          <p:nvPr/>
        </p:nvSpPr>
        <p:spPr>
          <a:xfrm>
            <a:off x="5638680" y="4448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/>
          <p:nvPr/>
        </p:nvSpPr>
        <p:spPr>
          <a:xfrm>
            <a:off x="4648320" y="16765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trusted  Ne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876920" y="2666880"/>
            <a:ext cx="758880" cy="463680"/>
            <a:chOff x="4876920" y="2666880"/>
            <a:chExt cx="758880" cy="463680"/>
          </a:xfrm>
        </p:grpSpPr>
        <p:sp>
          <p:nvSpPr>
            <p:cNvPr id="567" name=""/>
            <p:cNvSpPr/>
            <p:nvPr/>
          </p:nvSpPr>
          <p:spPr>
            <a:xfrm>
              <a:off x="4878360" y="2859120"/>
              <a:ext cx="757440" cy="27144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76920" y="2805120"/>
              <a:ext cx="75564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2805120"/>
              <a:ext cx="75564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78360" y="2666880"/>
              <a:ext cx="757440" cy="27144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992840" y="2698920"/>
              <a:ext cx="522000" cy="206280"/>
              <a:chOff x="4992840" y="2698920"/>
              <a:chExt cx="522000" cy="20628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4992840" y="2698920"/>
                <a:ext cx="519120" cy="201600"/>
                <a:chOff x="4992840" y="2698920"/>
                <a:chExt cx="519120" cy="2016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262480" y="2703600"/>
                  <a:ext cx="249480" cy="871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262480" y="2703600"/>
                  <a:ext cx="249480" cy="871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992840" y="2803680"/>
                  <a:ext cx="247320" cy="9180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92840" y="2803680"/>
                  <a:ext cx="247320" cy="9180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005440" y="2698920"/>
                  <a:ext cx="249120" cy="871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005440" y="2698920"/>
                  <a:ext cx="249120" cy="871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54560" y="2814480"/>
                  <a:ext cx="247680" cy="86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6040"/>
                    <a:gd name="textAreaBottom" fmla="*/ 86040 h 8604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254560" y="2814480"/>
                  <a:ext cx="247680" cy="86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6040"/>
                    <a:gd name="textAreaBottom" fmla="*/ 86040 h 8604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997520" y="2703600"/>
                <a:ext cx="517320" cy="201600"/>
                <a:chOff x="4997520" y="2703600"/>
                <a:chExt cx="517320" cy="2016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267160" y="270828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267160" y="2708280"/>
                  <a:ext cx="247680" cy="85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997520" y="2808360"/>
                  <a:ext cx="247680" cy="903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997520" y="2808360"/>
                  <a:ext cx="247680" cy="903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010120" y="2703600"/>
                  <a:ext cx="247680" cy="871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010120" y="2703600"/>
                  <a:ext cx="247680" cy="871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257800" y="2817720"/>
                  <a:ext cx="249120" cy="8748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257800" y="2817720"/>
                  <a:ext cx="249120" cy="8748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90" name=""/>
            <p:cNvSpPr/>
            <p:nvPr/>
          </p:nvSpPr>
          <p:spPr>
            <a:xfrm>
              <a:off x="4876920" y="2798640"/>
              <a:ext cx="1440" cy="19224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32560" y="2798640"/>
              <a:ext cx="1440" cy="19224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AC5EFD-5B21-4694-9C7E-060C131F6F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64771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alibri"/>
              </a:rPr>
              <a:t>Promiscuous-Mode Protection: 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1752480"/>
            <a:ext cx="3429000" cy="609840"/>
          </a:xfrm>
          <a:prstGeom prst="wedgeRoundRectCallout">
            <a:avLst>
              <a:gd name="adj1" fmla="val 64537"/>
              <a:gd name="adj2" fmla="val 24948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no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 network device sends cop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of packets to the sensor for analysi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533520" y="3048120"/>
            <a:ext cx="3124080" cy="609480"/>
          </a:xfrm>
          <a:prstGeom prst="wedgeRoundRectCallout">
            <a:avLst>
              <a:gd name="adj1" fmla="val 71240"/>
              <a:gd name="adj2" fmla="val 23125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If the traffic matches a signatur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the signature fir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4724280"/>
            <a:ext cx="2971800" cy="1219320"/>
          </a:xfrm>
          <a:prstGeom prst="wedgeRoundRectCallout">
            <a:avLst>
              <a:gd name="adj1" fmla="val 73449"/>
              <a:gd name="adj2" fmla="val 44662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The sensor can send an alar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to a management console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take a response action such 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resetting the connec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1905120"/>
            <a:ext cx="1143000" cy="14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3733920"/>
            <a:ext cx="1143000" cy="1440"/>
          </a:xfrm>
          <a:prstGeom prst="line">
            <a:avLst/>
          </a:prstGeom>
          <a:ln w="50760">
            <a:solidFill>
              <a:srgbClr val="33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6019920" y="4800600"/>
            <a:ext cx="1440" cy="10666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/>
          <p:nvPr/>
        </p:nvSpPr>
        <p:spPr>
          <a:xfrm>
            <a:off x="6019920" y="3962520"/>
            <a:ext cx="1440" cy="12952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/>
          <p:nvPr/>
        </p:nvSpPr>
        <p:spPr>
          <a:xfrm>
            <a:off x="4038480" y="5715000"/>
            <a:ext cx="350532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5257800"/>
            <a:ext cx="1440" cy="70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057400"/>
            <a:ext cx="1440" cy="1676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3886200"/>
            <a:ext cx="1017720" cy="1440"/>
          </a:xfrm>
          <a:prstGeom prst="line">
            <a:avLst/>
          </a:prstGeom>
          <a:ln w="507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/>
          <p:nvPr/>
        </p:nvSpPr>
        <p:spPr>
          <a:xfrm>
            <a:off x="4964040" y="5037120"/>
            <a:ext cx="1800" cy="1143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3886200"/>
            <a:ext cx="1800" cy="990720"/>
          </a:xfrm>
          <a:prstGeom prst="line">
            <a:avLst/>
          </a:prstGeom>
          <a:ln w="507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/>
          <p:nvPr/>
        </p:nvSpPr>
        <p:spPr>
          <a:xfrm>
            <a:off x="6173640" y="1600200"/>
            <a:ext cx="1800" cy="1000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/>
          <p:nvPr/>
        </p:nvSpPr>
        <p:spPr>
          <a:xfrm>
            <a:off x="6173640" y="3521160"/>
            <a:ext cx="1800" cy="28605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173640" y="2487600"/>
            <a:ext cx="1800" cy="1085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15000" y="2584440"/>
            <a:ext cx="878040" cy="614520"/>
            <a:chOff x="5715000" y="2584440"/>
            <a:chExt cx="878040" cy="614520"/>
          </a:xfrm>
        </p:grpSpPr>
        <p:sp>
          <p:nvSpPr>
            <p:cNvPr id="612" name=""/>
            <p:cNvSpPr/>
            <p:nvPr/>
          </p:nvSpPr>
          <p:spPr>
            <a:xfrm>
              <a:off x="5716440" y="2838600"/>
              <a:ext cx="876600" cy="36036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15000" y="2766960"/>
              <a:ext cx="87624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5000" y="2766960"/>
              <a:ext cx="87624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16440" y="2584440"/>
              <a:ext cx="876600" cy="36036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848200" y="2625840"/>
              <a:ext cx="608040" cy="276120"/>
              <a:chOff x="5848200" y="2625840"/>
              <a:chExt cx="608040" cy="27612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5848200" y="2625840"/>
                <a:ext cx="603360" cy="268200"/>
                <a:chOff x="5848200" y="2625840"/>
                <a:chExt cx="603360" cy="2682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6162840" y="2633760"/>
                  <a:ext cx="288720" cy="1141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4120"/>
                    <a:gd name="textAreaBottom" fmla="*/ 114120 h 114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162840" y="2633760"/>
                  <a:ext cx="288720" cy="1141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4120"/>
                    <a:gd name="textAreaBottom" fmla="*/ 114120 h 114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848200" y="2766960"/>
                  <a:ext cx="287640" cy="1224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848200" y="2766960"/>
                  <a:ext cx="287640" cy="1224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864400" y="26258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864400" y="26258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153120" y="278136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153120" y="278136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854680" y="2633760"/>
                <a:ext cx="601560" cy="268200"/>
                <a:chOff x="5854680" y="2633760"/>
                <a:chExt cx="601560" cy="26820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6168960" y="263988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168960" y="263988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854680" y="2773440"/>
                  <a:ext cx="287280" cy="1206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854680" y="2773440"/>
                  <a:ext cx="287280" cy="1206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870520" y="263376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870520" y="263376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156360" y="27860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56360" y="27860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35" name=""/>
            <p:cNvSpPr/>
            <p:nvPr/>
          </p:nvSpPr>
          <p:spPr>
            <a:xfrm>
              <a:off x="5715000" y="2760840"/>
              <a:ext cx="144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91240" y="2760840"/>
              <a:ext cx="180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746680" y="4727520"/>
            <a:ext cx="878040" cy="614520"/>
            <a:chOff x="5746680" y="4727520"/>
            <a:chExt cx="878040" cy="614520"/>
          </a:xfrm>
        </p:grpSpPr>
        <p:sp>
          <p:nvSpPr>
            <p:cNvPr id="638" name=""/>
            <p:cNvSpPr/>
            <p:nvPr/>
          </p:nvSpPr>
          <p:spPr>
            <a:xfrm>
              <a:off x="5748480" y="4981680"/>
              <a:ext cx="876240" cy="36036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46680" y="4910040"/>
              <a:ext cx="87624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46680" y="4910040"/>
              <a:ext cx="87624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48480" y="4727520"/>
              <a:ext cx="876240" cy="36036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5880240" y="4768920"/>
              <a:ext cx="606240" cy="274680"/>
              <a:chOff x="5880240" y="4768920"/>
              <a:chExt cx="606240" cy="27468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5880240" y="4768920"/>
                <a:ext cx="603000" cy="268200"/>
                <a:chOff x="5880240" y="4768920"/>
                <a:chExt cx="603000" cy="2682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6194520" y="47750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194520" y="47750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880240" y="4910040"/>
                  <a:ext cx="287280" cy="122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880240" y="4910040"/>
                  <a:ext cx="287280" cy="122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896080" y="476892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96080" y="476892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184800" y="492444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184800" y="492444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5886360" y="4775040"/>
                <a:ext cx="600120" cy="268560"/>
                <a:chOff x="5886360" y="4775040"/>
                <a:chExt cx="600120" cy="2685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6199200" y="478152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199200" y="478152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886360" y="4916520"/>
                  <a:ext cx="287280" cy="1206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886360" y="4916520"/>
                  <a:ext cx="287280" cy="1206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900760" y="477504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900760" y="477504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188040" y="492768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188040" y="492768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61" name=""/>
            <p:cNvSpPr/>
            <p:nvPr/>
          </p:nvSpPr>
          <p:spPr>
            <a:xfrm>
              <a:off x="5746680" y="4903920"/>
              <a:ext cx="180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22920" y="4903920"/>
              <a:ext cx="180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805360" y="5935680"/>
            <a:ext cx="747720" cy="615960"/>
            <a:chOff x="5805360" y="5935680"/>
            <a:chExt cx="747720" cy="615960"/>
          </a:xfrm>
        </p:grpSpPr>
        <p:grpSp>
          <p:nvGrpSpPr>
            <p:cNvPr id="664" name=""/>
            <p:cNvGrpSpPr/>
            <p:nvPr/>
          </p:nvGrpSpPr>
          <p:grpSpPr>
            <a:xfrm>
              <a:off x="5805360" y="5935680"/>
              <a:ext cx="747720" cy="615960"/>
              <a:chOff x="5805360" y="5935680"/>
              <a:chExt cx="747720" cy="615960"/>
            </a:xfrm>
          </p:grpSpPr>
          <p:sp>
            <p:nvSpPr>
              <p:cNvPr id="665" name=""/>
              <p:cNvSpPr/>
              <p:nvPr/>
            </p:nvSpPr>
            <p:spPr>
              <a:xfrm>
                <a:off x="5805360" y="6350040"/>
                <a:ext cx="674640" cy="1126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07160" y="6351480"/>
                <a:ext cx="671400" cy="1098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05360" y="6286680"/>
                <a:ext cx="747720" cy="615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560"/>
                  <a:gd name="textAreaBottom" fmla="*/ 61560 h 6156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05360" y="6286680"/>
                <a:ext cx="747720" cy="615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560"/>
                  <a:gd name="textAreaBottom" fmla="*/ 61560 h 6156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6281280" y="6400800"/>
                <a:ext cx="15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480000" y="6286680"/>
                <a:ext cx="71640" cy="176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80000" y="6286680"/>
                <a:ext cx="71640" cy="176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08600" y="645012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8600" y="645012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30960" y="6450120"/>
                <a:ext cx="74520" cy="1000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330960" y="6450120"/>
                <a:ext cx="74520" cy="1000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08600" y="6535800"/>
                <a:ext cx="520920" cy="158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10400" y="6537240"/>
                <a:ext cx="517320" cy="1296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10120" y="6286680"/>
                <a:ext cx="533520" cy="5220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10120" y="6286680"/>
                <a:ext cx="533520" cy="5220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04000" y="5935680"/>
                <a:ext cx="533160" cy="4608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04000" y="5935680"/>
                <a:ext cx="533160" cy="4608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05440" y="5983200"/>
                <a:ext cx="479520" cy="34308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46840" y="6026040"/>
                <a:ext cx="395280" cy="26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81720" y="593568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381720" y="593568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031080" y="6051600"/>
              <a:ext cx="255600" cy="214200"/>
              <a:chOff x="6031080" y="6051600"/>
              <a:chExt cx="255600" cy="214200"/>
            </a:xfrm>
          </p:grpSpPr>
          <p:sp>
            <p:nvSpPr>
              <p:cNvPr id="687" name=""/>
              <p:cNvSpPr/>
              <p:nvPr/>
            </p:nvSpPr>
            <p:spPr>
              <a:xfrm>
                <a:off x="6033960" y="6056280"/>
                <a:ext cx="230400" cy="2080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033960" y="6056280"/>
                <a:ext cx="230400" cy="2080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031080" y="6051600"/>
                <a:ext cx="34920" cy="46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32520" y="6053040"/>
                <a:ext cx="33480" cy="446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6068880" y="6072120"/>
                <a:ext cx="1800" cy="14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068880" y="6222960"/>
                <a:ext cx="65160" cy="4284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72120" y="6222960"/>
                <a:ext cx="60480" cy="39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31080" y="6091200"/>
                <a:ext cx="37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19720" y="6091200"/>
                <a:ext cx="1800" cy="12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99120" y="625968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059160" y="6051600"/>
                <a:ext cx="127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89840" y="6051600"/>
                <a:ext cx="33120" cy="460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89840" y="6053040"/>
                <a:ext cx="31680" cy="44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51400" y="6222960"/>
                <a:ext cx="35280" cy="428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</a:path>
                  <a:path stroke="0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251400" y="6222960"/>
                <a:ext cx="33480" cy="39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</a:path>
                  <a:path stroke="0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  <a:lnTo>
                      <a:pt x="0" y="10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129360" y="622152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9120" y="609120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99120" y="611028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99120" y="614520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99120" y="616752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99120" y="618804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99120" y="620712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164280" y="622152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0" name=""/>
          <p:cNvGrpSpPr/>
          <p:nvPr/>
        </p:nvGrpSpPr>
        <p:grpSpPr>
          <a:xfrm>
            <a:off x="5661000" y="3664080"/>
            <a:ext cx="879480" cy="450720"/>
            <a:chOff x="5661000" y="3664080"/>
            <a:chExt cx="879480" cy="450720"/>
          </a:xfrm>
        </p:grpSpPr>
        <p:grpSp>
          <p:nvGrpSpPr>
            <p:cNvPr id="711" name=""/>
            <p:cNvGrpSpPr/>
            <p:nvPr/>
          </p:nvGrpSpPr>
          <p:grpSpPr>
            <a:xfrm>
              <a:off x="5661000" y="3664080"/>
              <a:ext cx="879480" cy="450720"/>
              <a:chOff x="5661000" y="3664080"/>
              <a:chExt cx="879480" cy="450720"/>
            </a:xfrm>
          </p:grpSpPr>
          <p:sp>
            <p:nvSpPr>
              <p:cNvPr id="712" name=""/>
              <p:cNvSpPr/>
              <p:nvPr/>
            </p:nvSpPr>
            <p:spPr>
              <a:xfrm>
                <a:off x="5661000" y="3906720"/>
                <a:ext cx="671400" cy="208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662440" y="3908520"/>
                <a:ext cx="668520" cy="20304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332400" y="3664080"/>
                <a:ext cx="208080" cy="4492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09" h="195">
                    <a:moveTo>
                      <a:pt x="0" y="105"/>
                    </a:moveTo>
                    <a:lnTo>
                      <a:pt x="109" y="0"/>
                    </a:lnTo>
                    <a:lnTo>
                      <a:pt x="109" y="89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332400" y="3664080"/>
                <a:ext cx="208080" cy="4492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09" h="195">
                    <a:moveTo>
                      <a:pt x="0" y="105"/>
                    </a:moveTo>
                    <a:lnTo>
                      <a:pt x="109" y="0"/>
                    </a:lnTo>
                    <a:lnTo>
                      <a:pt x="109" y="89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661000" y="3664080"/>
                <a:ext cx="879480" cy="24264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460" h="105">
                    <a:moveTo>
                      <a:pt x="351" y="105"/>
                    </a:moveTo>
                    <a:lnTo>
                      <a:pt x="460" y="0"/>
                    </a:lnTo>
                    <a:lnTo>
                      <a:pt x="109" y="0"/>
                    </a:lnTo>
                    <a:lnTo>
                      <a:pt x="0" y="105"/>
                    </a:lnTo>
                    <a:lnTo>
                      <a:pt x="351" y="105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61000" y="3664080"/>
                <a:ext cx="879480" cy="24264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460" h="105">
                    <a:moveTo>
                      <a:pt x="351" y="105"/>
                    </a:moveTo>
                    <a:lnTo>
                      <a:pt x="460" y="0"/>
                    </a:lnTo>
                    <a:lnTo>
                      <a:pt x="109" y="0"/>
                    </a:lnTo>
                    <a:lnTo>
                      <a:pt x="0" y="105"/>
                    </a:lnTo>
                    <a:lnTo>
                      <a:pt x="351" y="105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757840" y="3670200"/>
              <a:ext cx="679320" cy="222480"/>
              <a:chOff x="5757840" y="3670200"/>
              <a:chExt cx="679320" cy="22248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5757840" y="3670200"/>
                <a:ext cx="673200" cy="214560"/>
                <a:chOff x="5757840" y="3670200"/>
                <a:chExt cx="673200" cy="21456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6059520" y="377352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2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1" y="0"/>
                      </a:lnTo>
                      <a:lnTo>
                        <a:pt x="102" y="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059520" y="377352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2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1" y="0"/>
                      </a:lnTo>
                      <a:lnTo>
                        <a:pt x="102" y="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143760" y="3670200"/>
                  <a:ext cx="287280" cy="88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0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0" y="16"/>
                      </a:lnTo>
                      <a:lnTo>
                        <a:pt x="109" y="0"/>
                      </a:lnTo>
                      <a:lnTo>
                        <a:pt x="102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143760" y="3670200"/>
                  <a:ext cx="287280" cy="88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0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0" y="16"/>
                      </a:lnTo>
                      <a:lnTo>
                        <a:pt x="109" y="0"/>
                      </a:lnTo>
                      <a:lnTo>
                        <a:pt x="102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57840" y="380376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7" y="28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8" y="35"/>
                      </a:lnTo>
                      <a:lnTo>
                        <a:pt x="45" y="28"/>
                      </a:lnTo>
                      <a:lnTo>
                        <a:pt x="13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757840" y="380376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7" y="28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8" y="35"/>
                      </a:lnTo>
                      <a:lnTo>
                        <a:pt x="45" y="28"/>
                      </a:lnTo>
                      <a:lnTo>
                        <a:pt x="13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838840" y="3700440"/>
                  <a:ext cx="287280" cy="874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2"/>
                      </a:lnTo>
                      <a:lnTo>
                        <a:pt x="41" y="38"/>
                      </a:lnTo>
                      <a:lnTo>
                        <a:pt x="47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838840" y="3700440"/>
                  <a:ext cx="287280" cy="874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2"/>
                      </a:lnTo>
                      <a:lnTo>
                        <a:pt x="41" y="38"/>
                      </a:lnTo>
                      <a:lnTo>
                        <a:pt x="47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5764320" y="3678120"/>
                <a:ext cx="672840" cy="214560"/>
                <a:chOff x="5764320" y="3678120"/>
                <a:chExt cx="672840" cy="21456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064200" y="378144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2" y="0"/>
                      </a:lnTo>
                      <a:lnTo>
                        <a:pt x="102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064200" y="378144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" y="6"/>
                      </a:moveTo>
                      <a:lnTo>
                        <a:pt x="0" y="19"/>
                      </a:lnTo>
                      <a:lnTo>
                        <a:pt x="89" y="19"/>
                      </a:lnTo>
                      <a:lnTo>
                        <a:pt x="76" y="35"/>
                      </a:lnTo>
                      <a:lnTo>
                        <a:pt x="150" y="16"/>
                      </a:lnTo>
                      <a:lnTo>
                        <a:pt x="112" y="0"/>
                      </a:lnTo>
                      <a:lnTo>
                        <a:pt x="102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148440" y="3678120"/>
                  <a:ext cx="288720" cy="88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1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1" y="16"/>
                      </a:lnTo>
                      <a:lnTo>
                        <a:pt x="109" y="0"/>
                      </a:lnTo>
                      <a:lnTo>
                        <a:pt x="103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148440" y="3678120"/>
                  <a:ext cx="288720" cy="88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151" h="39">
                      <a:moveTo>
                        <a:pt x="13" y="10"/>
                      </a:moveTo>
                      <a:lnTo>
                        <a:pt x="0" y="23"/>
                      </a:lnTo>
                      <a:lnTo>
                        <a:pt x="90" y="23"/>
                      </a:lnTo>
                      <a:lnTo>
                        <a:pt x="74" y="39"/>
                      </a:lnTo>
                      <a:lnTo>
                        <a:pt x="151" y="16"/>
                      </a:lnTo>
                      <a:lnTo>
                        <a:pt x="109" y="0"/>
                      </a:lnTo>
                      <a:lnTo>
                        <a:pt x="103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764320" y="381168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8" y="29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9" y="35"/>
                      </a:lnTo>
                      <a:lnTo>
                        <a:pt x="45" y="29"/>
                      </a:lnTo>
                      <a:lnTo>
                        <a:pt x="138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764320" y="3811680"/>
                  <a:ext cx="287280" cy="81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50" h="35">
                      <a:moveTo>
                        <a:pt x="138" y="29"/>
                      </a:moveTo>
                      <a:lnTo>
                        <a:pt x="150" y="16"/>
                      </a:lnTo>
                      <a:lnTo>
                        <a:pt x="58" y="16"/>
                      </a:lnTo>
                      <a:lnTo>
                        <a:pt x="74" y="0"/>
                      </a:lnTo>
                      <a:lnTo>
                        <a:pt x="0" y="19"/>
                      </a:lnTo>
                      <a:lnTo>
                        <a:pt x="39" y="35"/>
                      </a:lnTo>
                      <a:lnTo>
                        <a:pt x="45" y="29"/>
                      </a:lnTo>
                      <a:lnTo>
                        <a:pt x="138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845320" y="3706920"/>
                  <a:ext cx="287280" cy="871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3"/>
                      </a:lnTo>
                      <a:lnTo>
                        <a:pt x="41" y="38"/>
                      </a:lnTo>
                      <a:lnTo>
                        <a:pt x="48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845320" y="3706920"/>
                  <a:ext cx="287280" cy="871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150" h="38">
                      <a:moveTo>
                        <a:pt x="137" y="29"/>
                      </a:moveTo>
                      <a:lnTo>
                        <a:pt x="150" y="16"/>
                      </a:lnTo>
                      <a:lnTo>
                        <a:pt x="60" y="16"/>
                      </a:lnTo>
                      <a:lnTo>
                        <a:pt x="76" y="0"/>
                      </a:lnTo>
                      <a:lnTo>
                        <a:pt x="0" y="23"/>
                      </a:lnTo>
                      <a:lnTo>
                        <a:pt x="41" y="38"/>
                      </a:lnTo>
                      <a:lnTo>
                        <a:pt x="48" y="29"/>
                      </a:lnTo>
                      <a:lnTo>
                        <a:pt x="137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37" name=""/>
          <p:cNvSpPr/>
          <p:nvPr/>
        </p:nvSpPr>
        <p:spPr>
          <a:xfrm>
            <a:off x="5562720" y="144792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4648320" y="5943600"/>
            <a:ext cx="747720" cy="615960"/>
            <a:chOff x="4648320" y="5943600"/>
            <a:chExt cx="747720" cy="615960"/>
          </a:xfrm>
        </p:grpSpPr>
        <p:grpSp>
          <p:nvGrpSpPr>
            <p:cNvPr id="739" name=""/>
            <p:cNvGrpSpPr/>
            <p:nvPr/>
          </p:nvGrpSpPr>
          <p:grpSpPr>
            <a:xfrm>
              <a:off x="4648320" y="5943600"/>
              <a:ext cx="747720" cy="615960"/>
              <a:chOff x="4648320" y="5943600"/>
              <a:chExt cx="747720" cy="615960"/>
            </a:xfrm>
          </p:grpSpPr>
          <p:sp>
            <p:nvSpPr>
              <p:cNvPr id="740" name=""/>
              <p:cNvSpPr/>
              <p:nvPr/>
            </p:nvSpPr>
            <p:spPr>
              <a:xfrm>
                <a:off x="4648320" y="6357960"/>
                <a:ext cx="674640" cy="1126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649760" y="6359400"/>
                <a:ext cx="671400" cy="1098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648320" y="62946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48320" y="62946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5124240" y="6408720"/>
                <a:ext cx="15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322960" y="6294600"/>
                <a:ext cx="71280" cy="176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322960" y="6294600"/>
                <a:ext cx="71280" cy="176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651200" y="645804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651200" y="6458040"/>
                <a:ext cx="595440" cy="856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173560" y="6458040"/>
                <a:ext cx="74880" cy="1000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73560" y="6458040"/>
                <a:ext cx="74880" cy="1000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51200" y="6543720"/>
                <a:ext cx="520920" cy="158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653000" y="6545160"/>
                <a:ext cx="517320" cy="1296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53080" y="6294600"/>
                <a:ext cx="533160" cy="5220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753080" y="6294600"/>
                <a:ext cx="533160" cy="5220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46600" y="594360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46600" y="594360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748040" y="5991120"/>
                <a:ext cx="479520" cy="34308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791240" y="6033960"/>
                <a:ext cx="395280" cy="26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26120" y="59436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26120" y="59436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4873680" y="6059520"/>
              <a:ext cx="255600" cy="214200"/>
              <a:chOff x="4873680" y="6059520"/>
              <a:chExt cx="255600" cy="214200"/>
            </a:xfrm>
          </p:grpSpPr>
          <p:sp>
            <p:nvSpPr>
              <p:cNvPr id="762" name=""/>
              <p:cNvSpPr/>
              <p:nvPr/>
            </p:nvSpPr>
            <p:spPr>
              <a:xfrm>
                <a:off x="4878360" y="6064200"/>
                <a:ext cx="230040" cy="2080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878360" y="6064200"/>
                <a:ext cx="230040" cy="2080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873680" y="6059520"/>
                <a:ext cx="34920" cy="46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75120" y="6060960"/>
                <a:ext cx="33480" cy="446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4913280" y="6080040"/>
                <a:ext cx="1800" cy="14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913280" y="6230880"/>
                <a:ext cx="65160" cy="4284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15080" y="6230880"/>
                <a:ext cx="60120" cy="39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873680" y="6099120"/>
                <a:ext cx="38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62680" y="6099120"/>
                <a:ext cx="1440" cy="12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41720" y="626760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903920" y="6059520"/>
                <a:ext cx="126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32440" y="6059520"/>
                <a:ext cx="33120" cy="460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32440" y="6060960"/>
                <a:ext cx="31680" cy="44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94360" y="6230880"/>
                <a:ext cx="34920" cy="42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</a:path>
                  <a:path stroke="0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94360" y="6230880"/>
                <a:ext cx="33120" cy="39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</a:path>
                  <a:path stroke="0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  <a:lnTo>
                      <a:pt x="0" y="10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971960" y="622944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941720" y="609912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941720" y="611820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941720" y="615312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941720" y="617544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941720" y="619596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941720" y="621504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06880" y="622944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"/>
          <p:cNvSpPr/>
          <p:nvPr/>
        </p:nvSpPr>
        <p:spPr>
          <a:xfrm>
            <a:off x="6588720" y="60199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/>
          <p:nvPr/>
        </p:nvSpPr>
        <p:spPr>
          <a:xfrm>
            <a:off x="3657600" y="6005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572000" y="4702320"/>
            <a:ext cx="909720" cy="598320"/>
            <a:chOff x="4572000" y="4702320"/>
            <a:chExt cx="909720" cy="598320"/>
          </a:xfrm>
        </p:grpSpPr>
        <p:grpSp>
          <p:nvGrpSpPr>
            <p:cNvPr id="788" name=""/>
            <p:cNvGrpSpPr/>
            <p:nvPr/>
          </p:nvGrpSpPr>
          <p:grpSpPr>
            <a:xfrm>
              <a:off x="4572000" y="4702320"/>
              <a:ext cx="909720" cy="598320"/>
              <a:chOff x="4572000" y="4702320"/>
              <a:chExt cx="909720" cy="598320"/>
            </a:xfrm>
          </p:grpSpPr>
          <p:sp>
            <p:nvSpPr>
              <p:cNvPr id="789" name=""/>
              <p:cNvSpPr/>
              <p:nvPr/>
            </p:nvSpPr>
            <p:spPr>
              <a:xfrm>
                <a:off x="4572000" y="4803840"/>
                <a:ext cx="825480" cy="4968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573440" y="4805280"/>
                <a:ext cx="820800" cy="49212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397480" y="4702320"/>
                <a:ext cx="84240" cy="5983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8320"/>
                  <a:gd name="textAreaBottom" fmla="*/ 598680 h 598320"/>
                </a:gdLst>
                <a:ahLst/>
                <a:rect l="textAreaLeft" t="textAreaTop" r="textAreaRight" b="textAreaBottom"/>
                <a:pathLst>
                  <a:path w="44" h="259">
                    <a:moveTo>
                      <a:pt x="0" y="259"/>
                    </a:moveTo>
                    <a:lnTo>
                      <a:pt x="44" y="219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397480" y="4702320"/>
                <a:ext cx="84240" cy="5983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598320"/>
                  <a:gd name="textAreaBottom" fmla="*/ 598680 h 598320"/>
                </a:gdLst>
                <a:ahLst/>
                <a:rect l="textAreaLeft" t="textAreaTop" r="textAreaRight" b="textAreaBottom"/>
                <a:pathLst>
                  <a:path w="44" h="259">
                    <a:moveTo>
                      <a:pt x="0" y="259"/>
                    </a:moveTo>
                    <a:lnTo>
                      <a:pt x="44" y="219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72000" y="4702320"/>
                <a:ext cx="909720" cy="10152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75" h="44">
                    <a:moveTo>
                      <a:pt x="431" y="44"/>
                    </a:moveTo>
                    <a:lnTo>
                      <a:pt x="475" y="0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431" y="44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572000" y="4702320"/>
                <a:ext cx="909720" cy="10152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75" h="44">
                    <a:moveTo>
                      <a:pt x="431" y="44"/>
                    </a:moveTo>
                    <a:lnTo>
                      <a:pt x="475" y="0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431" y="44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4826160" y="4859280"/>
              <a:ext cx="334800" cy="403200"/>
            </a:xfrm>
            <a:prstGeom prst="ellipse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21120" y="4849920"/>
              <a:ext cx="333360" cy="40464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4649760" y="4883040"/>
              <a:ext cx="674640" cy="346320"/>
              <a:chOff x="4649760" y="4883040"/>
              <a:chExt cx="674640" cy="346320"/>
            </a:xfrm>
          </p:grpSpPr>
          <p:sp>
            <p:nvSpPr>
              <p:cNvPr id="798" name=""/>
              <p:cNvSpPr/>
              <p:nvPr/>
            </p:nvSpPr>
            <p:spPr>
              <a:xfrm>
                <a:off x="4649760" y="509904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7"/>
                    </a:lnTo>
                    <a:lnTo>
                      <a:pt x="28" y="37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649760" y="509904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7"/>
                    </a:lnTo>
                    <a:lnTo>
                      <a:pt x="28" y="37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649760" y="488304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6"/>
                    </a:moveTo>
                    <a:lnTo>
                      <a:pt x="0" y="38"/>
                    </a:lnTo>
                    <a:lnTo>
                      <a:pt x="324" y="38"/>
                    </a:lnTo>
                    <a:lnTo>
                      <a:pt x="324" y="53"/>
                    </a:lnTo>
                    <a:lnTo>
                      <a:pt x="349" y="25"/>
                    </a:lnTo>
                    <a:lnTo>
                      <a:pt x="324" y="0"/>
                    </a:lnTo>
                    <a:lnTo>
                      <a:pt x="32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49760" y="488304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6"/>
                    </a:moveTo>
                    <a:lnTo>
                      <a:pt x="0" y="38"/>
                    </a:lnTo>
                    <a:lnTo>
                      <a:pt x="324" y="38"/>
                    </a:lnTo>
                    <a:lnTo>
                      <a:pt x="324" y="53"/>
                    </a:lnTo>
                    <a:lnTo>
                      <a:pt x="349" y="25"/>
                    </a:lnTo>
                    <a:lnTo>
                      <a:pt x="324" y="0"/>
                    </a:lnTo>
                    <a:lnTo>
                      <a:pt x="32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56240" y="5106960"/>
                <a:ext cx="668160" cy="122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8"/>
                    </a:lnTo>
                    <a:lnTo>
                      <a:pt x="28" y="38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56240" y="5106960"/>
                <a:ext cx="668160" cy="122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8"/>
                    </a:lnTo>
                    <a:lnTo>
                      <a:pt x="28" y="38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56240" y="4890960"/>
                <a:ext cx="668160" cy="122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5"/>
                    </a:moveTo>
                    <a:lnTo>
                      <a:pt x="0" y="37"/>
                    </a:lnTo>
                    <a:lnTo>
                      <a:pt x="324" y="37"/>
                    </a:lnTo>
                    <a:lnTo>
                      <a:pt x="324" y="53"/>
                    </a:lnTo>
                    <a:lnTo>
                      <a:pt x="349" y="24"/>
                    </a:lnTo>
                    <a:lnTo>
                      <a:pt x="324" y="0"/>
                    </a:lnTo>
                    <a:lnTo>
                      <a:pt x="32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56240" y="4890960"/>
                <a:ext cx="668160" cy="122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5"/>
                    </a:moveTo>
                    <a:lnTo>
                      <a:pt x="0" y="37"/>
                    </a:lnTo>
                    <a:lnTo>
                      <a:pt x="324" y="37"/>
                    </a:lnTo>
                    <a:lnTo>
                      <a:pt x="324" y="53"/>
                    </a:lnTo>
                    <a:lnTo>
                      <a:pt x="349" y="24"/>
                    </a:lnTo>
                    <a:lnTo>
                      <a:pt x="324" y="0"/>
                    </a:lnTo>
                    <a:lnTo>
                      <a:pt x="32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4038480" y="4724280"/>
            <a:ext cx="919440" cy="625680"/>
            <a:chOff x="4038480" y="4724280"/>
            <a:chExt cx="919440" cy="625680"/>
          </a:xfrm>
        </p:grpSpPr>
        <p:pic>
          <p:nvPicPr>
            <p:cNvPr id="807" name="" descr=""/>
            <p:cNvPicPr/>
            <p:nvPr/>
          </p:nvPicPr>
          <p:blipFill>
            <a:blip r:embed="rId1"/>
            <a:stretch/>
          </p:blipFill>
          <p:spPr>
            <a:xfrm>
              <a:off x="4038480" y="4724280"/>
              <a:ext cx="91944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4038480" y="4724280"/>
              <a:ext cx="919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800600" y="3809880"/>
            <a:ext cx="1440" cy="838440"/>
          </a:xfrm>
          <a:prstGeom prst="line">
            <a:avLst/>
          </a:prstGeom>
          <a:ln w="50760">
            <a:solidFill>
              <a:srgbClr val="33cc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4987080" y="525780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380880" y="2819520"/>
            <a:ext cx="381240" cy="304560"/>
          </a:xfrm>
          <a:prstGeom prst="octagon">
            <a:avLst>
              <a:gd name="adj" fmla="val 23148"/>
            </a:avLst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462240" y="2819520"/>
            <a:ext cx="2548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28600" y="4648320"/>
            <a:ext cx="380880" cy="325440"/>
            <a:chOff x="228600" y="4648320"/>
            <a:chExt cx="380880" cy="325440"/>
          </a:xfrm>
        </p:grpSpPr>
        <p:sp>
          <p:nvSpPr>
            <p:cNvPr id="814" name=""/>
            <p:cNvSpPr/>
            <p:nvPr/>
          </p:nvSpPr>
          <p:spPr>
            <a:xfrm>
              <a:off x="308160" y="4648320"/>
              <a:ext cx="2548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ca-ES" sz="1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8600" y="4648320"/>
              <a:ext cx="380880" cy="304560"/>
            </a:xfrm>
            <a:prstGeom prst="octagon">
              <a:avLst>
                <a:gd name="adj" fmla="val 23148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3240" y="4678200"/>
              <a:ext cx="2548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ca-ES" sz="1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143000" y="1600200"/>
            <a:ext cx="380880" cy="304920"/>
            <a:chOff x="1143000" y="1600200"/>
            <a:chExt cx="380880" cy="304920"/>
          </a:xfrm>
        </p:grpSpPr>
        <p:sp>
          <p:nvSpPr>
            <p:cNvPr id="818" name=""/>
            <p:cNvSpPr/>
            <p:nvPr/>
          </p:nvSpPr>
          <p:spPr>
            <a:xfrm>
              <a:off x="1143000" y="1600200"/>
              <a:ext cx="380880" cy="304920"/>
            </a:xfrm>
            <a:prstGeom prst="octagon">
              <a:avLst>
                <a:gd name="adj" fmla="val 23148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22560" y="1600200"/>
              <a:ext cx="2548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ca-ES" sz="1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673680" y="36576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770040" cy="121932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6934320" y="3200400"/>
            <a:ext cx="2057400" cy="38088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witched Port Analyzer (SPAN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68DB5A-7A76-4593-BFE9-B3DFC45E0D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2819520" y="1905120"/>
            <a:ext cx="1143000" cy="14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962520"/>
            <a:ext cx="1440" cy="16761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2362320" y="5715000"/>
            <a:ext cx="388620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4343400" y="2057400"/>
            <a:ext cx="1440" cy="1676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alibri"/>
              </a:rPr>
              <a:t>Inline-Mode Protection: 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/>
          <p:nvPr/>
        </p:nvSpPr>
        <p:spPr>
          <a:xfrm>
            <a:off x="3276720" y="5715000"/>
            <a:ext cx="11160" cy="4651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"/>
          <p:cNvSpPr/>
          <p:nvPr/>
        </p:nvSpPr>
        <p:spPr>
          <a:xfrm>
            <a:off x="4497480" y="1600200"/>
            <a:ext cx="1440" cy="1000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/>
          <p:nvPr/>
        </p:nvSpPr>
        <p:spPr>
          <a:xfrm>
            <a:off x="4497480" y="3521160"/>
            <a:ext cx="1440" cy="28605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497480" y="2487600"/>
            <a:ext cx="1440" cy="1085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4038480" y="2584440"/>
            <a:ext cx="878040" cy="614520"/>
            <a:chOff x="4038480" y="2584440"/>
            <a:chExt cx="878040" cy="614520"/>
          </a:xfrm>
        </p:grpSpPr>
        <p:sp>
          <p:nvSpPr>
            <p:cNvPr id="835" name=""/>
            <p:cNvSpPr/>
            <p:nvPr/>
          </p:nvSpPr>
          <p:spPr>
            <a:xfrm>
              <a:off x="4040280" y="2838600"/>
              <a:ext cx="876240" cy="36036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38480" y="2766960"/>
              <a:ext cx="87660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38480" y="2766960"/>
              <a:ext cx="87660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040280" y="2584440"/>
              <a:ext cx="876240" cy="36036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4172040" y="2625840"/>
              <a:ext cx="608040" cy="276120"/>
              <a:chOff x="4172040" y="2625840"/>
              <a:chExt cx="608040" cy="27612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4172040" y="2625840"/>
                <a:ext cx="603000" cy="268200"/>
                <a:chOff x="4172040" y="2625840"/>
                <a:chExt cx="603000" cy="26820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4486320" y="2633760"/>
                  <a:ext cx="288720" cy="1141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4120"/>
                    <a:gd name="textAreaBottom" fmla="*/ 114120 h 114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486320" y="2633760"/>
                  <a:ext cx="288720" cy="1141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4120"/>
                    <a:gd name="textAreaBottom" fmla="*/ 114120 h 1141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172040" y="2766960"/>
                  <a:ext cx="287280" cy="122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172040" y="2766960"/>
                  <a:ext cx="287280" cy="122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187880" y="26258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187880" y="2625840"/>
                  <a:ext cx="288720" cy="11592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476600" y="2781360"/>
                  <a:ext cx="287640" cy="11268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4476600" y="2781360"/>
                  <a:ext cx="287640" cy="11268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4178160" y="2633760"/>
                <a:ext cx="601920" cy="268200"/>
                <a:chOff x="4178160" y="2633760"/>
                <a:chExt cx="601920" cy="2682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4492800" y="263988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492800" y="263988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178160" y="2773440"/>
                  <a:ext cx="287640" cy="120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178160" y="2773440"/>
                  <a:ext cx="287640" cy="120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192560" y="263376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192560" y="263376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479840" y="278604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479840" y="278604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58" name=""/>
            <p:cNvSpPr/>
            <p:nvPr/>
          </p:nvSpPr>
          <p:spPr>
            <a:xfrm>
              <a:off x="4038480" y="2760840"/>
              <a:ext cx="180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15080" y="2760840"/>
              <a:ext cx="144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4070520" y="4727520"/>
            <a:ext cx="877680" cy="614520"/>
            <a:chOff x="4070520" y="4727520"/>
            <a:chExt cx="877680" cy="614520"/>
          </a:xfrm>
        </p:grpSpPr>
        <p:sp>
          <p:nvSpPr>
            <p:cNvPr id="861" name=""/>
            <p:cNvSpPr/>
            <p:nvPr/>
          </p:nvSpPr>
          <p:spPr>
            <a:xfrm>
              <a:off x="4071960" y="4981680"/>
              <a:ext cx="876240" cy="36036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70520" y="4910040"/>
              <a:ext cx="87624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70520" y="4910040"/>
              <a:ext cx="876240" cy="257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071960" y="4727520"/>
              <a:ext cx="876240" cy="36036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4203720" y="4768920"/>
              <a:ext cx="608040" cy="274680"/>
              <a:chOff x="4203720" y="4768920"/>
              <a:chExt cx="608040" cy="27468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4203720" y="4768920"/>
                <a:ext cx="603360" cy="268200"/>
                <a:chOff x="4203720" y="4768920"/>
                <a:chExt cx="603360" cy="26820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4518000" y="477504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518000" y="477504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117"/>
                      </a:moveTo>
                      <a:lnTo>
                        <a:pt x="100" y="149"/>
                      </a:lnTo>
                      <a:lnTo>
                        <a:pt x="342" y="50"/>
                      </a:lnTo>
                      <a:lnTo>
                        <a:pt x="451" y="84"/>
                      </a:lnTo>
                      <a:lnTo>
                        <a:pt x="392" y="0"/>
                      </a:lnTo>
                      <a:lnTo>
                        <a:pt x="108" y="0"/>
                      </a:lnTo>
                      <a:lnTo>
                        <a:pt x="226" y="2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203720" y="4910040"/>
                  <a:ext cx="287280" cy="122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203720" y="4910040"/>
                  <a:ext cx="287280" cy="122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452" h="158">
                      <a:moveTo>
                        <a:pt x="452" y="33"/>
                      </a:moveTo>
                      <a:lnTo>
                        <a:pt x="351" y="0"/>
                      </a:lnTo>
                      <a:lnTo>
                        <a:pt x="118" y="100"/>
                      </a:lnTo>
                      <a:lnTo>
                        <a:pt x="0" y="66"/>
                      </a:lnTo>
                      <a:lnTo>
                        <a:pt x="59" y="158"/>
                      </a:lnTo>
                      <a:lnTo>
                        <a:pt x="351" y="158"/>
                      </a:lnTo>
                      <a:lnTo>
                        <a:pt x="226" y="125"/>
                      </a:lnTo>
                      <a:lnTo>
                        <a:pt x="45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219560" y="476892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219560" y="476892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3"/>
                      </a:moveTo>
                      <a:lnTo>
                        <a:pt x="100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2" y="149"/>
                      </a:lnTo>
                      <a:lnTo>
                        <a:pt x="107" y="149"/>
                      </a:lnTo>
                      <a:lnTo>
                        <a:pt x="225" y="1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508640" y="492444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508640" y="492444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49"/>
                      </a:lnTo>
                      <a:lnTo>
                        <a:pt x="0" y="83"/>
                      </a:lnTo>
                      <a:lnTo>
                        <a:pt x="58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4210200" y="4775040"/>
                <a:ext cx="601560" cy="268560"/>
                <a:chOff x="4210200" y="4775040"/>
                <a:chExt cx="601560" cy="26856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4524480" y="478152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24480" y="4781520"/>
                  <a:ext cx="287280" cy="1126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51" h="148">
                      <a:moveTo>
                        <a:pt x="0" y="116"/>
                      </a:moveTo>
                      <a:lnTo>
                        <a:pt x="100" y="148"/>
                      </a:lnTo>
                      <a:lnTo>
                        <a:pt x="342" y="50"/>
                      </a:lnTo>
                      <a:lnTo>
                        <a:pt x="451" y="83"/>
                      </a:lnTo>
                      <a:lnTo>
                        <a:pt x="393" y="0"/>
                      </a:lnTo>
                      <a:lnTo>
                        <a:pt x="109" y="0"/>
                      </a:lnTo>
                      <a:lnTo>
                        <a:pt x="226" y="25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210200" y="4916520"/>
                  <a:ext cx="287280" cy="1206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210200" y="4916520"/>
                  <a:ext cx="287280" cy="1206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451" h="158">
                      <a:moveTo>
                        <a:pt x="451" y="34"/>
                      </a:moveTo>
                      <a:lnTo>
                        <a:pt x="351" y="0"/>
                      </a:lnTo>
                      <a:lnTo>
                        <a:pt x="117" y="100"/>
                      </a:lnTo>
                      <a:lnTo>
                        <a:pt x="0" y="67"/>
                      </a:lnTo>
                      <a:lnTo>
                        <a:pt x="58" y="158"/>
                      </a:lnTo>
                      <a:lnTo>
                        <a:pt x="351" y="158"/>
                      </a:lnTo>
                      <a:lnTo>
                        <a:pt x="225" y="125"/>
                      </a:lnTo>
                      <a:lnTo>
                        <a:pt x="451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224240" y="477504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224240" y="4775040"/>
                  <a:ext cx="287280" cy="115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0" y="34"/>
                      </a:moveTo>
                      <a:lnTo>
                        <a:pt x="99" y="0"/>
                      </a:lnTo>
                      <a:lnTo>
                        <a:pt x="342" y="92"/>
                      </a:lnTo>
                      <a:lnTo>
                        <a:pt x="451" y="67"/>
                      </a:lnTo>
                      <a:lnTo>
                        <a:pt x="393" y="149"/>
                      </a:lnTo>
                      <a:lnTo>
                        <a:pt x="108" y="149"/>
                      </a:lnTo>
                      <a:lnTo>
                        <a:pt x="225" y="12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511520" y="492768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511520" y="4927680"/>
                  <a:ext cx="289080" cy="1159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51" h="149">
                      <a:moveTo>
                        <a:pt x="451" y="116"/>
                      </a:moveTo>
                      <a:lnTo>
                        <a:pt x="351" y="149"/>
                      </a:lnTo>
                      <a:lnTo>
                        <a:pt x="117" y="50"/>
                      </a:lnTo>
                      <a:lnTo>
                        <a:pt x="0" y="83"/>
                      </a:lnTo>
                      <a:lnTo>
                        <a:pt x="59" y="0"/>
                      </a:lnTo>
                      <a:lnTo>
                        <a:pt x="351" y="0"/>
                      </a:lnTo>
                      <a:lnTo>
                        <a:pt x="226" y="25"/>
                      </a:lnTo>
                      <a:lnTo>
                        <a:pt x="451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4" name=""/>
            <p:cNvSpPr/>
            <p:nvPr/>
          </p:nvSpPr>
          <p:spPr>
            <a:xfrm>
              <a:off x="4070520" y="4903920"/>
              <a:ext cx="144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46760" y="4903920"/>
              <a:ext cx="1440" cy="2538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129200" y="5935680"/>
            <a:ext cx="747720" cy="615960"/>
            <a:chOff x="4129200" y="5935680"/>
            <a:chExt cx="747720" cy="615960"/>
          </a:xfrm>
        </p:grpSpPr>
        <p:grpSp>
          <p:nvGrpSpPr>
            <p:cNvPr id="887" name=""/>
            <p:cNvGrpSpPr/>
            <p:nvPr/>
          </p:nvGrpSpPr>
          <p:grpSpPr>
            <a:xfrm>
              <a:off x="4129200" y="5935680"/>
              <a:ext cx="747720" cy="615960"/>
              <a:chOff x="4129200" y="5935680"/>
              <a:chExt cx="747720" cy="615960"/>
            </a:xfrm>
          </p:grpSpPr>
          <p:sp>
            <p:nvSpPr>
              <p:cNvPr id="888" name=""/>
              <p:cNvSpPr/>
              <p:nvPr/>
            </p:nvSpPr>
            <p:spPr>
              <a:xfrm>
                <a:off x="4129200" y="6350040"/>
                <a:ext cx="674640" cy="1126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30640" y="6351480"/>
                <a:ext cx="671400" cy="1098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29200" y="6286680"/>
                <a:ext cx="747720" cy="615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560"/>
                  <a:gd name="textAreaBottom" fmla="*/ 61560 h 6156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29200" y="6286680"/>
                <a:ext cx="747720" cy="615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560"/>
                  <a:gd name="textAreaBottom" fmla="*/ 61560 h 6156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4605120" y="6400800"/>
                <a:ext cx="15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803840" y="6286680"/>
                <a:ext cx="71280" cy="176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803840" y="6286680"/>
                <a:ext cx="71280" cy="176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32440" y="6450120"/>
                <a:ext cx="595080" cy="85680"/>
              </a:xfrm>
              <a:custGeom>
                <a:avLst/>
                <a:gdLst>
                  <a:gd name="textAreaLeft" fmla="*/ 0 w 595080"/>
                  <a:gd name="textAreaRight" fmla="*/ 595080 w 595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32440" y="6450120"/>
                <a:ext cx="595080" cy="85680"/>
              </a:xfrm>
              <a:custGeom>
                <a:avLst/>
                <a:gdLst>
                  <a:gd name="textAreaLeft" fmla="*/ 0 w 595080"/>
                  <a:gd name="textAreaRight" fmla="*/ 595080 w 595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54440" y="6450120"/>
                <a:ext cx="74880" cy="1000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54440" y="6450120"/>
                <a:ext cx="74880" cy="1000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132440" y="6535800"/>
                <a:ext cx="520560" cy="158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33880" y="6537240"/>
                <a:ext cx="517320" cy="1296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233960" y="6286680"/>
                <a:ext cx="533160" cy="5220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233960" y="6286680"/>
                <a:ext cx="533160" cy="5220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227480" y="593568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227480" y="593568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229280" y="5983200"/>
                <a:ext cx="479160" cy="34308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272120" y="6026040"/>
                <a:ext cx="395280" cy="26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707000" y="593568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707000" y="593568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4354560" y="6051600"/>
              <a:ext cx="255600" cy="214200"/>
              <a:chOff x="4354560" y="6051600"/>
              <a:chExt cx="255600" cy="214200"/>
            </a:xfrm>
          </p:grpSpPr>
          <p:sp>
            <p:nvSpPr>
              <p:cNvPr id="910" name=""/>
              <p:cNvSpPr/>
              <p:nvPr/>
            </p:nvSpPr>
            <p:spPr>
              <a:xfrm>
                <a:off x="4359240" y="6056280"/>
                <a:ext cx="230400" cy="2080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359240" y="6056280"/>
                <a:ext cx="230400" cy="2080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354560" y="6051600"/>
                <a:ext cx="34920" cy="46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356000" y="6053040"/>
                <a:ext cx="33480" cy="446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4394160" y="6072120"/>
                <a:ext cx="1800" cy="14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394160" y="6222960"/>
                <a:ext cx="65160" cy="4284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395960" y="6222960"/>
                <a:ext cx="60120" cy="39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354560" y="6091200"/>
                <a:ext cx="38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43560" y="6091200"/>
                <a:ext cx="1440" cy="12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422600" y="625968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4384800" y="6051600"/>
                <a:ext cx="126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13320" y="6051600"/>
                <a:ext cx="33120" cy="460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13320" y="6053040"/>
                <a:ext cx="31680" cy="44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75240" y="6222960"/>
                <a:ext cx="34920" cy="42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</a:path>
                  <a:path stroke="0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575240" y="6222960"/>
                <a:ext cx="33120" cy="39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</a:path>
                  <a:path stroke="0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  <a:lnTo>
                      <a:pt x="0" y="10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452840" y="622152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422600" y="609120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422600" y="611028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422600" y="614520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422600" y="616752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422600" y="6188040"/>
                <a:ext cx="90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422600" y="6207120"/>
                <a:ext cx="90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87760" y="622152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3" name=""/>
          <p:cNvSpPr/>
          <p:nvPr/>
        </p:nvSpPr>
        <p:spPr>
          <a:xfrm>
            <a:off x="3886200" y="144792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2971800" y="5943600"/>
            <a:ext cx="747720" cy="615960"/>
            <a:chOff x="2971800" y="5943600"/>
            <a:chExt cx="747720" cy="615960"/>
          </a:xfrm>
        </p:grpSpPr>
        <p:grpSp>
          <p:nvGrpSpPr>
            <p:cNvPr id="935" name=""/>
            <p:cNvGrpSpPr/>
            <p:nvPr/>
          </p:nvGrpSpPr>
          <p:grpSpPr>
            <a:xfrm>
              <a:off x="2971800" y="5943600"/>
              <a:ext cx="747720" cy="615960"/>
              <a:chOff x="2971800" y="5943600"/>
              <a:chExt cx="747720" cy="615960"/>
            </a:xfrm>
          </p:grpSpPr>
          <p:sp>
            <p:nvSpPr>
              <p:cNvPr id="936" name=""/>
              <p:cNvSpPr/>
              <p:nvPr/>
            </p:nvSpPr>
            <p:spPr>
              <a:xfrm>
                <a:off x="2971800" y="6357960"/>
                <a:ext cx="674640" cy="1126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73240" y="6359400"/>
                <a:ext cx="671760" cy="1098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971800" y="62946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971800" y="6294600"/>
                <a:ext cx="747720" cy="619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4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4" y="0"/>
                    </a:lnTo>
                    <a:lnTo>
                      <a:pt x="36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3447720" y="6408720"/>
                <a:ext cx="15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646440" y="6294600"/>
                <a:ext cx="71640" cy="176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646440" y="6294600"/>
                <a:ext cx="71640" cy="176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39" h="104">
                    <a:moveTo>
                      <a:pt x="0" y="104"/>
                    </a:moveTo>
                    <a:lnTo>
                      <a:pt x="39" y="65"/>
                    </a:lnTo>
                    <a:lnTo>
                      <a:pt x="39" y="0"/>
                    </a:lnTo>
                    <a:lnTo>
                      <a:pt x="0" y="37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975040" y="6458040"/>
                <a:ext cx="595080" cy="85680"/>
              </a:xfrm>
              <a:custGeom>
                <a:avLst/>
                <a:gdLst>
                  <a:gd name="textAreaLeft" fmla="*/ 0 w 595080"/>
                  <a:gd name="textAreaRight" fmla="*/ 595080 w 595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75040" y="6458040"/>
                <a:ext cx="595080" cy="85680"/>
              </a:xfrm>
              <a:custGeom>
                <a:avLst/>
                <a:gdLst>
                  <a:gd name="textAreaLeft" fmla="*/ 0 w 595080"/>
                  <a:gd name="textAreaRight" fmla="*/ 595080 w 595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22" h="51">
                    <a:moveTo>
                      <a:pt x="0" y="51"/>
                    </a:moveTo>
                    <a:lnTo>
                      <a:pt x="41" y="0"/>
                    </a:lnTo>
                    <a:lnTo>
                      <a:pt x="322" y="0"/>
                    </a:lnTo>
                    <a:lnTo>
                      <a:pt x="282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497400" y="6458040"/>
                <a:ext cx="74520" cy="1000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497400" y="6458040"/>
                <a:ext cx="74520" cy="1000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0" y="59"/>
                    </a:moveTo>
                    <a:lnTo>
                      <a:pt x="40" y="18"/>
                    </a:lnTo>
                    <a:lnTo>
                      <a:pt x="40" y="0"/>
                    </a:lnTo>
                    <a:lnTo>
                      <a:pt x="0" y="5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975040" y="6543720"/>
                <a:ext cx="520560" cy="158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976480" y="6545160"/>
                <a:ext cx="517680" cy="1296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76560" y="6294600"/>
                <a:ext cx="533520" cy="5220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76560" y="6294600"/>
                <a:ext cx="533520" cy="5220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31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070080" y="594360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070080" y="5943600"/>
                <a:ext cx="533520" cy="460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8" h="27">
                    <a:moveTo>
                      <a:pt x="0" y="27"/>
                    </a:moveTo>
                    <a:lnTo>
                      <a:pt x="29" y="0"/>
                    </a:lnTo>
                    <a:lnTo>
                      <a:pt x="288" y="0"/>
                    </a:lnTo>
                    <a:lnTo>
                      <a:pt x="25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071880" y="5991120"/>
                <a:ext cx="479520" cy="34308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14720" y="6033960"/>
                <a:ext cx="395280" cy="26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49600" y="59436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549600" y="5943600"/>
                <a:ext cx="54000" cy="388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29" h="230">
                    <a:moveTo>
                      <a:pt x="0" y="230"/>
                    </a:moveTo>
                    <a:lnTo>
                      <a:pt x="29" y="202"/>
                    </a:lnTo>
                    <a:lnTo>
                      <a:pt x="29" y="0"/>
                    </a:lnTo>
                    <a:lnTo>
                      <a:pt x="0" y="27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3197160" y="6059520"/>
              <a:ext cx="255600" cy="214200"/>
              <a:chOff x="3197160" y="6059520"/>
              <a:chExt cx="255600" cy="214200"/>
            </a:xfrm>
          </p:grpSpPr>
          <p:sp>
            <p:nvSpPr>
              <p:cNvPr id="958" name=""/>
              <p:cNvSpPr/>
              <p:nvPr/>
            </p:nvSpPr>
            <p:spPr>
              <a:xfrm>
                <a:off x="3200400" y="6064200"/>
                <a:ext cx="230040" cy="2080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200400" y="6064200"/>
                <a:ext cx="230040" cy="2080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25" h="123">
                    <a:moveTo>
                      <a:pt x="0" y="0"/>
                    </a:moveTo>
                    <a:lnTo>
                      <a:pt x="86" y="0"/>
                    </a:lnTo>
                    <a:lnTo>
                      <a:pt x="100" y="23"/>
                    </a:lnTo>
                    <a:lnTo>
                      <a:pt x="100" y="98"/>
                    </a:lnTo>
                    <a:lnTo>
                      <a:pt x="125" y="98"/>
                    </a:lnTo>
                    <a:lnTo>
                      <a:pt x="119" y="123"/>
                    </a:lnTo>
                    <a:lnTo>
                      <a:pt x="37" y="123"/>
                    </a:lnTo>
                    <a:lnTo>
                      <a:pt x="19" y="98"/>
                    </a:lnTo>
                    <a:lnTo>
                      <a:pt x="1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197160" y="6059520"/>
                <a:ext cx="34920" cy="46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198960" y="6060960"/>
                <a:ext cx="33120" cy="446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3235320" y="6080040"/>
                <a:ext cx="1440" cy="14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5320" y="6230880"/>
                <a:ext cx="65160" cy="4284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9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9"/>
                    </a:cubicBezTo>
                    <a:cubicBezTo>
                      <a:pt x="43200" y="12038"/>
                      <a:pt x="33529" y="21709"/>
                      <a:pt x="21600" y="21709"/>
                    </a:cubicBezTo>
                    <a:cubicBezTo>
                      <a:pt x="9670" y="21709"/>
                      <a:pt x="0" y="12038"/>
                      <a:pt x="0" y="109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8560" y="6230880"/>
                <a:ext cx="60120" cy="39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</a:path>
                  <a:path stroke="0" w="43200" h="21708">
                    <a:moveTo>
                      <a:pt x="43199" y="0"/>
                    </a:moveTo>
                    <a:cubicBezTo>
                      <a:pt x="43199" y="36"/>
                      <a:pt x="43200" y="72"/>
                      <a:pt x="43200" y="108"/>
                    </a:cubicBezTo>
                    <a:cubicBezTo>
                      <a:pt x="43200" y="12037"/>
                      <a:pt x="33529" y="21708"/>
                      <a:pt x="21600" y="21708"/>
                    </a:cubicBezTo>
                    <a:cubicBezTo>
                      <a:pt x="9670" y="21708"/>
                      <a:pt x="0" y="12037"/>
                      <a:pt x="0" y="108"/>
                    </a:cubicBezTo>
                    <a:cubicBezTo>
                      <a:pt x="-1" y="73"/>
                      <a:pt x="0" y="38"/>
                      <a:pt x="0" y="3"/>
                    </a:cubicBezTo>
                    <a:lnTo>
                      <a:pt x="21600" y="10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197160" y="6099120"/>
                <a:ext cx="38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386160" y="6099120"/>
                <a:ext cx="1440" cy="12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265560" y="626760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3225960" y="6059520"/>
                <a:ext cx="126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355920" y="6059520"/>
                <a:ext cx="33480" cy="460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355920" y="6060960"/>
                <a:ext cx="31680" cy="44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417840" y="6230880"/>
                <a:ext cx="34920" cy="42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</a:path>
                  <a:path stroke="0" w="21600" h="21708">
                    <a:moveTo>
                      <a:pt x="21599" y="0"/>
                    </a:moveTo>
                    <a:cubicBezTo>
                      <a:pt x="21599" y="36"/>
                      <a:pt x="21600" y="72"/>
                      <a:pt x="21600" y="108"/>
                    </a:cubicBezTo>
                    <a:cubicBezTo>
                      <a:pt x="21600" y="12037"/>
                      <a:pt x="11929" y="21707"/>
                      <a:pt x="0" y="21708"/>
                    </a:cubicBez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417840" y="6230880"/>
                <a:ext cx="33480" cy="39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fill="none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</a:path>
                  <a:path stroke="0" w="21600" h="21707">
                    <a:moveTo>
                      <a:pt x="21599" y="0"/>
                    </a:moveTo>
                    <a:cubicBezTo>
                      <a:pt x="21599" y="35"/>
                      <a:pt x="21600" y="71"/>
                      <a:pt x="21600" y="107"/>
                    </a:cubicBezTo>
                    <a:cubicBezTo>
                      <a:pt x="21600" y="12036"/>
                      <a:pt x="11929" y="21706"/>
                      <a:pt x="0" y="21707"/>
                    </a:cubicBezTo>
                    <a:lnTo>
                      <a:pt x="0" y="10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295800" y="6229440"/>
                <a:ext cx="150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265560" y="6099120"/>
                <a:ext cx="90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265560" y="6118200"/>
                <a:ext cx="90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265560" y="6153120"/>
                <a:ext cx="90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265560" y="6175440"/>
                <a:ext cx="90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65560" y="6195960"/>
                <a:ext cx="90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65560" y="6215040"/>
                <a:ext cx="90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330720" y="62294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81" name=""/>
          <p:cNvSpPr/>
          <p:nvPr/>
        </p:nvSpPr>
        <p:spPr>
          <a:xfrm>
            <a:off x="4912200" y="60199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05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3962520" y="3666960"/>
            <a:ext cx="907920" cy="600120"/>
            <a:chOff x="3962520" y="3666960"/>
            <a:chExt cx="907920" cy="600120"/>
          </a:xfrm>
        </p:grpSpPr>
        <p:grpSp>
          <p:nvGrpSpPr>
            <p:cNvPr id="984" name=""/>
            <p:cNvGrpSpPr/>
            <p:nvPr/>
          </p:nvGrpSpPr>
          <p:grpSpPr>
            <a:xfrm>
              <a:off x="3962520" y="3666960"/>
              <a:ext cx="907920" cy="600120"/>
              <a:chOff x="3962520" y="3666960"/>
              <a:chExt cx="907920" cy="600120"/>
            </a:xfrm>
          </p:grpSpPr>
          <p:sp>
            <p:nvSpPr>
              <p:cNvPr id="985" name=""/>
              <p:cNvSpPr/>
              <p:nvPr/>
            </p:nvSpPr>
            <p:spPr>
              <a:xfrm>
                <a:off x="3962520" y="3768840"/>
                <a:ext cx="823680" cy="4968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963960" y="3770280"/>
                <a:ext cx="820800" cy="49212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786200" y="3666960"/>
                <a:ext cx="84240" cy="600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44" h="259">
                    <a:moveTo>
                      <a:pt x="0" y="259"/>
                    </a:moveTo>
                    <a:lnTo>
                      <a:pt x="44" y="219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786200" y="3666960"/>
                <a:ext cx="84240" cy="600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44" h="259">
                    <a:moveTo>
                      <a:pt x="0" y="259"/>
                    </a:moveTo>
                    <a:lnTo>
                      <a:pt x="44" y="219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962520" y="3666960"/>
                <a:ext cx="907920" cy="10188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475" h="44">
                    <a:moveTo>
                      <a:pt x="431" y="44"/>
                    </a:moveTo>
                    <a:lnTo>
                      <a:pt x="475" y="0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431" y="44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962520" y="3666960"/>
                <a:ext cx="907920" cy="10188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475" h="44">
                    <a:moveTo>
                      <a:pt x="431" y="44"/>
                    </a:moveTo>
                    <a:lnTo>
                      <a:pt x="475" y="0"/>
                    </a:lnTo>
                    <a:lnTo>
                      <a:pt x="44" y="0"/>
                    </a:lnTo>
                    <a:lnTo>
                      <a:pt x="0" y="44"/>
                    </a:lnTo>
                    <a:lnTo>
                      <a:pt x="431" y="44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4216320" y="3824280"/>
              <a:ext cx="335160" cy="403200"/>
            </a:xfrm>
            <a:prstGeom prst="ellipse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11640" y="3814920"/>
              <a:ext cx="333360" cy="40464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4041720" y="3848040"/>
              <a:ext cx="673200" cy="345960"/>
              <a:chOff x="4041720" y="3848040"/>
              <a:chExt cx="673200" cy="345960"/>
            </a:xfrm>
          </p:grpSpPr>
          <p:sp>
            <p:nvSpPr>
              <p:cNvPr id="994" name=""/>
              <p:cNvSpPr/>
              <p:nvPr/>
            </p:nvSpPr>
            <p:spPr>
              <a:xfrm>
                <a:off x="4041720" y="406404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7"/>
                    </a:lnTo>
                    <a:lnTo>
                      <a:pt x="28" y="37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041720" y="406404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7"/>
                    </a:lnTo>
                    <a:lnTo>
                      <a:pt x="28" y="37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041720" y="384804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6"/>
                    </a:moveTo>
                    <a:lnTo>
                      <a:pt x="0" y="38"/>
                    </a:lnTo>
                    <a:lnTo>
                      <a:pt x="324" y="38"/>
                    </a:lnTo>
                    <a:lnTo>
                      <a:pt x="324" y="53"/>
                    </a:lnTo>
                    <a:lnTo>
                      <a:pt x="349" y="25"/>
                    </a:lnTo>
                    <a:lnTo>
                      <a:pt x="324" y="0"/>
                    </a:lnTo>
                    <a:lnTo>
                      <a:pt x="32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041720" y="384804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6"/>
                    </a:moveTo>
                    <a:lnTo>
                      <a:pt x="0" y="38"/>
                    </a:lnTo>
                    <a:lnTo>
                      <a:pt x="324" y="38"/>
                    </a:lnTo>
                    <a:lnTo>
                      <a:pt x="324" y="53"/>
                    </a:lnTo>
                    <a:lnTo>
                      <a:pt x="349" y="25"/>
                    </a:lnTo>
                    <a:lnTo>
                      <a:pt x="324" y="0"/>
                    </a:lnTo>
                    <a:lnTo>
                      <a:pt x="32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046400" y="407196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8"/>
                    </a:lnTo>
                    <a:lnTo>
                      <a:pt x="28" y="38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046400" y="4071960"/>
                <a:ext cx="668520" cy="12204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349" y="16"/>
                    </a:moveTo>
                    <a:lnTo>
                      <a:pt x="349" y="38"/>
                    </a:lnTo>
                    <a:lnTo>
                      <a:pt x="28" y="38"/>
                    </a:lnTo>
                    <a:lnTo>
                      <a:pt x="28" y="53"/>
                    </a:lnTo>
                    <a:lnTo>
                      <a:pt x="0" y="25"/>
                    </a:lnTo>
                    <a:lnTo>
                      <a:pt x="28" y="0"/>
                    </a:lnTo>
                    <a:lnTo>
                      <a:pt x="28" y="16"/>
                    </a:lnTo>
                    <a:lnTo>
                      <a:pt x="3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046400" y="385596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5"/>
                    </a:moveTo>
                    <a:lnTo>
                      <a:pt x="0" y="37"/>
                    </a:lnTo>
                    <a:lnTo>
                      <a:pt x="324" y="37"/>
                    </a:lnTo>
                    <a:lnTo>
                      <a:pt x="324" y="53"/>
                    </a:lnTo>
                    <a:lnTo>
                      <a:pt x="349" y="24"/>
                    </a:lnTo>
                    <a:lnTo>
                      <a:pt x="324" y="0"/>
                    </a:lnTo>
                    <a:lnTo>
                      <a:pt x="32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046400" y="3855960"/>
                <a:ext cx="668520" cy="122400"/>
              </a:xfrm>
              <a:custGeom>
                <a:avLst/>
                <a:gdLst>
                  <a:gd name="textAreaLeft" fmla="*/ 0 w 668520"/>
                  <a:gd name="textAreaRight" fmla="*/ 668520 w 668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49" h="53">
                    <a:moveTo>
                      <a:pt x="0" y="15"/>
                    </a:moveTo>
                    <a:lnTo>
                      <a:pt x="0" y="37"/>
                    </a:lnTo>
                    <a:lnTo>
                      <a:pt x="324" y="37"/>
                    </a:lnTo>
                    <a:lnTo>
                      <a:pt x="324" y="53"/>
                    </a:lnTo>
                    <a:lnTo>
                      <a:pt x="349" y="24"/>
                    </a:lnTo>
                    <a:lnTo>
                      <a:pt x="324" y="0"/>
                    </a:lnTo>
                    <a:lnTo>
                      <a:pt x="32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2" name=""/>
          <p:cNvGrpSpPr/>
          <p:nvPr/>
        </p:nvGrpSpPr>
        <p:grpSpPr>
          <a:xfrm>
            <a:off x="3505320" y="3641760"/>
            <a:ext cx="919080" cy="625320"/>
            <a:chOff x="3505320" y="3641760"/>
            <a:chExt cx="919080" cy="625320"/>
          </a:xfrm>
        </p:grpSpPr>
        <p:pic>
          <p:nvPicPr>
            <p:cNvPr id="1003" name="" descr=""/>
            <p:cNvPicPr/>
            <p:nvPr/>
          </p:nvPicPr>
          <p:blipFill>
            <a:blip r:embed="rId1"/>
            <a:stretch/>
          </p:blipFill>
          <p:spPr>
            <a:xfrm>
              <a:off x="3505320" y="3641760"/>
              <a:ext cx="9190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3505320" y="3641760"/>
              <a:ext cx="9190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429000" y="5638680"/>
            <a:ext cx="1440" cy="304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3427560" y="5638680"/>
            <a:ext cx="9936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4799160" y="3809880"/>
            <a:ext cx="1374480" cy="18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/>
          <p:nvPr/>
        </p:nvSpPr>
        <p:spPr>
          <a:xfrm>
            <a:off x="6172200" y="3809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"/>
          <p:cNvSpPr/>
          <p:nvPr/>
        </p:nvSpPr>
        <p:spPr>
          <a:xfrm>
            <a:off x="5638680" y="2743200"/>
            <a:ext cx="2819520" cy="609480"/>
          </a:xfrm>
          <a:prstGeom prst="wedgeRoundRectCallout">
            <a:avLst>
              <a:gd name="adj1" fmla="val -86935"/>
              <a:gd name="adj2" fmla="val 7057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no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The sensor resides in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data forwarding p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"/>
          <p:cNvSpPr/>
          <p:nvPr/>
        </p:nvSpPr>
        <p:spPr>
          <a:xfrm>
            <a:off x="6477120" y="4343400"/>
            <a:ext cx="2133360" cy="1219320"/>
          </a:xfrm>
          <a:prstGeom prst="wedgeRoundRectCallout">
            <a:avLst>
              <a:gd name="adj1" fmla="val -60861"/>
              <a:gd name="adj2" fmla="val -7044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If a packet triggers 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signature, it can 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dropped before 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reaches its targe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/>
          <p:nvPr/>
        </p:nvSpPr>
        <p:spPr>
          <a:xfrm>
            <a:off x="533520" y="4267080"/>
            <a:ext cx="2133360" cy="914400"/>
          </a:xfrm>
          <a:prstGeom prst="wedgeRoundRectCallout">
            <a:avLst>
              <a:gd name="adj1" fmla="val 82662"/>
              <a:gd name="adj2" fmla="val 8576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n alert can 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sent to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management conso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/>
          <p:nvPr/>
        </p:nvSpPr>
        <p:spPr>
          <a:xfrm>
            <a:off x="4544280" y="421956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852480" cy="12193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D401C9-601B-427A-8DAF-655716B30C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"/>
          <p:cNvSpPr/>
          <p:nvPr/>
        </p:nvSpPr>
        <p:spPr>
          <a:xfrm>
            <a:off x="304920" y="6553080"/>
            <a:ext cx="411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457200" y="22068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3800" spc="-1" strike="noStrike">
                <a:solidFill>
                  <a:srgbClr val="000000"/>
                </a:solidFill>
                <a:latin typeface="Calibri"/>
              </a:rPr>
              <a:t>IDS and IPS Deployment Considera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eploy an IDS sensor in areas where you cannot deploy an inline device or where you do not plan to use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eny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eploy an IPS sensor in those areas where you need and plan to use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eny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ac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523445-6D3D-44F5-B79D-EF9730E513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 flipH="1" flipV="1">
            <a:off x="2023920" y="3063600"/>
            <a:ext cx="2549520" cy="468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2590920"/>
            <a:ext cx="1295280" cy="8143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6513480" y="1695600"/>
            <a:ext cx="1455840" cy="17128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4824000" y="3052440"/>
            <a:ext cx="2259000" cy="468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"/>
          <p:cNvSpPr/>
          <p:nvPr/>
        </p:nvSpPr>
        <p:spPr>
          <a:xfrm>
            <a:off x="7147080" y="2521080"/>
            <a:ext cx="9360" cy="38412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391520" y="2287440"/>
            <a:ext cx="1440" cy="2318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6" name=""/>
          <p:cNvCxnSpPr/>
          <p:nvPr/>
        </p:nvCxnSpPr>
        <p:spPr>
          <a:xfrm>
            <a:off x="822240" y="-3060720"/>
            <a:ext cx="1891440" cy="3537720"/>
          </a:xfrm>
          <a:prstGeom prst="bentConnector3">
            <a:avLst>
              <a:gd name="adj1" fmla="val 49990"/>
            </a:avLst>
          </a:prstGeom>
          <a:ln w="0">
            <a:noFill/>
          </a:ln>
        </p:spPr>
      </p:cxnSp>
      <p:sp>
        <p:nvSpPr>
          <p:cNvPr id="1027" name=""/>
          <p:cNvSpPr/>
          <p:nvPr/>
        </p:nvSpPr>
        <p:spPr>
          <a:xfrm flipV="1">
            <a:off x="6999120" y="2286000"/>
            <a:ext cx="1800" cy="2318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/>
          <p:nvPr/>
        </p:nvSpPr>
        <p:spPr>
          <a:xfrm>
            <a:off x="1042920" y="4122720"/>
            <a:ext cx="146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410080" y="2798640"/>
            <a:ext cx="816120" cy="478080"/>
            <a:chOff x="5410080" y="2798640"/>
            <a:chExt cx="816120" cy="478080"/>
          </a:xfrm>
        </p:grpSpPr>
        <p:grpSp>
          <p:nvGrpSpPr>
            <p:cNvPr id="1030" name=""/>
            <p:cNvGrpSpPr/>
            <p:nvPr/>
          </p:nvGrpSpPr>
          <p:grpSpPr>
            <a:xfrm>
              <a:off x="5410080" y="2798640"/>
              <a:ext cx="816120" cy="478080"/>
              <a:chOff x="5410080" y="2798640"/>
              <a:chExt cx="816120" cy="478080"/>
            </a:xfrm>
          </p:grpSpPr>
          <p:sp>
            <p:nvSpPr>
              <p:cNvPr id="1031" name=""/>
              <p:cNvSpPr/>
              <p:nvPr/>
            </p:nvSpPr>
            <p:spPr>
              <a:xfrm>
                <a:off x="5410080" y="2878200"/>
                <a:ext cx="739800" cy="3985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1880" y="2879640"/>
                <a:ext cx="734760" cy="39384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148440" y="2798640"/>
                <a:ext cx="76320" cy="478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37" h="217">
                    <a:moveTo>
                      <a:pt x="0" y="217"/>
                    </a:moveTo>
                    <a:lnTo>
                      <a:pt x="37" y="183"/>
                    </a:lnTo>
                    <a:lnTo>
                      <a:pt x="37" y="0"/>
                    </a:lnTo>
                    <a:lnTo>
                      <a:pt x="0" y="36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148440" y="2798640"/>
                <a:ext cx="76320" cy="478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37" h="217">
                    <a:moveTo>
                      <a:pt x="0" y="217"/>
                    </a:moveTo>
                    <a:lnTo>
                      <a:pt x="37" y="183"/>
                    </a:lnTo>
                    <a:lnTo>
                      <a:pt x="37" y="0"/>
                    </a:lnTo>
                    <a:lnTo>
                      <a:pt x="0" y="36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10080" y="2798640"/>
                <a:ext cx="816120" cy="79560"/>
              </a:xfrm>
              <a:custGeom>
                <a:avLst/>
                <a:gdLst>
                  <a:gd name="textAreaLeft" fmla="*/ 0 w 816120"/>
                  <a:gd name="textAreaRight" fmla="*/ 816480 w 8161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98" h="36">
                    <a:moveTo>
                      <a:pt x="361" y="36"/>
                    </a:moveTo>
                    <a:lnTo>
                      <a:pt x="398" y="0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361" y="36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410080" y="2798640"/>
                <a:ext cx="816120" cy="79560"/>
              </a:xfrm>
              <a:custGeom>
                <a:avLst/>
                <a:gdLst>
                  <a:gd name="textAreaLeft" fmla="*/ 0 w 816120"/>
                  <a:gd name="textAreaRight" fmla="*/ 816480 w 8161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98" h="36">
                    <a:moveTo>
                      <a:pt x="361" y="36"/>
                    </a:moveTo>
                    <a:lnTo>
                      <a:pt x="398" y="0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361" y="36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5637240" y="2921040"/>
              <a:ext cx="301680" cy="323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30760" y="2914560"/>
              <a:ext cx="301680" cy="324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5478480" y="2941560"/>
              <a:ext cx="608040" cy="276480"/>
              <a:chOff x="5478480" y="2941560"/>
              <a:chExt cx="608040" cy="276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5478480" y="3114720"/>
                <a:ext cx="600120" cy="968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3" h="44">
                    <a:moveTo>
                      <a:pt x="293" y="13"/>
                    </a:moveTo>
                    <a:lnTo>
                      <a:pt x="293" y="31"/>
                    </a:lnTo>
                    <a:lnTo>
                      <a:pt x="23" y="31"/>
                    </a:lnTo>
                    <a:lnTo>
                      <a:pt x="23" y="44"/>
                    </a:lnTo>
                    <a:lnTo>
                      <a:pt x="0" y="21"/>
                    </a:lnTo>
                    <a:lnTo>
                      <a:pt x="23" y="0"/>
                    </a:lnTo>
                    <a:lnTo>
                      <a:pt x="23" y="13"/>
                    </a:lnTo>
                    <a:lnTo>
                      <a:pt x="29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478480" y="3114720"/>
                <a:ext cx="600120" cy="968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3" h="44">
                    <a:moveTo>
                      <a:pt x="293" y="13"/>
                    </a:moveTo>
                    <a:lnTo>
                      <a:pt x="293" y="31"/>
                    </a:lnTo>
                    <a:lnTo>
                      <a:pt x="23" y="31"/>
                    </a:lnTo>
                    <a:lnTo>
                      <a:pt x="23" y="44"/>
                    </a:lnTo>
                    <a:lnTo>
                      <a:pt x="0" y="21"/>
                    </a:lnTo>
                    <a:lnTo>
                      <a:pt x="23" y="0"/>
                    </a:lnTo>
                    <a:lnTo>
                      <a:pt x="23" y="13"/>
                    </a:lnTo>
                    <a:lnTo>
                      <a:pt x="29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478480" y="2941560"/>
                <a:ext cx="600120" cy="986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93" h="45">
                    <a:moveTo>
                      <a:pt x="0" y="13"/>
                    </a:moveTo>
                    <a:lnTo>
                      <a:pt x="0" y="32"/>
                    </a:lnTo>
                    <a:lnTo>
                      <a:pt x="272" y="32"/>
                    </a:lnTo>
                    <a:lnTo>
                      <a:pt x="272" y="45"/>
                    </a:lnTo>
                    <a:lnTo>
                      <a:pt x="293" y="21"/>
                    </a:lnTo>
                    <a:lnTo>
                      <a:pt x="272" y="0"/>
                    </a:lnTo>
                    <a:lnTo>
                      <a:pt x="27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478480" y="2941560"/>
                <a:ext cx="600120" cy="986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93" h="45">
                    <a:moveTo>
                      <a:pt x="0" y="13"/>
                    </a:moveTo>
                    <a:lnTo>
                      <a:pt x="0" y="32"/>
                    </a:lnTo>
                    <a:lnTo>
                      <a:pt x="272" y="32"/>
                    </a:lnTo>
                    <a:lnTo>
                      <a:pt x="272" y="45"/>
                    </a:lnTo>
                    <a:lnTo>
                      <a:pt x="293" y="21"/>
                    </a:lnTo>
                    <a:lnTo>
                      <a:pt x="272" y="0"/>
                    </a:lnTo>
                    <a:lnTo>
                      <a:pt x="27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83160" y="3119400"/>
                <a:ext cx="603360" cy="986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94" h="45">
                    <a:moveTo>
                      <a:pt x="294" y="13"/>
                    </a:moveTo>
                    <a:lnTo>
                      <a:pt x="294" y="32"/>
                    </a:lnTo>
                    <a:lnTo>
                      <a:pt x="24" y="32"/>
                    </a:lnTo>
                    <a:lnTo>
                      <a:pt x="24" y="45"/>
                    </a:lnTo>
                    <a:lnTo>
                      <a:pt x="0" y="21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29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83160" y="3119400"/>
                <a:ext cx="603360" cy="986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94" h="45">
                    <a:moveTo>
                      <a:pt x="294" y="13"/>
                    </a:moveTo>
                    <a:lnTo>
                      <a:pt x="294" y="32"/>
                    </a:lnTo>
                    <a:lnTo>
                      <a:pt x="24" y="32"/>
                    </a:lnTo>
                    <a:lnTo>
                      <a:pt x="24" y="45"/>
                    </a:lnTo>
                    <a:lnTo>
                      <a:pt x="0" y="21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29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83160" y="2948040"/>
                <a:ext cx="603360" cy="968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4" h="44">
                    <a:moveTo>
                      <a:pt x="0" y="13"/>
                    </a:moveTo>
                    <a:lnTo>
                      <a:pt x="0" y="31"/>
                    </a:lnTo>
                    <a:lnTo>
                      <a:pt x="273" y="31"/>
                    </a:lnTo>
                    <a:lnTo>
                      <a:pt x="273" y="44"/>
                    </a:lnTo>
                    <a:lnTo>
                      <a:pt x="294" y="21"/>
                    </a:lnTo>
                    <a:lnTo>
                      <a:pt x="273" y="0"/>
                    </a:lnTo>
                    <a:lnTo>
                      <a:pt x="273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483160" y="2948040"/>
                <a:ext cx="603360" cy="968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4" h="44">
                    <a:moveTo>
                      <a:pt x="0" y="13"/>
                    </a:moveTo>
                    <a:lnTo>
                      <a:pt x="0" y="31"/>
                    </a:lnTo>
                    <a:lnTo>
                      <a:pt x="273" y="31"/>
                    </a:lnTo>
                    <a:lnTo>
                      <a:pt x="273" y="44"/>
                    </a:lnTo>
                    <a:lnTo>
                      <a:pt x="294" y="21"/>
                    </a:lnTo>
                    <a:lnTo>
                      <a:pt x="273" y="0"/>
                    </a:lnTo>
                    <a:lnTo>
                      <a:pt x="273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S and IPS Deployment Compari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746400" y="2519280"/>
            <a:ext cx="932040" cy="792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/>
          <p:nvPr/>
        </p:nvSpPr>
        <p:spPr>
          <a:xfrm>
            <a:off x="1257480" y="1981080"/>
            <a:ext cx="98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Attac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6834600" y="1295280"/>
            <a:ext cx="764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In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457200" y="3746520"/>
            <a:ext cx="419112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or on Outs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226800">
              <a:lnSpc>
                <a:spcPct val="95000"/>
              </a:lnSpc>
              <a:spcBef>
                <a:spcPts val="1049"/>
              </a:spcBef>
              <a:buClr>
                <a:srgbClr val="4f81bd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ees all traffic destined for your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226800">
              <a:lnSpc>
                <a:spcPct val="95000"/>
              </a:lnSpc>
              <a:spcBef>
                <a:spcPts val="1049"/>
              </a:spcBef>
              <a:buClr>
                <a:srgbClr val="4f81bd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Has high probability of raising false alarms (false positiv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226800">
              <a:lnSpc>
                <a:spcPct val="95000"/>
              </a:lnSpc>
              <a:spcBef>
                <a:spcPts val="1049"/>
              </a:spcBef>
              <a:buClr>
                <a:srgbClr val="4f81bd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Does not detect internal att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4724280" y="3746520"/>
            <a:ext cx="41148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or on Ins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226800">
              <a:lnSpc>
                <a:spcPct val="95000"/>
              </a:lnSpc>
              <a:spcBef>
                <a:spcPts val="1049"/>
              </a:spcBef>
              <a:buClr>
                <a:srgbClr val="4f81bd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ees only traffic permitted by firew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226800">
              <a:lnSpc>
                <a:spcPct val="95000"/>
              </a:lnSpc>
              <a:spcBef>
                <a:spcPts val="1049"/>
              </a:spcBef>
              <a:buClr>
                <a:srgbClr val="4f81bd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Has lower probability of false alarms (false positiv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226800">
              <a:lnSpc>
                <a:spcPct val="95000"/>
              </a:lnSpc>
              <a:spcBef>
                <a:spcPts val="1049"/>
              </a:spcBef>
              <a:buClr>
                <a:srgbClr val="4f81bd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Requires immediate response to ala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1341720" y="2819520"/>
            <a:ext cx="90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1501920" y="2355840"/>
            <a:ext cx="502920" cy="458640"/>
            <a:chOff x="1501920" y="2355840"/>
            <a:chExt cx="502920" cy="458640"/>
          </a:xfrm>
        </p:grpSpPr>
        <p:sp>
          <p:nvSpPr>
            <p:cNvPr id="1056" name=""/>
            <p:cNvSpPr/>
            <p:nvPr/>
          </p:nvSpPr>
          <p:spPr>
            <a:xfrm>
              <a:off x="1501920" y="2662200"/>
              <a:ext cx="453960" cy="856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03360" y="2664000"/>
              <a:ext cx="450720" cy="8244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501920" y="2616120"/>
              <a:ext cx="502920" cy="4608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17" h="29">
                  <a:moveTo>
                    <a:pt x="0" y="29"/>
                  </a:moveTo>
                  <a:lnTo>
                    <a:pt x="30" y="0"/>
                  </a:lnTo>
                  <a:lnTo>
                    <a:pt x="317" y="0"/>
                  </a:lnTo>
                  <a:lnTo>
                    <a:pt x="286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01920" y="2616120"/>
              <a:ext cx="502920" cy="4608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17" h="29">
                  <a:moveTo>
                    <a:pt x="0" y="29"/>
                  </a:moveTo>
                  <a:lnTo>
                    <a:pt x="30" y="0"/>
                  </a:lnTo>
                  <a:lnTo>
                    <a:pt x="317" y="0"/>
                  </a:lnTo>
                  <a:lnTo>
                    <a:pt x="286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1817280" y="2701800"/>
              <a:ext cx="11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55880" y="2616120"/>
              <a:ext cx="48960" cy="131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1" h="83">
                  <a:moveTo>
                    <a:pt x="0" y="83"/>
                  </a:moveTo>
                  <a:lnTo>
                    <a:pt x="31" y="52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55880" y="2616120"/>
              <a:ext cx="48960" cy="131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1" h="83">
                  <a:moveTo>
                    <a:pt x="0" y="83"/>
                  </a:moveTo>
                  <a:lnTo>
                    <a:pt x="31" y="52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03360" y="2736720"/>
              <a:ext cx="401760" cy="651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53" h="41">
                  <a:moveTo>
                    <a:pt x="0" y="41"/>
                  </a:moveTo>
                  <a:lnTo>
                    <a:pt x="32" y="0"/>
                  </a:lnTo>
                  <a:lnTo>
                    <a:pt x="253" y="0"/>
                  </a:lnTo>
                  <a:lnTo>
                    <a:pt x="221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03360" y="2736720"/>
              <a:ext cx="401760" cy="651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53" h="41">
                  <a:moveTo>
                    <a:pt x="0" y="41"/>
                  </a:moveTo>
                  <a:lnTo>
                    <a:pt x="32" y="0"/>
                  </a:lnTo>
                  <a:lnTo>
                    <a:pt x="253" y="0"/>
                  </a:lnTo>
                  <a:lnTo>
                    <a:pt x="221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54360" y="273672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2" h="49">
                  <a:moveTo>
                    <a:pt x="0" y="49"/>
                  </a:moveTo>
                  <a:lnTo>
                    <a:pt x="32" y="15"/>
                  </a:lnTo>
                  <a:lnTo>
                    <a:pt x="32" y="0"/>
                  </a:lnTo>
                  <a:lnTo>
                    <a:pt x="0" y="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854360" y="273672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2" h="49">
                  <a:moveTo>
                    <a:pt x="0" y="49"/>
                  </a:moveTo>
                  <a:lnTo>
                    <a:pt x="32" y="15"/>
                  </a:lnTo>
                  <a:lnTo>
                    <a:pt x="32" y="0"/>
                  </a:lnTo>
                  <a:lnTo>
                    <a:pt x="0" y="4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03360" y="2801880"/>
              <a:ext cx="351000" cy="126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04800" y="2803680"/>
              <a:ext cx="347760" cy="936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69960" y="2616120"/>
              <a:ext cx="360360" cy="367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27" h="23">
                  <a:moveTo>
                    <a:pt x="0" y="23"/>
                  </a:moveTo>
                  <a:lnTo>
                    <a:pt x="24" y="0"/>
                  </a:lnTo>
                  <a:lnTo>
                    <a:pt x="227" y="0"/>
                  </a:lnTo>
                  <a:lnTo>
                    <a:pt x="2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69960" y="2616120"/>
              <a:ext cx="360360" cy="367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27" h="23">
                  <a:moveTo>
                    <a:pt x="0" y="23"/>
                  </a:moveTo>
                  <a:lnTo>
                    <a:pt x="24" y="0"/>
                  </a:lnTo>
                  <a:lnTo>
                    <a:pt x="227" y="0"/>
                  </a:lnTo>
                  <a:lnTo>
                    <a:pt x="2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66720" y="2355840"/>
              <a:ext cx="358920" cy="334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6" h="21">
                  <a:moveTo>
                    <a:pt x="0" y="21"/>
                  </a:moveTo>
                  <a:lnTo>
                    <a:pt x="23" y="0"/>
                  </a:lnTo>
                  <a:lnTo>
                    <a:pt x="226" y="0"/>
                  </a:lnTo>
                  <a:lnTo>
                    <a:pt x="204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66720" y="2355840"/>
              <a:ext cx="358920" cy="334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6" h="21">
                  <a:moveTo>
                    <a:pt x="0" y="21"/>
                  </a:moveTo>
                  <a:lnTo>
                    <a:pt x="23" y="0"/>
                  </a:lnTo>
                  <a:lnTo>
                    <a:pt x="226" y="0"/>
                  </a:lnTo>
                  <a:lnTo>
                    <a:pt x="204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68520" y="2390760"/>
              <a:ext cx="322200" cy="25560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596960" y="2424240"/>
              <a:ext cx="266760" cy="19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0720" y="2355840"/>
              <a:ext cx="34920" cy="2890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" h="182">
                  <a:moveTo>
                    <a:pt x="0" y="182"/>
                  </a:moveTo>
                  <a:lnTo>
                    <a:pt x="22" y="160"/>
                  </a:lnTo>
                  <a:lnTo>
                    <a:pt x="22" y="0"/>
                  </a:lnTo>
                  <a:lnTo>
                    <a:pt x="0" y="21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90720" y="2355840"/>
              <a:ext cx="34920" cy="2890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" h="182">
                  <a:moveTo>
                    <a:pt x="0" y="182"/>
                  </a:moveTo>
                  <a:lnTo>
                    <a:pt x="22" y="160"/>
                  </a:lnTo>
                  <a:lnTo>
                    <a:pt x="22" y="0"/>
                  </a:lnTo>
                  <a:lnTo>
                    <a:pt x="0" y="21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027320" y="2819520"/>
            <a:ext cx="925560" cy="533160"/>
            <a:chOff x="4027320" y="2819520"/>
            <a:chExt cx="925560" cy="533160"/>
          </a:xfrm>
        </p:grpSpPr>
        <p:grpSp>
          <p:nvGrpSpPr>
            <p:cNvPr id="1078" name=""/>
            <p:cNvGrpSpPr/>
            <p:nvPr/>
          </p:nvGrpSpPr>
          <p:grpSpPr>
            <a:xfrm>
              <a:off x="4027320" y="2819520"/>
              <a:ext cx="925560" cy="533160"/>
              <a:chOff x="4027320" y="2819520"/>
              <a:chExt cx="925560" cy="533160"/>
            </a:xfrm>
          </p:grpSpPr>
          <p:sp>
            <p:nvSpPr>
              <p:cNvPr id="1079" name=""/>
              <p:cNvSpPr/>
              <p:nvPr/>
            </p:nvSpPr>
            <p:spPr>
              <a:xfrm>
                <a:off x="4030560" y="3041640"/>
                <a:ext cx="922320" cy="311040"/>
              </a:xfrm>
              <a:prstGeom prst="ellipse">
                <a:avLst/>
              </a:prstGeom>
              <a:solidFill>
                <a:srgbClr val="0078aa"/>
              </a:solidFill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027320" y="2978280"/>
                <a:ext cx="922680" cy="2221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027320" y="2978280"/>
                <a:ext cx="922680" cy="2221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030560" y="2819520"/>
                <a:ext cx="922320" cy="311040"/>
              </a:xfrm>
              <a:prstGeom prst="ellipse">
                <a:avLst/>
              </a:prstGeom>
              <a:solidFill>
                <a:srgbClr val="00b4ff"/>
              </a:solidFill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027320" y="2971800"/>
                <a:ext cx="1800" cy="222120"/>
              </a:xfrm>
              <a:prstGeom prst="line">
                <a:avLst/>
              </a:prstGeom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50000" y="2971800"/>
                <a:ext cx="1440" cy="222120"/>
              </a:xfrm>
              <a:prstGeom prst="line">
                <a:avLst/>
              </a:prstGeom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4336920" y="2867040"/>
              <a:ext cx="303480" cy="233280"/>
              <a:chOff x="4336920" y="2867040"/>
              <a:chExt cx="303480" cy="23328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4336920" y="2867040"/>
                <a:ext cx="298440" cy="227160"/>
                <a:chOff x="4336920" y="2867040"/>
                <a:chExt cx="298440" cy="2271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4336920" y="2867040"/>
                  <a:ext cx="219240" cy="2271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227160"/>
                    <a:gd name="textAreaBottom" fmla="*/ 227160 h 227160"/>
                  </a:gdLst>
                  <a:ahLst/>
                  <a:rect l="textAreaLeft" t="textAreaTop" r="textAreaRight" b="textAreaBottom"/>
                  <a:pathLst>
                    <a:path w="138" h="143">
                      <a:moveTo>
                        <a:pt x="0" y="0"/>
                      </a:moveTo>
                      <a:lnTo>
                        <a:pt x="0" y="143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36920" y="2867040"/>
                  <a:ext cx="219240" cy="2271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227160"/>
                    <a:gd name="textAreaBottom" fmla="*/ 227160 h 227160"/>
                  </a:gdLst>
                  <a:ahLst/>
                  <a:rect l="textAreaLeft" t="textAreaTop" r="textAreaRight" b="textAreaBottom"/>
                  <a:pathLst>
                    <a:path w="138" h="143">
                      <a:moveTo>
                        <a:pt x="0" y="0"/>
                      </a:moveTo>
                      <a:lnTo>
                        <a:pt x="0" y="143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573440" y="2871720"/>
                  <a:ext cx="61920" cy="200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573440" y="2871720"/>
                  <a:ext cx="61920" cy="200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4343400" y="2871720"/>
                <a:ext cx="297000" cy="228600"/>
                <a:chOff x="4343400" y="2871720"/>
                <a:chExt cx="297000" cy="22860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4343400" y="2871720"/>
                  <a:ext cx="219240" cy="22860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138" h="144">
                      <a:moveTo>
                        <a:pt x="0" y="0"/>
                      </a:moveTo>
                      <a:lnTo>
                        <a:pt x="0" y="144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343400" y="2871720"/>
                  <a:ext cx="219240" cy="22860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138" h="144">
                      <a:moveTo>
                        <a:pt x="0" y="0"/>
                      </a:moveTo>
                      <a:lnTo>
                        <a:pt x="0" y="144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578480" y="2878200"/>
                  <a:ext cx="61920" cy="199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578480" y="2878200"/>
                  <a:ext cx="61920" cy="199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096" name=""/>
          <p:cNvGrpSpPr/>
          <p:nvPr/>
        </p:nvGrpSpPr>
        <p:grpSpPr>
          <a:xfrm>
            <a:off x="6934320" y="2819520"/>
            <a:ext cx="533160" cy="531720"/>
            <a:chOff x="6934320" y="2819520"/>
            <a:chExt cx="533160" cy="531720"/>
          </a:xfrm>
        </p:grpSpPr>
        <p:sp>
          <p:nvSpPr>
            <p:cNvPr id="1097" name=""/>
            <p:cNvSpPr/>
            <p:nvPr/>
          </p:nvSpPr>
          <p:spPr>
            <a:xfrm>
              <a:off x="6934320" y="2874960"/>
              <a:ext cx="473040" cy="476280"/>
            </a:xfrm>
            <a:prstGeom prst="rect">
              <a:avLst/>
            </a:prstGeom>
            <a:solidFill>
              <a:srgbClr val="009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35760" y="2876400"/>
              <a:ext cx="471600" cy="473400"/>
            </a:xfrm>
            <a:prstGeom prst="rect">
              <a:avLst/>
            </a:prstGeom>
            <a:solidFill>
              <a:srgbClr val="0096d5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34320" y="2819520"/>
              <a:ext cx="533160" cy="554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75" h="39">
                  <a:moveTo>
                    <a:pt x="0" y="39"/>
                  </a:moveTo>
                  <a:lnTo>
                    <a:pt x="42" y="0"/>
                  </a:lnTo>
                  <a:lnTo>
                    <a:pt x="375" y="0"/>
                  </a:lnTo>
                  <a:lnTo>
                    <a:pt x="333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934320" y="2819520"/>
              <a:ext cx="533160" cy="554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75" h="39">
                  <a:moveTo>
                    <a:pt x="0" y="39"/>
                  </a:moveTo>
                  <a:lnTo>
                    <a:pt x="42" y="0"/>
                  </a:lnTo>
                  <a:lnTo>
                    <a:pt x="375" y="0"/>
                  </a:lnTo>
                  <a:lnTo>
                    <a:pt x="333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b4ff"/>
            </a:solidFill>
            <a:ln w="46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407360" y="2819520"/>
              <a:ext cx="58680" cy="528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2" h="367">
                  <a:moveTo>
                    <a:pt x="0" y="39"/>
                  </a:moveTo>
                  <a:lnTo>
                    <a:pt x="42" y="0"/>
                  </a:lnTo>
                  <a:lnTo>
                    <a:pt x="42" y="328"/>
                  </a:lnTo>
                  <a:lnTo>
                    <a:pt x="0" y="3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5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07360" y="2819520"/>
              <a:ext cx="58680" cy="528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2" h="367">
                  <a:moveTo>
                    <a:pt x="0" y="39"/>
                  </a:moveTo>
                  <a:lnTo>
                    <a:pt x="42" y="0"/>
                  </a:lnTo>
                  <a:lnTo>
                    <a:pt x="42" y="328"/>
                  </a:lnTo>
                  <a:lnTo>
                    <a:pt x="0" y="3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5a80"/>
            </a:solidFill>
            <a:ln w="468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954840" y="3073320"/>
              <a:ext cx="163440" cy="73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5" h="51">
                  <a:moveTo>
                    <a:pt x="115" y="12"/>
                  </a:moveTo>
                  <a:lnTo>
                    <a:pt x="27" y="12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27" y="39"/>
                  </a:lnTo>
                  <a:lnTo>
                    <a:pt x="115" y="39"/>
                  </a:lnTo>
                  <a:lnTo>
                    <a:pt x="1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54840" y="3073320"/>
              <a:ext cx="163440" cy="73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5" h="51">
                  <a:moveTo>
                    <a:pt x="115" y="12"/>
                  </a:moveTo>
                  <a:lnTo>
                    <a:pt x="27" y="12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27" y="39"/>
                  </a:lnTo>
                  <a:lnTo>
                    <a:pt x="115" y="39"/>
                  </a:lnTo>
                  <a:lnTo>
                    <a:pt x="1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15320" y="2959200"/>
              <a:ext cx="128520" cy="129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91" y="73"/>
                  </a:moveTo>
                  <a:lnTo>
                    <a:pt x="28" y="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10" y="27"/>
                  </a:lnTo>
                  <a:lnTo>
                    <a:pt x="73" y="91"/>
                  </a:lnTo>
                  <a:lnTo>
                    <a:pt x="9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5320" y="2959200"/>
              <a:ext cx="128520" cy="129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91" y="73"/>
                  </a:moveTo>
                  <a:lnTo>
                    <a:pt x="28" y="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10" y="27"/>
                  </a:lnTo>
                  <a:lnTo>
                    <a:pt x="73" y="91"/>
                  </a:lnTo>
                  <a:lnTo>
                    <a:pt x="9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28000" y="2898720"/>
              <a:ext cx="73080" cy="165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1" h="115">
                  <a:moveTo>
                    <a:pt x="39" y="115"/>
                  </a:moveTo>
                  <a:lnTo>
                    <a:pt x="39" y="24"/>
                  </a:lnTo>
                  <a:lnTo>
                    <a:pt x="51" y="24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12" y="24"/>
                  </a:lnTo>
                  <a:lnTo>
                    <a:pt x="12" y="115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28000" y="2898720"/>
              <a:ext cx="73080" cy="165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1" h="115">
                  <a:moveTo>
                    <a:pt x="39" y="115"/>
                  </a:moveTo>
                  <a:lnTo>
                    <a:pt x="39" y="24"/>
                  </a:lnTo>
                  <a:lnTo>
                    <a:pt x="51" y="24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12" y="24"/>
                  </a:lnTo>
                  <a:lnTo>
                    <a:pt x="12" y="115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183440" y="2959200"/>
              <a:ext cx="130320" cy="129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19" y="91"/>
                  </a:moveTo>
                  <a:lnTo>
                    <a:pt x="82" y="27"/>
                  </a:lnTo>
                  <a:lnTo>
                    <a:pt x="91" y="36"/>
                  </a:lnTo>
                  <a:lnTo>
                    <a:pt x="91" y="0"/>
                  </a:lnTo>
                  <a:lnTo>
                    <a:pt x="55" y="0"/>
                  </a:lnTo>
                  <a:lnTo>
                    <a:pt x="64" y="9"/>
                  </a:lnTo>
                  <a:lnTo>
                    <a:pt x="0" y="73"/>
                  </a:lnTo>
                  <a:lnTo>
                    <a:pt x="1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3440" y="2959200"/>
              <a:ext cx="130320" cy="129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19" y="91"/>
                  </a:moveTo>
                  <a:lnTo>
                    <a:pt x="82" y="27"/>
                  </a:lnTo>
                  <a:lnTo>
                    <a:pt x="91" y="36"/>
                  </a:lnTo>
                  <a:lnTo>
                    <a:pt x="91" y="0"/>
                  </a:lnTo>
                  <a:lnTo>
                    <a:pt x="55" y="0"/>
                  </a:lnTo>
                  <a:lnTo>
                    <a:pt x="64" y="9"/>
                  </a:lnTo>
                  <a:lnTo>
                    <a:pt x="0" y="73"/>
                  </a:lnTo>
                  <a:lnTo>
                    <a:pt x="1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10440" y="3073320"/>
              <a:ext cx="162000" cy="730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4" h="51">
                  <a:moveTo>
                    <a:pt x="0" y="39"/>
                  </a:moveTo>
                  <a:lnTo>
                    <a:pt x="90" y="39"/>
                  </a:lnTo>
                  <a:lnTo>
                    <a:pt x="90" y="51"/>
                  </a:lnTo>
                  <a:lnTo>
                    <a:pt x="114" y="24"/>
                  </a:lnTo>
                  <a:lnTo>
                    <a:pt x="90" y="0"/>
                  </a:lnTo>
                  <a:lnTo>
                    <a:pt x="90" y="12"/>
                  </a:lnTo>
                  <a:lnTo>
                    <a:pt x="0" y="1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10440" y="3073320"/>
              <a:ext cx="162000" cy="730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4" h="51">
                  <a:moveTo>
                    <a:pt x="0" y="39"/>
                  </a:moveTo>
                  <a:lnTo>
                    <a:pt x="90" y="39"/>
                  </a:lnTo>
                  <a:lnTo>
                    <a:pt x="90" y="51"/>
                  </a:lnTo>
                  <a:lnTo>
                    <a:pt x="114" y="24"/>
                  </a:lnTo>
                  <a:lnTo>
                    <a:pt x="90" y="0"/>
                  </a:lnTo>
                  <a:lnTo>
                    <a:pt x="90" y="12"/>
                  </a:lnTo>
                  <a:lnTo>
                    <a:pt x="0" y="1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83440" y="3129120"/>
              <a:ext cx="130320" cy="129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0" y="19"/>
                  </a:moveTo>
                  <a:lnTo>
                    <a:pt x="64" y="82"/>
                  </a:lnTo>
                  <a:lnTo>
                    <a:pt x="55" y="91"/>
                  </a:lnTo>
                  <a:lnTo>
                    <a:pt x="91" y="88"/>
                  </a:lnTo>
                  <a:lnTo>
                    <a:pt x="91" y="55"/>
                  </a:lnTo>
                  <a:lnTo>
                    <a:pt x="82" y="64"/>
                  </a:lnTo>
                  <a:lnTo>
                    <a:pt x="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83440" y="3129120"/>
              <a:ext cx="130320" cy="129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0" y="19"/>
                  </a:moveTo>
                  <a:lnTo>
                    <a:pt x="64" y="82"/>
                  </a:lnTo>
                  <a:lnTo>
                    <a:pt x="55" y="91"/>
                  </a:lnTo>
                  <a:lnTo>
                    <a:pt x="91" y="88"/>
                  </a:lnTo>
                  <a:lnTo>
                    <a:pt x="91" y="55"/>
                  </a:lnTo>
                  <a:lnTo>
                    <a:pt x="82" y="64"/>
                  </a:lnTo>
                  <a:lnTo>
                    <a:pt x="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28000" y="3156120"/>
              <a:ext cx="73080" cy="164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1" h="115">
                  <a:moveTo>
                    <a:pt x="12" y="0"/>
                  </a:moveTo>
                  <a:lnTo>
                    <a:pt x="12" y="90"/>
                  </a:lnTo>
                  <a:lnTo>
                    <a:pt x="0" y="90"/>
                  </a:lnTo>
                  <a:lnTo>
                    <a:pt x="27" y="115"/>
                  </a:lnTo>
                  <a:lnTo>
                    <a:pt x="51" y="90"/>
                  </a:lnTo>
                  <a:lnTo>
                    <a:pt x="39" y="90"/>
                  </a:lnTo>
                  <a:lnTo>
                    <a:pt x="3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28000" y="3156120"/>
              <a:ext cx="73080" cy="164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1" h="115">
                  <a:moveTo>
                    <a:pt x="12" y="0"/>
                  </a:moveTo>
                  <a:lnTo>
                    <a:pt x="12" y="90"/>
                  </a:lnTo>
                  <a:lnTo>
                    <a:pt x="0" y="90"/>
                  </a:lnTo>
                  <a:lnTo>
                    <a:pt x="27" y="115"/>
                  </a:lnTo>
                  <a:lnTo>
                    <a:pt x="51" y="90"/>
                  </a:lnTo>
                  <a:lnTo>
                    <a:pt x="39" y="90"/>
                  </a:lnTo>
                  <a:lnTo>
                    <a:pt x="3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015320" y="3129120"/>
              <a:ext cx="128520" cy="129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73" y="0"/>
                  </a:moveTo>
                  <a:lnTo>
                    <a:pt x="10" y="64"/>
                  </a:lnTo>
                  <a:lnTo>
                    <a:pt x="0" y="55"/>
                  </a:lnTo>
                  <a:lnTo>
                    <a:pt x="0" y="91"/>
                  </a:lnTo>
                  <a:lnTo>
                    <a:pt x="37" y="91"/>
                  </a:lnTo>
                  <a:lnTo>
                    <a:pt x="28" y="82"/>
                  </a:lnTo>
                  <a:lnTo>
                    <a:pt x="91" y="1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015320" y="3129120"/>
              <a:ext cx="128520" cy="129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1" h="91">
                  <a:moveTo>
                    <a:pt x="73" y="0"/>
                  </a:moveTo>
                  <a:lnTo>
                    <a:pt x="10" y="64"/>
                  </a:lnTo>
                  <a:lnTo>
                    <a:pt x="0" y="55"/>
                  </a:lnTo>
                  <a:lnTo>
                    <a:pt x="0" y="91"/>
                  </a:lnTo>
                  <a:lnTo>
                    <a:pt x="37" y="91"/>
                  </a:lnTo>
                  <a:lnTo>
                    <a:pt x="28" y="82"/>
                  </a:lnTo>
                  <a:lnTo>
                    <a:pt x="91" y="1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59520" y="3076560"/>
              <a:ext cx="163440" cy="73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5" h="51">
                  <a:moveTo>
                    <a:pt x="115" y="12"/>
                  </a:moveTo>
                  <a:lnTo>
                    <a:pt x="27" y="12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27" y="39"/>
                  </a:lnTo>
                  <a:lnTo>
                    <a:pt x="115" y="39"/>
                  </a:lnTo>
                  <a:lnTo>
                    <a:pt x="1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959520" y="3076560"/>
              <a:ext cx="163440" cy="73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5" h="51">
                  <a:moveTo>
                    <a:pt x="115" y="12"/>
                  </a:moveTo>
                  <a:lnTo>
                    <a:pt x="27" y="12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27" y="39"/>
                  </a:lnTo>
                  <a:lnTo>
                    <a:pt x="115" y="39"/>
                  </a:lnTo>
                  <a:lnTo>
                    <a:pt x="1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20000" y="296388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91" h="91">
                  <a:moveTo>
                    <a:pt x="91" y="73"/>
                  </a:moveTo>
                  <a:lnTo>
                    <a:pt x="28" y="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10" y="27"/>
                  </a:lnTo>
                  <a:lnTo>
                    <a:pt x="73" y="91"/>
                  </a:lnTo>
                  <a:lnTo>
                    <a:pt x="9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20000" y="296388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91" h="91">
                  <a:moveTo>
                    <a:pt x="91" y="73"/>
                  </a:moveTo>
                  <a:lnTo>
                    <a:pt x="28" y="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10" y="27"/>
                  </a:lnTo>
                  <a:lnTo>
                    <a:pt x="73" y="91"/>
                  </a:lnTo>
                  <a:lnTo>
                    <a:pt x="9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132680" y="2903400"/>
              <a:ext cx="73080" cy="165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115">
                  <a:moveTo>
                    <a:pt x="39" y="115"/>
                  </a:moveTo>
                  <a:lnTo>
                    <a:pt x="39" y="24"/>
                  </a:lnTo>
                  <a:lnTo>
                    <a:pt x="52" y="24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12" y="24"/>
                  </a:lnTo>
                  <a:lnTo>
                    <a:pt x="12" y="115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32680" y="2903400"/>
              <a:ext cx="73080" cy="165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115">
                  <a:moveTo>
                    <a:pt x="39" y="115"/>
                  </a:moveTo>
                  <a:lnTo>
                    <a:pt x="39" y="24"/>
                  </a:lnTo>
                  <a:lnTo>
                    <a:pt x="52" y="24"/>
                  </a:lnTo>
                  <a:lnTo>
                    <a:pt x="27" y="0"/>
                  </a:lnTo>
                  <a:lnTo>
                    <a:pt x="0" y="24"/>
                  </a:lnTo>
                  <a:lnTo>
                    <a:pt x="12" y="24"/>
                  </a:lnTo>
                  <a:lnTo>
                    <a:pt x="12" y="115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86680" y="2963880"/>
              <a:ext cx="128520" cy="1303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91" h="91">
                  <a:moveTo>
                    <a:pt x="19" y="91"/>
                  </a:moveTo>
                  <a:lnTo>
                    <a:pt x="82" y="27"/>
                  </a:lnTo>
                  <a:lnTo>
                    <a:pt x="91" y="36"/>
                  </a:lnTo>
                  <a:lnTo>
                    <a:pt x="91" y="0"/>
                  </a:lnTo>
                  <a:lnTo>
                    <a:pt x="55" y="0"/>
                  </a:lnTo>
                  <a:lnTo>
                    <a:pt x="64" y="9"/>
                  </a:lnTo>
                  <a:lnTo>
                    <a:pt x="0" y="73"/>
                  </a:lnTo>
                  <a:lnTo>
                    <a:pt x="1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86680" y="2963880"/>
              <a:ext cx="128520" cy="1303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91" h="91">
                  <a:moveTo>
                    <a:pt x="19" y="91"/>
                  </a:moveTo>
                  <a:lnTo>
                    <a:pt x="82" y="27"/>
                  </a:lnTo>
                  <a:lnTo>
                    <a:pt x="91" y="36"/>
                  </a:lnTo>
                  <a:lnTo>
                    <a:pt x="91" y="0"/>
                  </a:lnTo>
                  <a:lnTo>
                    <a:pt x="55" y="0"/>
                  </a:lnTo>
                  <a:lnTo>
                    <a:pt x="64" y="9"/>
                  </a:lnTo>
                  <a:lnTo>
                    <a:pt x="0" y="73"/>
                  </a:lnTo>
                  <a:lnTo>
                    <a:pt x="1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13680" y="3076560"/>
              <a:ext cx="162000" cy="730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4" h="51">
                  <a:moveTo>
                    <a:pt x="0" y="39"/>
                  </a:moveTo>
                  <a:lnTo>
                    <a:pt x="90" y="39"/>
                  </a:lnTo>
                  <a:lnTo>
                    <a:pt x="90" y="51"/>
                  </a:lnTo>
                  <a:lnTo>
                    <a:pt x="114" y="24"/>
                  </a:lnTo>
                  <a:lnTo>
                    <a:pt x="90" y="0"/>
                  </a:lnTo>
                  <a:lnTo>
                    <a:pt x="90" y="12"/>
                  </a:lnTo>
                  <a:lnTo>
                    <a:pt x="0" y="1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3680" y="3076560"/>
              <a:ext cx="162000" cy="730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4" h="51">
                  <a:moveTo>
                    <a:pt x="0" y="39"/>
                  </a:moveTo>
                  <a:lnTo>
                    <a:pt x="90" y="39"/>
                  </a:lnTo>
                  <a:lnTo>
                    <a:pt x="90" y="51"/>
                  </a:lnTo>
                  <a:lnTo>
                    <a:pt x="114" y="24"/>
                  </a:lnTo>
                  <a:lnTo>
                    <a:pt x="90" y="0"/>
                  </a:lnTo>
                  <a:lnTo>
                    <a:pt x="90" y="12"/>
                  </a:lnTo>
                  <a:lnTo>
                    <a:pt x="0" y="1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186680" y="3133800"/>
              <a:ext cx="128520" cy="1317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1" h="91">
                  <a:moveTo>
                    <a:pt x="0" y="19"/>
                  </a:moveTo>
                  <a:lnTo>
                    <a:pt x="64" y="82"/>
                  </a:lnTo>
                  <a:lnTo>
                    <a:pt x="55" y="91"/>
                  </a:lnTo>
                  <a:lnTo>
                    <a:pt x="91" y="88"/>
                  </a:lnTo>
                  <a:lnTo>
                    <a:pt x="91" y="55"/>
                  </a:lnTo>
                  <a:lnTo>
                    <a:pt x="82" y="64"/>
                  </a:lnTo>
                  <a:lnTo>
                    <a:pt x="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186680" y="3133800"/>
              <a:ext cx="128520" cy="1317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1" h="91">
                  <a:moveTo>
                    <a:pt x="0" y="19"/>
                  </a:moveTo>
                  <a:lnTo>
                    <a:pt x="64" y="82"/>
                  </a:lnTo>
                  <a:lnTo>
                    <a:pt x="55" y="91"/>
                  </a:lnTo>
                  <a:lnTo>
                    <a:pt x="91" y="88"/>
                  </a:lnTo>
                  <a:lnTo>
                    <a:pt x="91" y="55"/>
                  </a:lnTo>
                  <a:lnTo>
                    <a:pt x="82" y="64"/>
                  </a:lnTo>
                  <a:lnTo>
                    <a:pt x="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132680" y="3160800"/>
              <a:ext cx="73080" cy="164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2" h="115">
                  <a:moveTo>
                    <a:pt x="12" y="0"/>
                  </a:moveTo>
                  <a:lnTo>
                    <a:pt x="12" y="91"/>
                  </a:lnTo>
                  <a:lnTo>
                    <a:pt x="0" y="91"/>
                  </a:lnTo>
                  <a:lnTo>
                    <a:pt x="27" y="115"/>
                  </a:lnTo>
                  <a:lnTo>
                    <a:pt x="52" y="91"/>
                  </a:lnTo>
                  <a:lnTo>
                    <a:pt x="39" y="91"/>
                  </a:lnTo>
                  <a:lnTo>
                    <a:pt x="3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32680" y="3160800"/>
              <a:ext cx="73080" cy="164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2" h="115">
                  <a:moveTo>
                    <a:pt x="12" y="0"/>
                  </a:moveTo>
                  <a:lnTo>
                    <a:pt x="12" y="91"/>
                  </a:lnTo>
                  <a:lnTo>
                    <a:pt x="0" y="91"/>
                  </a:lnTo>
                  <a:lnTo>
                    <a:pt x="27" y="115"/>
                  </a:lnTo>
                  <a:lnTo>
                    <a:pt x="52" y="91"/>
                  </a:lnTo>
                  <a:lnTo>
                    <a:pt x="39" y="91"/>
                  </a:lnTo>
                  <a:lnTo>
                    <a:pt x="3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020000" y="3133800"/>
              <a:ext cx="129960" cy="131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1" h="91">
                  <a:moveTo>
                    <a:pt x="73" y="0"/>
                  </a:moveTo>
                  <a:lnTo>
                    <a:pt x="10" y="64"/>
                  </a:lnTo>
                  <a:lnTo>
                    <a:pt x="0" y="55"/>
                  </a:lnTo>
                  <a:lnTo>
                    <a:pt x="0" y="91"/>
                  </a:lnTo>
                  <a:lnTo>
                    <a:pt x="37" y="91"/>
                  </a:lnTo>
                  <a:lnTo>
                    <a:pt x="28" y="82"/>
                  </a:lnTo>
                  <a:lnTo>
                    <a:pt x="91" y="1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020000" y="3133800"/>
              <a:ext cx="129960" cy="131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1" h="91">
                  <a:moveTo>
                    <a:pt x="73" y="0"/>
                  </a:moveTo>
                  <a:lnTo>
                    <a:pt x="10" y="64"/>
                  </a:lnTo>
                  <a:lnTo>
                    <a:pt x="0" y="55"/>
                  </a:lnTo>
                  <a:lnTo>
                    <a:pt x="0" y="91"/>
                  </a:lnTo>
                  <a:lnTo>
                    <a:pt x="37" y="91"/>
                  </a:lnTo>
                  <a:lnTo>
                    <a:pt x="28" y="82"/>
                  </a:lnTo>
                  <a:lnTo>
                    <a:pt x="91" y="1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093080" y="3043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02440" y="3051000"/>
              <a:ext cx="1429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97760" y="3046320"/>
              <a:ext cx="142920" cy="144720"/>
            </a:xfrm>
            <a:prstGeom prst="ellipse">
              <a:avLst/>
            </a:prstGeom>
            <a:solidFill>
              <a:srgbClr val="e54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895480" y="2819520"/>
            <a:ext cx="816120" cy="477720"/>
            <a:chOff x="2895480" y="2819520"/>
            <a:chExt cx="816120" cy="477720"/>
          </a:xfrm>
        </p:grpSpPr>
        <p:grpSp>
          <p:nvGrpSpPr>
            <p:cNvPr id="1139" name=""/>
            <p:cNvGrpSpPr/>
            <p:nvPr/>
          </p:nvGrpSpPr>
          <p:grpSpPr>
            <a:xfrm>
              <a:off x="2895480" y="2819520"/>
              <a:ext cx="816120" cy="477720"/>
              <a:chOff x="2895480" y="2819520"/>
              <a:chExt cx="816120" cy="477720"/>
            </a:xfrm>
          </p:grpSpPr>
          <p:sp>
            <p:nvSpPr>
              <p:cNvPr id="1140" name=""/>
              <p:cNvSpPr/>
              <p:nvPr/>
            </p:nvSpPr>
            <p:spPr>
              <a:xfrm>
                <a:off x="2895480" y="2898720"/>
                <a:ext cx="739800" cy="3985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897280" y="2900520"/>
                <a:ext cx="734760" cy="39348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633840" y="2819520"/>
                <a:ext cx="76320" cy="4762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37" h="217">
                    <a:moveTo>
                      <a:pt x="0" y="217"/>
                    </a:moveTo>
                    <a:lnTo>
                      <a:pt x="37" y="183"/>
                    </a:lnTo>
                    <a:lnTo>
                      <a:pt x="37" y="0"/>
                    </a:lnTo>
                    <a:lnTo>
                      <a:pt x="0" y="36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633840" y="2819520"/>
                <a:ext cx="76320" cy="4762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37" h="217">
                    <a:moveTo>
                      <a:pt x="0" y="217"/>
                    </a:moveTo>
                    <a:lnTo>
                      <a:pt x="37" y="183"/>
                    </a:lnTo>
                    <a:lnTo>
                      <a:pt x="37" y="0"/>
                    </a:lnTo>
                    <a:lnTo>
                      <a:pt x="0" y="36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895480" y="2819520"/>
                <a:ext cx="816120" cy="79200"/>
              </a:xfrm>
              <a:custGeom>
                <a:avLst/>
                <a:gdLst>
                  <a:gd name="textAreaLeft" fmla="*/ 0 w 816120"/>
                  <a:gd name="textAreaRight" fmla="*/ 816480 w 8161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98" h="36">
                    <a:moveTo>
                      <a:pt x="361" y="36"/>
                    </a:moveTo>
                    <a:lnTo>
                      <a:pt x="398" y="0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361" y="36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895480" y="2819520"/>
                <a:ext cx="816120" cy="79200"/>
              </a:xfrm>
              <a:custGeom>
                <a:avLst/>
                <a:gdLst>
                  <a:gd name="textAreaLeft" fmla="*/ 0 w 816120"/>
                  <a:gd name="textAreaRight" fmla="*/ 816480 w 8161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98" h="36">
                    <a:moveTo>
                      <a:pt x="361" y="36"/>
                    </a:moveTo>
                    <a:lnTo>
                      <a:pt x="398" y="0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361" y="36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3122640" y="2943360"/>
              <a:ext cx="301680" cy="323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16160" y="2936880"/>
              <a:ext cx="301680" cy="324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2963880" y="2962440"/>
              <a:ext cx="608040" cy="276120"/>
              <a:chOff x="2963880" y="2962440"/>
              <a:chExt cx="608040" cy="276120"/>
            </a:xfrm>
          </p:grpSpPr>
          <p:sp>
            <p:nvSpPr>
              <p:cNvPr id="1149" name=""/>
              <p:cNvSpPr/>
              <p:nvPr/>
            </p:nvSpPr>
            <p:spPr>
              <a:xfrm>
                <a:off x="2963880" y="3135240"/>
                <a:ext cx="600120" cy="968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3" h="44">
                    <a:moveTo>
                      <a:pt x="293" y="13"/>
                    </a:moveTo>
                    <a:lnTo>
                      <a:pt x="293" y="31"/>
                    </a:lnTo>
                    <a:lnTo>
                      <a:pt x="23" y="31"/>
                    </a:lnTo>
                    <a:lnTo>
                      <a:pt x="23" y="44"/>
                    </a:lnTo>
                    <a:lnTo>
                      <a:pt x="0" y="21"/>
                    </a:lnTo>
                    <a:lnTo>
                      <a:pt x="23" y="0"/>
                    </a:lnTo>
                    <a:lnTo>
                      <a:pt x="23" y="13"/>
                    </a:lnTo>
                    <a:lnTo>
                      <a:pt x="29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963880" y="3135240"/>
                <a:ext cx="600120" cy="968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3" h="44">
                    <a:moveTo>
                      <a:pt x="293" y="13"/>
                    </a:moveTo>
                    <a:lnTo>
                      <a:pt x="293" y="31"/>
                    </a:lnTo>
                    <a:lnTo>
                      <a:pt x="23" y="31"/>
                    </a:lnTo>
                    <a:lnTo>
                      <a:pt x="23" y="44"/>
                    </a:lnTo>
                    <a:lnTo>
                      <a:pt x="0" y="21"/>
                    </a:lnTo>
                    <a:lnTo>
                      <a:pt x="23" y="0"/>
                    </a:lnTo>
                    <a:lnTo>
                      <a:pt x="23" y="13"/>
                    </a:lnTo>
                    <a:lnTo>
                      <a:pt x="29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963880" y="2962440"/>
                <a:ext cx="600120" cy="9828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93" h="45">
                    <a:moveTo>
                      <a:pt x="0" y="13"/>
                    </a:moveTo>
                    <a:lnTo>
                      <a:pt x="0" y="32"/>
                    </a:lnTo>
                    <a:lnTo>
                      <a:pt x="272" y="32"/>
                    </a:lnTo>
                    <a:lnTo>
                      <a:pt x="272" y="45"/>
                    </a:lnTo>
                    <a:lnTo>
                      <a:pt x="293" y="21"/>
                    </a:lnTo>
                    <a:lnTo>
                      <a:pt x="272" y="0"/>
                    </a:lnTo>
                    <a:lnTo>
                      <a:pt x="27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63880" y="2962440"/>
                <a:ext cx="600120" cy="9828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93" h="45">
                    <a:moveTo>
                      <a:pt x="0" y="13"/>
                    </a:moveTo>
                    <a:lnTo>
                      <a:pt x="0" y="32"/>
                    </a:lnTo>
                    <a:lnTo>
                      <a:pt x="272" y="32"/>
                    </a:lnTo>
                    <a:lnTo>
                      <a:pt x="272" y="45"/>
                    </a:lnTo>
                    <a:lnTo>
                      <a:pt x="293" y="21"/>
                    </a:lnTo>
                    <a:lnTo>
                      <a:pt x="272" y="0"/>
                    </a:lnTo>
                    <a:lnTo>
                      <a:pt x="27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968560" y="3139920"/>
                <a:ext cx="603360" cy="986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94" h="45">
                    <a:moveTo>
                      <a:pt x="294" y="13"/>
                    </a:moveTo>
                    <a:lnTo>
                      <a:pt x="294" y="32"/>
                    </a:lnTo>
                    <a:lnTo>
                      <a:pt x="24" y="32"/>
                    </a:lnTo>
                    <a:lnTo>
                      <a:pt x="24" y="45"/>
                    </a:lnTo>
                    <a:lnTo>
                      <a:pt x="0" y="21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29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968560" y="3139920"/>
                <a:ext cx="603360" cy="986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94" h="45">
                    <a:moveTo>
                      <a:pt x="294" y="13"/>
                    </a:moveTo>
                    <a:lnTo>
                      <a:pt x="294" y="32"/>
                    </a:lnTo>
                    <a:lnTo>
                      <a:pt x="24" y="32"/>
                    </a:lnTo>
                    <a:lnTo>
                      <a:pt x="24" y="45"/>
                    </a:lnTo>
                    <a:lnTo>
                      <a:pt x="0" y="21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29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968560" y="2968560"/>
                <a:ext cx="603360" cy="968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4" h="44">
                    <a:moveTo>
                      <a:pt x="0" y="13"/>
                    </a:moveTo>
                    <a:lnTo>
                      <a:pt x="0" y="31"/>
                    </a:lnTo>
                    <a:lnTo>
                      <a:pt x="273" y="31"/>
                    </a:lnTo>
                    <a:lnTo>
                      <a:pt x="273" y="44"/>
                    </a:lnTo>
                    <a:lnTo>
                      <a:pt x="294" y="21"/>
                    </a:lnTo>
                    <a:lnTo>
                      <a:pt x="273" y="0"/>
                    </a:lnTo>
                    <a:lnTo>
                      <a:pt x="273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968560" y="2968560"/>
                <a:ext cx="603360" cy="968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94" h="44">
                    <a:moveTo>
                      <a:pt x="0" y="13"/>
                    </a:moveTo>
                    <a:lnTo>
                      <a:pt x="0" y="31"/>
                    </a:lnTo>
                    <a:lnTo>
                      <a:pt x="273" y="31"/>
                    </a:lnTo>
                    <a:lnTo>
                      <a:pt x="273" y="44"/>
                    </a:lnTo>
                    <a:lnTo>
                      <a:pt x="294" y="21"/>
                    </a:lnTo>
                    <a:lnTo>
                      <a:pt x="273" y="0"/>
                    </a:lnTo>
                    <a:lnTo>
                      <a:pt x="273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57" name=""/>
          <p:cNvGrpSpPr/>
          <p:nvPr/>
        </p:nvGrpSpPr>
        <p:grpSpPr>
          <a:xfrm>
            <a:off x="7238880" y="1676520"/>
            <a:ext cx="412920" cy="658800"/>
            <a:chOff x="7238880" y="1676520"/>
            <a:chExt cx="412920" cy="658800"/>
          </a:xfrm>
        </p:grpSpPr>
        <p:sp>
          <p:nvSpPr>
            <p:cNvPr id="1158" name=""/>
            <p:cNvSpPr/>
            <p:nvPr/>
          </p:nvSpPr>
          <p:spPr>
            <a:xfrm>
              <a:off x="7238880" y="1724040"/>
              <a:ext cx="36360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40680" y="172548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38880" y="167652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38880" y="167652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2640" y="1762200"/>
              <a:ext cx="16380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283520" y="1801800"/>
              <a:ext cx="11592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02480" y="1676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02480" y="1676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42120" y="2295360"/>
              <a:ext cx="3603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42120" y="1969920"/>
              <a:ext cx="3603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38880" y="229068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238880" y="196524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61200" y="1760400"/>
              <a:ext cx="162000" cy="74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6705720" y="1676520"/>
            <a:ext cx="412560" cy="658800"/>
            <a:chOff x="6705720" y="1676520"/>
            <a:chExt cx="412560" cy="658800"/>
          </a:xfrm>
        </p:grpSpPr>
        <p:sp>
          <p:nvSpPr>
            <p:cNvPr id="1172" name=""/>
            <p:cNvSpPr/>
            <p:nvPr/>
          </p:nvSpPr>
          <p:spPr>
            <a:xfrm>
              <a:off x="6705720" y="1724040"/>
              <a:ext cx="36324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707160" y="172548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05720" y="1676520"/>
              <a:ext cx="412560" cy="47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705720" y="1676520"/>
              <a:ext cx="412560" cy="47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29480" y="176220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50000" y="1801800"/>
              <a:ext cx="11592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068960" y="1676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068960" y="1676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10400" y="2295360"/>
              <a:ext cx="3585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10400" y="1969920"/>
              <a:ext cx="3585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05720" y="2290680"/>
              <a:ext cx="3632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05720" y="1965240"/>
              <a:ext cx="36324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727680" y="1760400"/>
              <a:ext cx="162000" cy="74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48120A-D0EB-4482-A4F8-8A2F329C42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"/>
          <p:cNvSpPr/>
          <p:nvPr/>
        </p:nvSpPr>
        <p:spPr>
          <a:xfrm>
            <a:off x="457200" y="641664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4495680" y="3200400"/>
            <a:ext cx="304812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"/>
          <p:cNvSpPr/>
          <p:nvPr/>
        </p:nvSpPr>
        <p:spPr>
          <a:xfrm>
            <a:off x="116280" y="4336920"/>
            <a:ext cx="221544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360" rIns="540360" tIns="270000" bIns="27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"/>
          <p:cNvSpPr/>
          <p:nvPr/>
        </p:nvSpPr>
        <p:spPr>
          <a:xfrm>
            <a:off x="457200" y="22068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3800" spc="-1" strike="noStrike">
                <a:solidFill>
                  <a:srgbClr val="000000"/>
                </a:solidFill>
                <a:latin typeface="Calibri"/>
              </a:rPr>
              <a:t>Network based IDS and IPS Deployment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/>
          <p:nvPr/>
        </p:nvSpPr>
        <p:spPr>
          <a:xfrm>
            <a:off x="3124080" y="2470320"/>
            <a:ext cx="171936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"/>
          <p:cNvSpPr/>
          <p:nvPr/>
        </p:nvSpPr>
        <p:spPr>
          <a:xfrm>
            <a:off x="5257800" y="2514600"/>
            <a:ext cx="225252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"/>
          <p:cNvSpPr/>
          <p:nvPr/>
        </p:nvSpPr>
        <p:spPr>
          <a:xfrm>
            <a:off x="76320" y="1066680"/>
            <a:ext cx="1904760" cy="289584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/>
          <p:nvPr/>
        </p:nvSpPr>
        <p:spPr>
          <a:xfrm>
            <a:off x="1587960" y="3809880"/>
            <a:ext cx="129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0" y="2514600"/>
            <a:ext cx="144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"/>
          <p:cNvSpPr/>
          <p:nvPr/>
        </p:nvSpPr>
        <p:spPr>
          <a:xfrm>
            <a:off x="3593880" y="2622600"/>
            <a:ext cx="1146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IPS Sen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"/>
          <p:cNvSpPr/>
          <p:nvPr/>
        </p:nvSpPr>
        <p:spPr>
          <a:xfrm>
            <a:off x="5515200" y="1828800"/>
            <a:ext cx="839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/>
          <p:nvPr/>
        </p:nvSpPr>
        <p:spPr>
          <a:xfrm>
            <a:off x="947880" y="2503440"/>
            <a:ext cx="2252520" cy="1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3657600" y="2293920"/>
            <a:ext cx="657360" cy="405000"/>
            <a:chOff x="3657600" y="2293920"/>
            <a:chExt cx="657360" cy="405000"/>
          </a:xfrm>
        </p:grpSpPr>
        <p:grpSp>
          <p:nvGrpSpPr>
            <p:cNvPr id="1199" name=""/>
            <p:cNvGrpSpPr/>
            <p:nvPr/>
          </p:nvGrpSpPr>
          <p:grpSpPr>
            <a:xfrm>
              <a:off x="3657600" y="2293920"/>
              <a:ext cx="657360" cy="405000"/>
              <a:chOff x="3657600" y="2293920"/>
              <a:chExt cx="657360" cy="405000"/>
            </a:xfrm>
          </p:grpSpPr>
          <p:sp>
            <p:nvSpPr>
              <p:cNvPr id="1200" name=""/>
              <p:cNvSpPr/>
              <p:nvPr/>
            </p:nvSpPr>
            <p:spPr>
              <a:xfrm>
                <a:off x="3657600" y="2362320"/>
                <a:ext cx="596880" cy="3366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659040" y="2363760"/>
                <a:ext cx="594000" cy="33336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254480" y="2293920"/>
                <a:ext cx="60480" cy="4050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254480" y="2293920"/>
                <a:ext cx="60480" cy="4050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57600" y="2293920"/>
                <a:ext cx="657360" cy="6840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657600" y="2293920"/>
                <a:ext cx="657360" cy="6840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6" name=""/>
            <p:cNvSpPr/>
            <p:nvPr/>
          </p:nvSpPr>
          <p:spPr>
            <a:xfrm>
              <a:off x="3840120" y="2395440"/>
              <a:ext cx="244440" cy="2793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36880" y="2390760"/>
              <a:ext cx="243000" cy="27792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3714840" y="2416320"/>
              <a:ext cx="487440" cy="233280"/>
              <a:chOff x="3714840" y="2416320"/>
              <a:chExt cx="487440" cy="233280"/>
            </a:xfrm>
          </p:grpSpPr>
          <p:sp>
            <p:nvSpPr>
              <p:cNvPr id="1209" name=""/>
              <p:cNvSpPr/>
              <p:nvPr/>
            </p:nvSpPr>
            <p:spPr>
              <a:xfrm>
                <a:off x="3714840" y="2562120"/>
                <a:ext cx="484200" cy="8280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14840" y="2562120"/>
                <a:ext cx="484200" cy="8280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14840" y="241632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4840" y="241632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18080" y="256716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18080" y="256716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18080" y="242100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718080" y="242100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5791320" y="2165400"/>
            <a:ext cx="290520" cy="735120"/>
            <a:chOff x="5791320" y="2165400"/>
            <a:chExt cx="290520" cy="735120"/>
          </a:xfrm>
        </p:grpSpPr>
        <p:sp>
          <p:nvSpPr>
            <p:cNvPr id="1218" name=""/>
            <p:cNvSpPr/>
            <p:nvPr/>
          </p:nvSpPr>
          <p:spPr>
            <a:xfrm>
              <a:off x="5958000" y="2165400"/>
              <a:ext cx="118800" cy="731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75" h="461">
                  <a:moveTo>
                    <a:pt x="0" y="80"/>
                  </a:moveTo>
                  <a:lnTo>
                    <a:pt x="75" y="0"/>
                  </a:lnTo>
                  <a:lnTo>
                    <a:pt x="75" y="381"/>
                  </a:lnTo>
                  <a:lnTo>
                    <a:pt x="0" y="46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961240" y="2168640"/>
              <a:ext cx="117360" cy="731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74" h="461">
                  <a:moveTo>
                    <a:pt x="0" y="80"/>
                  </a:moveTo>
                  <a:lnTo>
                    <a:pt x="74" y="0"/>
                  </a:lnTo>
                  <a:lnTo>
                    <a:pt x="74" y="381"/>
                  </a:lnTo>
                  <a:lnTo>
                    <a:pt x="0" y="46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770000"/>
            </a:solidFill>
            <a:ln w="792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958000" y="2255760"/>
              <a:ext cx="123840" cy="557280"/>
              <a:chOff x="5958000" y="2255760"/>
              <a:chExt cx="123840" cy="557280"/>
            </a:xfrm>
          </p:grpSpPr>
          <p:sp>
            <p:nvSpPr>
              <p:cNvPr id="1221" name=""/>
              <p:cNvSpPr/>
              <p:nvPr/>
            </p:nvSpPr>
            <p:spPr>
              <a:xfrm flipV="1">
                <a:off x="5958000" y="2266560"/>
                <a:ext cx="123840" cy="136440"/>
              </a:xfrm>
              <a:prstGeom prst="line">
                <a:avLst/>
              </a:prstGeom>
              <a:ln w="111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5958000" y="2363400"/>
                <a:ext cx="123840" cy="136440"/>
              </a:xfrm>
              <a:prstGeom prst="line">
                <a:avLst/>
              </a:prstGeom>
              <a:ln w="111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5958000" y="2460240"/>
                <a:ext cx="123840" cy="136440"/>
              </a:xfrm>
              <a:prstGeom prst="line">
                <a:avLst/>
              </a:prstGeom>
              <a:ln w="111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5958000" y="2557080"/>
                <a:ext cx="123840" cy="136440"/>
              </a:xfrm>
              <a:prstGeom prst="line">
                <a:avLst/>
              </a:prstGeom>
              <a:ln w="111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5958000" y="2665080"/>
                <a:ext cx="123840" cy="136440"/>
              </a:xfrm>
              <a:prstGeom prst="line">
                <a:avLst/>
              </a:prstGeom>
              <a:ln w="111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000840" y="2255760"/>
                <a:ext cx="1440" cy="103320"/>
              </a:xfrm>
              <a:prstGeom prst="line">
                <a:avLst/>
              </a:prstGeom>
              <a:ln w="792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032520" y="2317680"/>
                <a:ext cx="1440" cy="103320"/>
              </a:xfrm>
              <a:prstGeom prst="line">
                <a:avLst/>
              </a:prstGeom>
              <a:ln w="792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004080" y="2452680"/>
                <a:ext cx="1440" cy="92160"/>
              </a:xfrm>
              <a:prstGeom prst="line">
                <a:avLst/>
              </a:prstGeom>
              <a:ln w="792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035760" y="2517840"/>
                <a:ext cx="1440" cy="90360"/>
              </a:xfrm>
              <a:prstGeom prst="line">
                <a:avLst/>
              </a:prstGeom>
              <a:ln w="792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006960" y="2644920"/>
                <a:ext cx="1800" cy="102960"/>
              </a:xfrm>
              <a:prstGeom prst="line">
                <a:avLst/>
              </a:prstGeom>
              <a:ln w="792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39000" y="2709720"/>
                <a:ext cx="1440" cy="103320"/>
              </a:xfrm>
              <a:prstGeom prst="line">
                <a:avLst/>
              </a:prstGeom>
              <a:ln w="792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5791320" y="2292480"/>
              <a:ext cx="166680" cy="99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2298600"/>
              <a:ext cx="160560" cy="93600"/>
            </a:xfrm>
            <a:prstGeom prst="rect">
              <a:avLst/>
            </a:prstGeom>
            <a:solidFill>
              <a:srgbClr val="aa0000"/>
            </a:solidFill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1320" y="2392200"/>
              <a:ext cx="166680" cy="10008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2398680"/>
              <a:ext cx="160560" cy="93600"/>
            </a:xfrm>
            <a:prstGeom prst="rect">
              <a:avLst/>
            </a:prstGeom>
            <a:solidFill>
              <a:srgbClr val="aa0000"/>
            </a:solidFill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1320" y="2492280"/>
              <a:ext cx="166680" cy="10008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2498760"/>
              <a:ext cx="160560" cy="93600"/>
            </a:xfrm>
            <a:prstGeom prst="rect">
              <a:avLst/>
            </a:prstGeom>
            <a:solidFill>
              <a:srgbClr val="aa0000"/>
            </a:solidFill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1320" y="2592360"/>
              <a:ext cx="166680" cy="1033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2598840"/>
              <a:ext cx="160560" cy="96840"/>
            </a:xfrm>
            <a:prstGeom prst="rect">
              <a:avLst/>
            </a:prstGeom>
            <a:solidFill>
              <a:srgbClr val="aa0000"/>
            </a:solidFill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1320" y="2695680"/>
              <a:ext cx="166680" cy="9828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2701800"/>
              <a:ext cx="160560" cy="92160"/>
            </a:xfrm>
            <a:prstGeom prst="rect">
              <a:avLst/>
            </a:prstGeom>
            <a:solidFill>
              <a:srgbClr val="aa0000"/>
            </a:solidFill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1320" y="2793960"/>
              <a:ext cx="166680" cy="10008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2800440"/>
              <a:ext cx="160560" cy="93600"/>
            </a:xfrm>
            <a:prstGeom prst="rect">
              <a:avLst/>
            </a:prstGeom>
            <a:solidFill>
              <a:srgbClr val="aa0000"/>
            </a:solidFill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48200" y="2295360"/>
              <a:ext cx="1800" cy="100080"/>
            </a:xfrm>
            <a:prstGeom prst="line">
              <a:avLst/>
            </a:prstGeom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04000" y="2395440"/>
              <a:ext cx="1440" cy="96840"/>
            </a:xfrm>
            <a:prstGeom prst="line">
              <a:avLst/>
            </a:prstGeom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48200" y="2498760"/>
              <a:ext cx="1800" cy="96840"/>
            </a:xfrm>
            <a:prstGeom prst="line">
              <a:avLst/>
            </a:prstGeom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904000" y="2595600"/>
              <a:ext cx="1440" cy="100080"/>
            </a:xfrm>
            <a:prstGeom prst="line">
              <a:avLst/>
            </a:prstGeom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48200" y="2698920"/>
              <a:ext cx="1800" cy="98280"/>
            </a:xfrm>
            <a:prstGeom prst="line">
              <a:avLst/>
            </a:prstGeom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04000" y="2797200"/>
              <a:ext cx="1440" cy="96840"/>
            </a:xfrm>
            <a:prstGeom prst="line">
              <a:avLst/>
            </a:prstGeom>
            <a:ln w="792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1320" y="2165400"/>
              <a:ext cx="285480" cy="1270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80" h="80">
                  <a:moveTo>
                    <a:pt x="0" y="80"/>
                  </a:moveTo>
                  <a:lnTo>
                    <a:pt x="76" y="0"/>
                  </a:lnTo>
                  <a:lnTo>
                    <a:pt x="180" y="0"/>
                  </a:lnTo>
                  <a:lnTo>
                    <a:pt x="103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4200" y="2168640"/>
              <a:ext cx="284400" cy="12672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79" h="80">
                  <a:moveTo>
                    <a:pt x="0" y="80"/>
                  </a:moveTo>
                  <a:lnTo>
                    <a:pt x="76" y="0"/>
                  </a:lnTo>
                  <a:lnTo>
                    <a:pt x="179" y="0"/>
                  </a:lnTo>
                  <a:lnTo>
                    <a:pt x="103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555d"/>
            </a:solidFill>
            <a:ln w="792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881680" y="2259000"/>
              <a:ext cx="123840" cy="1440"/>
            </a:xfrm>
            <a:prstGeom prst="line">
              <a:avLst/>
            </a:prstGeom>
            <a:ln w="792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5845320" y="2166840"/>
              <a:ext cx="123840" cy="136800"/>
            </a:xfrm>
            <a:prstGeom prst="line">
              <a:avLst/>
            </a:prstGeom>
            <a:ln w="111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62600" y="2220840"/>
              <a:ext cx="60480" cy="1800"/>
            </a:xfrm>
            <a:prstGeom prst="line">
              <a:avLst/>
            </a:prstGeom>
            <a:ln w="792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1905120" y="3124080"/>
            <a:ext cx="725400" cy="655920"/>
            <a:chOff x="1905120" y="3124080"/>
            <a:chExt cx="725400" cy="655920"/>
          </a:xfrm>
        </p:grpSpPr>
        <p:grpSp>
          <p:nvGrpSpPr>
            <p:cNvPr id="1256" name=""/>
            <p:cNvGrpSpPr/>
            <p:nvPr/>
          </p:nvGrpSpPr>
          <p:grpSpPr>
            <a:xfrm>
              <a:off x="1905120" y="3124080"/>
              <a:ext cx="725400" cy="655920"/>
              <a:chOff x="1905120" y="3124080"/>
              <a:chExt cx="725400" cy="655920"/>
            </a:xfrm>
          </p:grpSpPr>
          <p:sp>
            <p:nvSpPr>
              <p:cNvPr id="1257" name=""/>
              <p:cNvSpPr/>
              <p:nvPr/>
            </p:nvSpPr>
            <p:spPr>
              <a:xfrm>
                <a:off x="1905120" y="3564000"/>
                <a:ext cx="657000" cy="1206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906560" y="3565440"/>
                <a:ext cx="654120" cy="11772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905120" y="3498840"/>
                <a:ext cx="725400" cy="6516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57" h="41">
                    <a:moveTo>
                      <a:pt x="0" y="41"/>
                    </a:moveTo>
                    <a:lnTo>
                      <a:pt x="44" y="0"/>
                    </a:lnTo>
                    <a:lnTo>
                      <a:pt x="457" y="0"/>
                    </a:lnTo>
                    <a:lnTo>
                      <a:pt x="41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905120" y="3498840"/>
                <a:ext cx="725400" cy="6516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57" h="41">
                    <a:moveTo>
                      <a:pt x="0" y="41"/>
                    </a:moveTo>
                    <a:lnTo>
                      <a:pt x="44" y="0"/>
                    </a:lnTo>
                    <a:lnTo>
                      <a:pt x="457" y="0"/>
                    </a:lnTo>
                    <a:lnTo>
                      <a:pt x="41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2368440" y="3619440"/>
                <a:ext cx="1540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562120" y="3498840"/>
                <a:ext cx="68400" cy="185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3" h="117">
                    <a:moveTo>
                      <a:pt x="0" y="117"/>
                    </a:moveTo>
                    <a:lnTo>
                      <a:pt x="43" y="74"/>
                    </a:lnTo>
                    <a:lnTo>
                      <a:pt x="43" y="0"/>
                    </a:lnTo>
                    <a:lnTo>
                      <a:pt x="0" y="41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562120" y="3498840"/>
                <a:ext cx="68400" cy="185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3" h="117">
                    <a:moveTo>
                      <a:pt x="0" y="117"/>
                    </a:moveTo>
                    <a:lnTo>
                      <a:pt x="43" y="74"/>
                    </a:lnTo>
                    <a:lnTo>
                      <a:pt x="43" y="0"/>
                    </a:lnTo>
                    <a:lnTo>
                      <a:pt x="0" y="41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909800" y="3670200"/>
                <a:ext cx="577800" cy="921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4" h="58">
                    <a:moveTo>
                      <a:pt x="0" y="58"/>
                    </a:moveTo>
                    <a:lnTo>
                      <a:pt x="46" y="0"/>
                    </a:lnTo>
                    <a:lnTo>
                      <a:pt x="364" y="0"/>
                    </a:lnTo>
                    <a:lnTo>
                      <a:pt x="318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909800" y="3670200"/>
                <a:ext cx="577800" cy="921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4" h="58">
                    <a:moveTo>
                      <a:pt x="0" y="58"/>
                    </a:moveTo>
                    <a:lnTo>
                      <a:pt x="46" y="0"/>
                    </a:lnTo>
                    <a:lnTo>
                      <a:pt x="364" y="0"/>
                    </a:lnTo>
                    <a:lnTo>
                      <a:pt x="318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14520" y="3670200"/>
                <a:ext cx="73080" cy="106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46" h="67">
                    <a:moveTo>
                      <a:pt x="0" y="67"/>
                    </a:moveTo>
                    <a:lnTo>
                      <a:pt x="46" y="21"/>
                    </a:lnTo>
                    <a:lnTo>
                      <a:pt x="46" y="0"/>
                    </a:lnTo>
                    <a:lnTo>
                      <a:pt x="0" y="5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14520" y="3670200"/>
                <a:ext cx="73080" cy="106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46" h="67">
                    <a:moveTo>
                      <a:pt x="0" y="67"/>
                    </a:moveTo>
                    <a:lnTo>
                      <a:pt x="46" y="21"/>
                    </a:lnTo>
                    <a:lnTo>
                      <a:pt x="46" y="0"/>
                    </a:lnTo>
                    <a:lnTo>
                      <a:pt x="0" y="5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909800" y="3762360"/>
                <a:ext cx="504720" cy="17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911240" y="3763800"/>
                <a:ext cx="501840" cy="144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008080" y="3498840"/>
                <a:ext cx="515880" cy="5400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25" h="34">
                    <a:moveTo>
                      <a:pt x="0" y="34"/>
                    </a:moveTo>
                    <a:lnTo>
                      <a:pt x="32" y="0"/>
                    </a:lnTo>
                    <a:lnTo>
                      <a:pt x="325" y="0"/>
                    </a:lnTo>
                    <a:lnTo>
                      <a:pt x="29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008080" y="3498840"/>
                <a:ext cx="515880" cy="5400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25" h="34">
                    <a:moveTo>
                      <a:pt x="0" y="34"/>
                    </a:moveTo>
                    <a:lnTo>
                      <a:pt x="32" y="0"/>
                    </a:lnTo>
                    <a:lnTo>
                      <a:pt x="325" y="0"/>
                    </a:lnTo>
                    <a:lnTo>
                      <a:pt x="29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000160" y="3124080"/>
                <a:ext cx="517680" cy="47880"/>
              </a:xfrm>
              <a:custGeom>
                <a:avLst/>
                <a:gdLst>
                  <a:gd name="textAreaLeft" fmla="*/ 0 w 517680"/>
                  <a:gd name="textAreaRight" fmla="*/ 517680 w 5176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26" h="30">
                    <a:moveTo>
                      <a:pt x="0" y="30"/>
                    </a:moveTo>
                    <a:lnTo>
                      <a:pt x="33" y="0"/>
                    </a:lnTo>
                    <a:lnTo>
                      <a:pt x="326" y="0"/>
                    </a:lnTo>
                    <a:lnTo>
                      <a:pt x="29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000160" y="3124080"/>
                <a:ext cx="517680" cy="47880"/>
              </a:xfrm>
              <a:custGeom>
                <a:avLst/>
                <a:gdLst>
                  <a:gd name="textAreaLeft" fmla="*/ 0 w 517680"/>
                  <a:gd name="textAreaRight" fmla="*/ 517680 w 5176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26" h="30">
                    <a:moveTo>
                      <a:pt x="0" y="30"/>
                    </a:moveTo>
                    <a:lnTo>
                      <a:pt x="33" y="0"/>
                    </a:lnTo>
                    <a:lnTo>
                      <a:pt x="326" y="0"/>
                    </a:lnTo>
                    <a:lnTo>
                      <a:pt x="29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001960" y="3173400"/>
                <a:ext cx="466560" cy="36684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043000" y="3220920"/>
                <a:ext cx="384120" cy="282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2467080" y="3124080"/>
                <a:ext cx="50760" cy="414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32" h="261">
                    <a:moveTo>
                      <a:pt x="0" y="261"/>
                    </a:moveTo>
                    <a:lnTo>
                      <a:pt x="32" y="229"/>
                    </a:lnTo>
                    <a:lnTo>
                      <a:pt x="32" y="0"/>
                    </a:lnTo>
                    <a:lnTo>
                      <a:pt x="0" y="3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467080" y="3124080"/>
                <a:ext cx="50760" cy="414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32" h="261">
                    <a:moveTo>
                      <a:pt x="0" y="261"/>
                    </a:moveTo>
                    <a:lnTo>
                      <a:pt x="32" y="229"/>
                    </a:lnTo>
                    <a:lnTo>
                      <a:pt x="32" y="0"/>
                    </a:lnTo>
                    <a:lnTo>
                      <a:pt x="0" y="3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125800" y="3249720"/>
              <a:ext cx="245880" cy="223560"/>
              <a:chOff x="2125800" y="3249720"/>
              <a:chExt cx="245880" cy="223560"/>
            </a:xfrm>
          </p:grpSpPr>
          <p:sp>
            <p:nvSpPr>
              <p:cNvPr id="1279" name=""/>
              <p:cNvSpPr/>
              <p:nvPr/>
            </p:nvSpPr>
            <p:spPr>
              <a:xfrm>
                <a:off x="2128680" y="3252960"/>
                <a:ext cx="223920" cy="22032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41" h="139">
                    <a:moveTo>
                      <a:pt x="0" y="0"/>
                    </a:moveTo>
                    <a:lnTo>
                      <a:pt x="97" y="0"/>
                    </a:lnTo>
                    <a:lnTo>
                      <a:pt x="113" y="25"/>
                    </a:lnTo>
                    <a:lnTo>
                      <a:pt x="113" y="111"/>
                    </a:lnTo>
                    <a:lnTo>
                      <a:pt x="141" y="111"/>
                    </a:lnTo>
                    <a:lnTo>
                      <a:pt x="134" y="139"/>
                    </a:lnTo>
                    <a:lnTo>
                      <a:pt x="42" y="139"/>
                    </a:lnTo>
                    <a:lnTo>
                      <a:pt x="21" y="111"/>
                    </a:lnTo>
                    <a:lnTo>
                      <a:pt x="2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128680" y="3252960"/>
                <a:ext cx="223920" cy="22032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41" h="139">
                    <a:moveTo>
                      <a:pt x="0" y="0"/>
                    </a:moveTo>
                    <a:lnTo>
                      <a:pt x="97" y="0"/>
                    </a:lnTo>
                    <a:lnTo>
                      <a:pt x="113" y="25"/>
                    </a:lnTo>
                    <a:lnTo>
                      <a:pt x="113" y="111"/>
                    </a:lnTo>
                    <a:lnTo>
                      <a:pt x="141" y="111"/>
                    </a:lnTo>
                    <a:lnTo>
                      <a:pt x="134" y="139"/>
                    </a:lnTo>
                    <a:lnTo>
                      <a:pt x="42" y="139"/>
                    </a:lnTo>
                    <a:lnTo>
                      <a:pt x="21" y="111"/>
                    </a:lnTo>
                    <a:lnTo>
                      <a:pt x="2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125800" y="3249720"/>
                <a:ext cx="33120" cy="475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127240" y="3251160"/>
                <a:ext cx="31680" cy="46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2162160" y="3269880"/>
                <a:ext cx="1440" cy="15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162160" y="3429000"/>
                <a:ext cx="61920" cy="44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63600" y="3429000"/>
                <a:ext cx="59040" cy="42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125800" y="328932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308320" y="3289320"/>
                <a:ext cx="144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190600" y="3468600"/>
                <a:ext cx="147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152800" y="324972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279520" y="324972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279520" y="3251160"/>
                <a:ext cx="32040" cy="460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338560" y="3429000"/>
                <a:ext cx="33120" cy="442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338560" y="3429000"/>
                <a:ext cx="31680" cy="42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220840" y="3429000"/>
                <a:ext cx="146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190600" y="328932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190600" y="331164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190600" y="3348000"/>
                <a:ext cx="88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190600" y="337032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190600" y="339264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190600" y="3414600"/>
                <a:ext cx="88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254320" y="34290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02" name=""/>
          <p:cNvSpPr/>
          <p:nvPr/>
        </p:nvSpPr>
        <p:spPr>
          <a:xfrm>
            <a:off x="6462720" y="1784520"/>
            <a:ext cx="755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2514600" y="2362320"/>
            <a:ext cx="771480" cy="380880"/>
            <a:chOff x="2514600" y="2362320"/>
            <a:chExt cx="771480" cy="380880"/>
          </a:xfrm>
        </p:grpSpPr>
        <p:sp>
          <p:nvSpPr>
            <p:cNvPr id="1304" name=""/>
            <p:cNvSpPr/>
            <p:nvPr/>
          </p:nvSpPr>
          <p:spPr>
            <a:xfrm>
              <a:off x="2517840" y="2571840"/>
              <a:ext cx="587160" cy="16812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14600" y="257184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49">
                  <a:moveTo>
                    <a:pt x="56" y="3149"/>
                  </a:moveTo>
                  <a:lnTo>
                    <a:pt x="113" y="309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3"/>
                  </a:lnTo>
                  <a:lnTo>
                    <a:pt x="56" y="3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17840" y="273672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3">
                  <a:moveTo>
                    <a:pt x="12462" y="57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2406" y="113"/>
                  </a:lnTo>
                  <a:lnTo>
                    <a:pt x="12462" y="5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102120" y="256860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49">
                  <a:moveTo>
                    <a:pt x="56" y="0"/>
                  </a:moveTo>
                  <a:lnTo>
                    <a:pt x="0" y="56"/>
                  </a:lnTo>
                  <a:lnTo>
                    <a:pt x="0" y="3149"/>
                  </a:lnTo>
                  <a:lnTo>
                    <a:pt x="112" y="3149"/>
                  </a:lnTo>
                  <a:lnTo>
                    <a:pt x="112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14600" y="256860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2">
                  <a:moveTo>
                    <a:pt x="0" y="56"/>
                  </a:moveTo>
                  <a:lnTo>
                    <a:pt x="56" y="112"/>
                  </a:lnTo>
                  <a:lnTo>
                    <a:pt x="12462" y="112"/>
                  </a:lnTo>
                  <a:lnTo>
                    <a:pt x="12462" y="0"/>
                  </a:lnTo>
                  <a:lnTo>
                    <a:pt x="56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03560" y="2365200"/>
              <a:ext cx="177840" cy="3747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778" h="6860">
                  <a:moveTo>
                    <a:pt x="0" y="3767"/>
                  </a:moveTo>
                  <a:lnTo>
                    <a:pt x="3778" y="0"/>
                  </a:lnTo>
                  <a:lnTo>
                    <a:pt x="3778" y="3096"/>
                  </a:lnTo>
                  <a:lnTo>
                    <a:pt x="0" y="6860"/>
                  </a:lnTo>
                  <a:lnTo>
                    <a:pt x="0" y="376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03560" y="236376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3" h="3847">
                  <a:moveTo>
                    <a:pt x="3873" y="40"/>
                  </a:moveTo>
                  <a:lnTo>
                    <a:pt x="3777" y="0"/>
                  </a:lnTo>
                  <a:lnTo>
                    <a:pt x="0" y="3768"/>
                  </a:lnTo>
                  <a:lnTo>
                    <a:pt x="79" y="3847"/>
                  </a:lnTo>
                  <a:lnTo>
                    <a:pt x="3857" y="79"/>
                  </a:lnTo>
                  <a:lnTo>
                    <a:pt x="3873" y="4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81400" y="2365200"/>
              <a:ext cx="4680" cy="171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13" h="3135">
                  <a:moveTo>
                    <a:pt x="97" y="3135"/>
                  </a:moveTo>
                  <a:lnTo>
                    <a:pt x="113" y="3096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6"/>
                  </a:lnTo>
                  <a:lnTo>
                    <a:pt x="97" y="31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102120" y="253224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4" h="3844">
                  <a:moveTo>
                    <a:pt x="0" y="3804"/>
                  </a:moveTo>
                  <a:lnTo>
                    <a:pt x="96" y="3844"/>
                  </a:lnTo>
                  <a:lnTo>
                    <a:pt x="3874" y="79"/>
                  </a:lnTo>
                  <a:lnTo>
                    <a:pt x="3794" y="0"/>
                  </a:lnTo>
                  <a:lnTo>
                    <a:pt x="17" y="3765"/>
                  </a:lnTo>
                  <a:lnTo>
                    <a:pt x="0" y="380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02120" y="256860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32">
                  <a:moveTo>
                    <a:pt x="17" y="0"/>
                  </a:moveTo>
                  <a:lnTo>
                    <a:pt x="0" y="39"/>
                  </a:lnTo>
                  <a:lnTo>
                    <a:pt x="0" y="3132"/>
                  </a:lnTo>
                  <a:lnTo>
                    <a:pt x="112" y="3132"/>
                  </a:lnTo>
                  <a:lnTo>
                    <a:pt x="112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517840" y="2365200"/>
              <a:ext cx="766800" cy="2066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6184" h="3767">
                  <a:moveTo>
                    <a:pt x="12406" y="3767"/>
                  </a:moveTo>
                  <a:lnTo>
                    <a:pt x="16184" y="0"/>
                  </a:lnTo>
                  <a:lnTo>
                    <a:pt x="3778" y="0"/>
                  </a:lnTo>
                  <a:lnTo>
                    <a:pt x="0" y="3767"/>
                  </a:lnTo>
                  <a:lnTo>
                    <a:pt x="12406" y="3767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103560" y="2362320"/>
              <a:ext cx="181080" cy="21096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857" h="3863">
                  <a:moveTo>
                    <a:pt x="3817" y="0"/>
                  </a:moveTo>
                  <a:lnTo>
                    <a:pt x="3777" y="16"/>
                  </a:lnTo>
                  <a:lnTo>
                    <a:pt x="0" y="3784"/>
                  </a:lnTo>
                  <a:lnTo>
                    <a:pt x="79" y="3863"/>
                  </a:lnTo>
                  <a:lnTo>
                    <a:pt x="3857" y="95"/>
                  </a:lnTo>
                  <a:lnTo>
                    <a:pt x="38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693880" y="2362320"/>
              <a:ext cx="588960" cy="612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446" h="113">
                  <a:moveTo>
                    <a:pt x="0" y="16"/>
                  </a:moveTo>
                  <a:lnTo>
                    <a:pt x="40" y="113"/>
                  </a:lnTo>
                  <a:lnTo>
                    <a:pt x="12446" y="113"/>
                  </a:lnTo>
                  <a:lnTo>
                    <a:pt x="12446" y="0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516040" y="2363760"/>
              <a:ext cx="181080" cy="21132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857" h="3863">
                  <a:moveTo>
                    <a:pt x="40" y="3863"/>
                  </a:moveTo>
                  <a:lnTo>
                    <a:pt x="80" y="3847"/>
                  </a:lnTo>
                  <a:lnTo>
                    <a:pt x="3857" y="79"/>
                  </a:lnTo>
                  <a:lnTo>
                    <a:pt x="3778" y="0"/>
                  </a:lnTo>
                  <a:lnTo>
                    <a:pt x="0" y="3768"/>
                  </a:lnTo>
                  <a:lnTo>
                    <a:pt x="40" y="3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17840" y="256860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2">
                  <a:moveTo>
                    <a:pt x="12446" y="96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2406" y="112"/>
                  </a:lnTo>
                  <a:lnTo>
                    <a:pt x="12446" y="9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860560" y="245412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29" y="287"/>
                  </a:lnTo>
                  <a:lnTo>
                    <a:pt x="450" y="2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933640" y="237024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30" y="287"/>
                  </a:lnTo>
                  <a:lnTo>
                    <a:pt x="450" y="2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597040" y="247824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852" y="989"/>
                  </a:moveTo>
                  <a:lnTo>
                    <a:pt x="5302" y="544"/>
                  </a:lnTo>
                  <a:lnTo>
                    <a:pt x="2072" y="547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2" y="988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670120" y="239400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5302" h="1277">
                  <a:moveTo>
                    <a:pt x="4853" y="989"/>
                  </a:moveTo>
                  <a:lnTo>
                    <a:pt x="5302" y="545"/>
                  </a:lnTo>
                  <a:lnTo>
                    <a:pt x="2072" y="549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80" y="1277"/>
                  </a:lnTo>
                  <a:lnTo>
                    <a:pt x="1672" y="989"/>
                  </a:lnTo>
                  <a:lnTo>
                    <a:pt x="4853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865600" y="246060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6">
                  <a:moveTo>
                    <a:pt x="449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1" y="539"/>
                  </a:lnTo>
                  <a:lnTo>
                    <a:pt x="3922" y="0"/>
                  </a:lnTo>
                  <a:lnTo>
                    <a:pt x="3630" y="286"/>
                  </a:lnTo>
                  <a:lnTo>
                    <a:pt x="449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938320" y="237636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49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7"/>
                  </a:lnTo>
                  <a:lnTo>
                    <a:pt x="5302" y="540"/>
                  </a:lnTo>
                  <a:lnTo>
                    <a:pt x="3922" y="0"/>
                  </a:lnTo>
                  <a:lnTo>
                    <a:pt x="3630" y="287"/>
                  </a:lnTo>
                  <a:lnTo>
                    <a:pt x="449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602080" y="248436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7">
                  <a:moveTo>
                    <a:pt x="4852" y="989"/>
                  </a:moveTo>
                  <a:lnTo>
                    <a:pt x="5301" y="545"/>
                  </a:lnTo>
                  <a:lnTo>
                    <a:pt x="2072" y="548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7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76600" y="240048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301" h="1276">
                  <a:moveTo>
                    <a:pt x="4852" y="989"/>
                  </a:moveTo>
                  <a:lnTo>
                    <a:pt x="5301" y="544"/>
                  </a:lnTo>
                  <a:lnTo>
                    <a:pt x="2073" y="547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1219320" y="1905120"/>
            <a:ext cx="38088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"/>
          <p:cNvSpPr/>
          <p:nvPr/>
        </p:nvSpPr>
        <p:spPr>
          <a:xfrm>
            <a:off x="1143000" y="3048120"/>
            <a:ext cx="45720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838080" y="1523880"/>
            <a:ext cx="560520" cy="457200"/>
            <a:chOff x="838080" y="1523880"/>
            <a:chExt cx="560520" cy="457200"/>
          </a:xfrm>
        </p:grpSpPr>
        <p:sp>
          <p:nvSpPr>
            <p:cNvPr id="1330" name=""/>
            <p:cNvSpPr/>
            <p:nvPr/>
          </p:nvSpPr>
          <p:spPr>
            <a:xfrm>
              <a:off x="838080" y="180036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38080" y="180036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019160" y="193500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050840" y="193500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23840" y="190656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54080" y="1906560"/>
              <a:ext cx="33480" cy="12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38080" y="1963800"/>
              <a:ext cx="387360" cy="172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39880" y="1965240"/>
              <a:ext cx="38412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01880" y="1535040"/>
              <a:ext cx="38556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03320" y="1535040"/>
              <a:ext cx="38268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87440" y="152388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387440" y="152388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19160" y="1555920"/>
              <a:ext cx="34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020600" y="1557360"/>
              <a:ext cx="34632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36720" y="1812960"/>
              <a:ext cx="409320" cy="842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36720" y="1812960"/>
              <a:ext cx="409320" cy="842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39680" y="1922400"/>
              <a:ext cx="2880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1020600" y="1909800"/>
              <a:ext cx="68400" cy="42840"/>
              <a:chOff x="1020600" y="1909800"/>
              <a:chExt cx="68400" cy="42840"/>
            </a:xfrm>
          </p:grpSpPr>
          <p:sp>
            <p:nvSpPr>
              <p:cNvPr id="1348" name=""/>
              <p:cNvSpPr/>
              <p:nvPr/>
            </p:nvSpPr>
            <p:spPr>
              <a:xfrm>
                <a:off x="1020600" y="193824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052640" y="1938240"/>
                <a:ext cx="33120" cy="14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025640" y="1909800"/>
                <a:ext cx="34920" cy="11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055520" y="1909800"/>
                <a:ext cx="33480" cy="11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225440" y="180036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225440" y="180036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33440" y="178740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33440" y="1789200"/>
              <a:ext cx="28800" cy="144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1000080" y="1833480"/>
              <a:ext cx="32544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977400" y="1855800"/>
              <a:ext cx="32724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957240" y="1876320"/>
              <a:ext cx="32688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001880" y="152388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001880" y="152388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685800" y="2895480"/>
            <a:ext cx="560520" cy="457200"/>
            <a:chOff x="685800" y="2895480"/>
            <a:chExt cx="560520" cy="457200"/>
          </a:xfrm>
        </p:grpSpPr>
        <p:sp>
          <p:nvSpPr>
            <p:cNvPr id="1362" name=""/>
            <p:cNvSpPr/>
            <p:nvPr/>
          </p:nvSpPr>
          <p:spPr>
            <a:xfrm>
              <a:off x="685800" y="317196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85800" y="317196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66880" y="330660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98560" y="330660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71560" y="327816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901800" y="3278160"/>
              <a:ext cx="33120" cy="12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5800" y="3335400"/>
              <a:ext cx="387360" cy="172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87240" y="3336840"/>
              <a:ext cx="38448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49240" y="2906640"/>
              <a:ext cx="38592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51040" y="2906640"/>
              <a:ext cx="38232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35160" y="289548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35160" y="289548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66880" y="2927520"/>
              <a:ext cx="34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68320" y="2928960"/>
              <a:ext cx="34596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84080" y="3184560"/>
              <a:ext cx="409680" cy="84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84080" y="3184560"/>
              <a:ext cx="409680" cy="84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87400" y="3294000"/>
              <a:ext cx="2844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868320" y="3281400"/>
              <a:ext cx="68400" cy="42840"/>
              <a:chOff x="868320" y="3281400"/>
              <a:chExt cx="68400" cy="42840"/>
            </a:xfrm>
          </p:grpSpPr>
          <p:sp>
            <p:nvSpPr>
              <p:cNvPr id="1380" name=""/>
              <p:cNvSpPr/>
              <p:nvPr/>
            </p:nvSpPr>
            <p:spPr>
              <a:xfrm>
                <a:off x="868320" y="330984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900000" y="3309840"/>
                <a:ext cx="33480" cy="144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73000" y="3281400"/>
                <a:ext cx="34920" cy="11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903240" y="3281400"/>
                <a:ext cx="33480" cy="11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1073160" y="317196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3160" y="317196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181160" y="315900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181160" y="3160800"/>
              <a:ext cx="28440" cy="144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847800" y="3205080"/>
              <a:ext cx="32544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825480" y="3227400"/>
              <a:ext cx="32688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804960" y="3247920"/>
              <a:ext cx="32688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49240" y="2895480"/>
              <a:ext cx="397080" cy="111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49240" y="2895480"/>
              <a:ext cx="397080" cy="111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380880" y="2286000"/>
            <a:ext cx="560520" cy="457200"/>
            <a:chOff x="380880" y="2286000"/>
            <a:chExt cx="560520" cy="457200"/>
          </a:xfrm>
        </p:grpSpPr>
        <p:sp>
          <p:nvSpPr>
            <p:cNvPr id="1394" name=""/>
            <p:cNvSpPr/>
            <p:nvPr/>
          </p:nvSpPr>
          <p:spPr>
            <a:xfrm>
              <a:off x="380880" y="25621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0880" y="25621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61960" y="269712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3640" y="269712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66640" y="266868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96880" y="2668680"/>
              <a:ext cx="33480" cy="12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80880" y="2725560"/>
              <a:ext cx="387360" cy="1764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2680" y="2727360"/>
              <a:ext cx="38412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44680" y="2297160"/>
              <a:ext cx="38556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46120" y="2297160"/>
              <a:ext cx="38268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930240" y="2286000"/>
              <a:ext cx="11160" cy="27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30240" y="2286000"/>
              <a:ext cx="11160" cy="27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1960" y="2317680"/>
              <a:ext cx="34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3400" y="2319480"/>
              <a:ext cx="34632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9520" y="2575080"/>
              <a:ext cx="409320" cy="83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9520" y="2575080"/>
              <a:ext cx="409320" cy="83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2480" y="2684520"/>
              <a:ext cx="2880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563400" y="2671920"/>
              <a:ext cx="68400" cy="42840"/>
              <a:chOff x="563400" y="2671920"/>
              <a:chExt cx="68400" cy="42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563400" y="270036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95440" y="2700360"/>
                <a:ext cx="33120" cy="14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68440" y="2671920"/>
                <a:ext cx="34920" cy="10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98320" y="2671920"/>
                <a:ext cx="33480" cy="108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768240" y="256212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8240" y="256212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76240" y="254952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76240" y="2550960"/>
              <a:ext cx="28800" cy="180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542880" y="2595600"/>
              <a:ext cx="32544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520200" y="2617920"/>
              <a:ext cx="32724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500040" y="2638440"/>
              <a:ext cx="32688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4680" y="228600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4680" y="228600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6553080" y="2317680"/>
            <a:ext cx="609840" cy="453960"/>
            <a:chOff x="6553080" y="2317680"/>
            <a:chExt cx="609840" cy="453960"/>
          </a:xfrm>
        </p:grpSpPr>
        <p:sp>
          <p:nvSpPr>
            <p:cNvPr id="1426" name=""/>
            <p:cNvSpPr/>
            <p:nvPr/>
          </p:nvSpPr>
          <p:spPr>
            <a:xfrm>
              <a:off x="6554880" y="2506680"/>
              <a:ext cx="608040" cy="26496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3080" y="2452680"/>
              <a:ext cx="608040" cy="189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553080" y="2452680"/>
              <a:ext cx="608040" cy="189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554880" y="2317680"/>
              <a:ext cx="608040" cy="26532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6645240" y="2349360"/>
              <a:ext cx="422280" cy="201600"/>
              <a:chOff x="6645240" y="2349360"/>
              <a:chExt cx="422280" cy="20160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6645240" y="2349360"/>
                <a:ext cx="419040" cy="198720"/>
                <a:chOff x="6645240" y="2349360"/>
                <a:chExt cx="419040" cy="19872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864480" y="2354400"/>
                  <a:ext cx="199800" cy="83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48"/>
                      </a:moveTo>
                      <a:lnTo>
                        <a:pt x="41" y="62"/>
                      </a:lnTo>
                      <a:lnTo>
                        <a:pt x="142" y="20"/>
                      </a:lnTo>
                      <a:lnTo>
                        <a:pt x="187" y="34"/>
                      </a:lnTo>
                      <a:lnTo>
                        <a:pt x="162" y="0"/>
                      </a:lnTo>
                      <a:lnTo>
                        <a:pt x="45" y="0"/>
                      </a:lnTo>
                      <a:lnTo>
                        <a:pt x="93" y="1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6864480" y="2354400"/>
                  <a:ext cx="199800" cy="83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48"/>
                      </a:moveTo>
                      <a:lnTo>
                        <a:pt x="41" y="62"/>
                      </a:lnTo>
                      <a:lnTo>
                        <a:pt x="142" y="20"/>
                      </a:lnTo>
                      <a:lnTo>
                        <a:pt x="187" y="34"/>
                      </a:lnTo>
                      <a:lnTo>
                        <a:pt x="162" y="0"/>
                      </a:lnTo>
                      <a:lnTo>
                        <a:pt x="45" y="0"/>
                      </a:lnTo>
                      <a:lnTo>
                        <a:pt x="93" y="1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6645240" y="2452680"/>
                  <a:ext cx="198360" cy="88920"/>
                </a:xfrm>
                <a:custGeom>
                  <a:avLst/>
                  <a:gdLst>
                    <a:gd name="textAreaLeft" fmla="*/ 0 w 198360"/>
                    <a:gd name="textAreaRight" fmla="*/ 198720 w 1983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6" h="66">
                      <a:moveTo>
                        <a:pt x="186" y="14"/>
                      </a:moveTo>
                      <a:lnTo>
                        <a:pt x="145" y="0"/>
                      </a:lnTo>
                      <a:lnTo>
                        <a:pt x="48" y="42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645240" y="2452680"/>
                  <a:ext cx="198360" cy="88920"/>
                </a:xfrm>
                <a:custGeom>
                  <a:avLst/>
                  <a:gdLst>
                    <a:gd name="textAreaLeft" fmla="*/ 0 w 198360"/>
                    <a:gd name="textAreaRight" fmla="*/ 198720 w 1983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6" h="66">
                      <a:moveTo>
                        <a:pt x="186" y="14"/>
                      </a:moveTo>
                      <a:lnTo>
                        <a:pt x="145" y="0"/>
                      </a:lnTo>
                      <a:lnTo>
                        <a:pt x="48" y="42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656400" y="2349360"/>
                  <a:ext cx="200160" cy="860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14"/>
                      </a:moveTo>
                      <a:lnTo>
                        <a:pt x="41" y="0"/>
                      </a:lnTo>
                      <a:lnTo>
                        <a:pt x="142" y="38"/>
                      </a:lnTo>
                      <a:lnTo>
                        <a:pt x="187" y="28"/>
                      </a:lnTo>
                      <a:lnTo>
                        <a:pt x="163" y="63"/>
                      </a:lnTo>
                      <a:lnTo>
                        <a:pt x="45" y="63"/>
                      </a:lnTo>
                      <a:lnTo>
                        <a:pt x="93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656400" y="2349360"/>
                  <a:ext cx="200160" cy="860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14"/>
                      </a:moveTo>
                      <a:lnTo>
                        <a:pt x="41" y="0"/>
                      </a:lnTo>
                      <a:lnTo>
                        <a:pt x="142" y="38"/>
                      </a:lnTo>
                      <a:lnTo>
                        <a:pt x="187" y="28"/>
                      </a:lnTo>
                      <a:lnTo>
                        <a:pt x="163" y="63"/>
                      </a:lnTo>
                      <a:lnTo>
                        <a:pt x="45" y="63"/>
                      </a:lnTo>
                      <a:lnTo>
                        <a:pt x="93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856560" y="2462040"/>
                  <a:ext cx="199800" cy="8604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187" y="49"/>
                      </a:moveTo>
                      <a:lnTo>
                        <a:pt x="145" y="63"/>
                      </a:lnTo>
                      <a:lnTo>
                        <a:pt x="48" y="21"/>
                      </a:lnTo>
                      <a:lnTo>
                        <a:pt x="0" y="35"/>
                      </a:lnTo>
                      <a:lnTo>
                        <a:pt x="24" y="0"/>
                      </a:lnTo>
                      <a:lnTo>
                        <a:pt x="145" y="0"/>
                      </a:lnTo>
                      <a:lnTo>
                        <a:pt x="93" y="11"/>
                      </a:lnTo>
                      <a:lnTo>
                        <a:pt x="187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6856560" y="2462040"/>
                  <a:ext cx="199800" cy="8604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187" y="49"/>
                      </a:moveTo>
                      <a:lnTo>
                        <a:pt x="145" y="63"/>
                      </a:lnTo>
                      <a:lnTo>
                        <a:pt x="48" y="21"/>
                      </a:lnTo>
                      <a:lnTo>
                        <a:pt x="0" y="35"/>
                      </a:lnTo>
                      <a:lnTo>
                        <a:pt x="24" y="0"/>
                      </a:lnTo>
                      <a:lnTo>
                        <a:pt x="145" y="0"/>
                      </a:lnTo>
                      <a:lnTo>
                        <a:pt x="93" y="11"/>
                      </a:lnTo>
                      <a:lnTo>
                        <a:pt x="187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6648480" y="2354400"/>
                <a:ext cx="419040" cy="196560"/>
                <a:chOff x="6648480" y="2354400"/>
                <a:chExt cx="419040" cy="19656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6867360" y="2357280"/>
                  <a:ext cx="200160" cy="860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49"/>
                      </a:moveTo>
                      <a:lnTo>
                        <a:pt x="42" y="63"/>
                      </a:lnTo>
                      <a:lnTo>
                        <a:pt x="142" y="21"/>
                      </a:lnTo>
                      <a:lnTo>
                        <a:pt x="187" y="35"/>
                      </a:lnTo>
                      <a:lnTo>
                        <a:pt x="163" y="0"/>
                      </a:lnTo>
                      <a:lnTo>
                        <a:pt x="45" y="0"/>
                      </a:lnTo>
                      <a:lnTo>
                        <a:pt x="94" y="1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867360" y="2357280"/>
                  <a:ext cx="200160" cy="860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49"/>
                      </a:moveTo>
                      <a:lnTo>
                        <a:pt x="42" y="63"/>
                      </a:lnTo>
                      <a:lnTo>
                        <a:pt x="142" y="21"/>
                      </a:lnTo>
                      <a:lnTo>
                        <a:pt x="187" y="35"/>
                      </a:lnTo>
                      <a:lnTo>
                        <a:pt x="163" y="0"/>
                      </a:lnTo>
                      <a:lnTo>
                        <a:pt x="45" y="0"/>
                      </a:lnTo>
                      <a:lnTo>
                        <a:pt x="94" y="1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648480" y="2457360"/>
                  <a:ext cx="200160" cy="8892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7" h="66">
                      <a:moveTo>
                        <a:pt x="187" y="14"/>
                      </a:moveTo>
                      <a:lnTo>
                        <a:pt x="145" y="0"/>
                      </a:lnTo>
                      <a:lnTo>
                        <a:pt x="48" y="41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7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648480" y="2457360"/>
                  <a:ext cx="200160" cy="8892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7" h="66">
                      <a:moveTo>
                        <a:pt x="187" y="14"/>
                      </a:moveTo>
                      <a:lnTo>
                        <a:pt x="145" y="0"/>
                      </a:lnTo>
                      <a:lnTo>
                        <a:pt x="48" y="41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7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659640" y="2354400"/>
                  <a:ext cx="199800" cy="83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14"/>
                      </a:moveTo>
                      <a:lnTo>
                        <a:pt x="42" y="0"/>
                      </a:lnTo>
                      <a:lnTo>
                        <a:pt x="142" y="38"/>
                      </a:lnTo>
                      <a:lnTo>
                        <a:pt x="187" y="27"/>
                      </a:lnTo>
                      <a:lnTo>
                        <a:pt x="163" y="62"/>
                      </a:lnTo>
                      <a:lnTo>
                        <a:pt x="45" y="62"/>
                      </a:lnTo>
                      <a:lnTo>
                        <a:pt x="94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659640" y="2354400"/>
                  <a:ext cx="199800" cy="83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14"/>
                      </a:moveTo>
                      <a:lnTo>
                        <a:pt x="42" y="0"/>
                      </a:lnTo>
                      <a:lnTo>
                        <a:pt x="142" y="38"/>
                      </a:lnTo>
                      <a:lnTo>
                        <a:pt x="187" y="27"/>
                      </a:lnTo>
                      <a:lnTo>
                        <a:pt x="163" y="62"/>
                      </a:lnTo>
                      <a:lnTo>
                        <a:pt x="45" y="62"/>
                      </a:lnTo>
                      <a:lnTo>
                        <a:pt x="94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859440" y="2467080"/>
                  <a:ext cx="200160" cy="8388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187" y="48"/>
                      </a:moveTo>
                      <a:lnTo>
                        <a:pt x="146" y="62"/>
                      </a:lnTo>
                      <a:lnTo>
                        <a:pt x="49" y="21"/>
                      </a:lnTo>
                      <a:lnTo>
                        <a:pt x="0" y="34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10"/>
                      </a:lnTo>
                      <a:lnTo>
                        <a:pt x="18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859440" y="2467080"/>
                  <a:ext cx="200160" cy="8388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187" y="48"/>
                      </a:moveTo>
                      <a:lnTo>
                        <a:pt x="146" y="62"/>
                      </a:lnTo>
                      <a:lnTo>
                        <a:pt x="49" y="21"/>
                      </a:lnTo>
                      <a:lnTo>
                        <a:pt x="0" y="34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10"/>
                      </a:lnTo>
                      <a:lnTo>
                        <a:pt x="18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449" name=""/>
            <p:cNvSpPr/>
            <p:nvPr/>
          </p:nvSpPr>
          <p:spPr>
            <a:xfrm>
              <a:off x="6553080" y="2448000"/>
              <a:ext cx="1800" cy="1890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161120" y="2448000"/>
              <a:ext cx="1800" cy="18900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4638600" y="2286000"/>
            <a:ext cx="771480" cy="380880"/>
            <a:chOff x="4638600" y="2286000"/>
            <a:chExt cx="771480" cy="380880"/>
          </a:xfrm>
        </p:grpSpPr>
        <p:sp>
          <p:nvSpPr>
            <p:cNvPr id="1452" name=""/>
            <p:cNvSpPr/>
            <p:nvPr/>
          </p:nvSpPr>
          <p:spPr>
            <a:xfrm>
              <a:off x="4641840" y="2495520"/>
              <a:ext cx="587520" cy="16848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638600" y="249552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49">
                  <a:moveTo>
                    <a:pt x="56" y="3149"/>
                  </a:moveTo>
                  <a:lnTo>
                    <a:pt x="113" y="309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3"/>
                  </a:lnTo>
                  <a:lnTo>
                    <a:pt x="56" y="3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41840" y="2660760"/>
              <a:ext cx="588960" cy="61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462" h="113">
                  <a:moveTo>
                    <a:pt x="12462" y="57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2406" y="113"/>
                  </a:lnTo>
                  <a:lnTo>
                    <a:pt x="12462" y="5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226120" y="2492280"/>
              <a:ext cx="4680" cy="171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12" h="3149">
                  <a:moveTo>
                    <a:pt x="56" y="0"/>
                  </a:moveTo>
                  <a:lnTo>
                    <a:pt x="0" y="56"/>
                  </a:lnTo>
                  <a:lnTo>
                    <a:pt x="0" y="3149"/>
                  </a:lnTo>
                  <a:lnTo>
                    <a:pt x="112" y="3149"/>
                  </a:lnTo>
                  <a:lnTo>
                    <a:pt x="112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38600" y="249228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2">
                  <a:moveTo>
                    <a:pt x="0" y="56"/>
                  </a:moveTo>
                  <a:lnTo>
                    <a:pt x="56" y="112"/>
                  </a:lnTo>
                  <a:lnTo>
                    <a:pt x="12462" y="112"/>
                  </a:lnTo>
                  <a:lnTo>
                    <a:pt x="12462" y="0"/>
                  </a:lnTo>
                  <a:lnTo>
                    <a:pt x="56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27560" y="2289240"/>
              <a:ext cx="177840" cy="3747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778" h="6860">
                  <a:moveTo>
                    <a:pt x="0" y="3767"/>
                  </a:moveTo>
                  <a:lnTo>
                    <a:pt x="3778" y="0"/>
                  </a:lnTo>
                  <a:lnTo>
                    <a:pt x="3778" y="3096"/>
                  </a:lnTo>
                  <a:lnTo>
                    <a:pt x="0" y="6860"/>
                  </a:lnTo>
                  <a:lnTo>
                    <a:pt x="0" y="376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26120" y="228744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3" h="3847">
                  <a:moveTo>
                    <a:pt x="3873" y="40"/>
                  </a:moveTo>
                  <a:lnTo>
                    <a:pt x="3777" y="0"/>
                  </a:lnTo>
                  <a:lnTo>
                    <a:pt x="0" y="3768"/>
                  </a:lnTo>
                  <a:lnTo>
                    <a:pt x="79" y="3847"/>
                  </a:lnTo>
                  <a:lnTo>
                    <a:pt x="3857" y="79"/>
                  </a:lnTo>
                  <a:lnTo>
                    <a:pt x="3873" y="4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405400" y="228924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35">
                  <a:moveTo>
                    <a:pt x="97" y="3135"/>
                  </a:moveTo>
                  <a:lnTo>
                    <a:pt x="113" y="3096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6"/>
                  </a:lnTo>
                  <a:lnTo>
                    <a:pt x="97" y="31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226120" y="24559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4" h="3844">
                  <a:moveTo>
                    <a:pt x="0" y="3804"/>
                  </a:moveTo>
                  <a:lnTo>
                    <a:pt x="96" y="3844"/>
                  </a:lnTo>
                  <a:lnTo>
                    <a:pt x="3874" y="79"/>
                  </a:lnTo>
                  <a:lnTo>
                    <a:pt x="3794" y="0"/>
                  </a:lnTo>
                  <a:lnTo>
                    <a:pt x="17" y="3765"/>
                  </a:lnTo>
                  <a:lnTo>
                    <a:pt x="0" y="380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226120" y="2492280"/>
              <a:ext cx="4680" cy="171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12" h="3132">
                  <a:moveTo>
                    <a:pt x="17" y="0"/>
                  </a:moveTo>
                  <a:lnTo>
                    <a:pt x="0" y="39"/>
                  </a:lnTo>
                  <a:lnTo>
                    <a:pt x="0" y="3132"/>
                  </a:lnTo>
                  <a:lnTo>
                    <a:pt x="112" y="3132"/>
                  </a:lnTo>
                  <a:lnTo>
                    <a:pt x="112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41840" y="2289240"/>
              <a:ext cx="766800" cy="206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6184" h="3767">
                  <a:moveTo>
                    <a:pt x="12406" y="3767"/>
                  </a:moveTo>
                  <a:lnTo>
                    <a:pt x="16184" y="0"/>
                  </a:lnTo>
                  <a:lnTo>
                    <a:pt x="3778" y="0"/>
                  </a:lnTo>
                  <a:lnTo>
                    <a:pt x="0" y="3767"/>
                  </a:lnTo>
                  <a:lnTo>
                    <a:pt x="12406" y="3767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226120" y="2286000"/>
              <a:ext cx="181080" cy="21096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857" h="3863">
                  <a:moveTo>
                    <a:pt x="3817" y="0"/>
                  </a:moveTo>
                  <a:lnTo>
                    <a:pt x="3777" y="16"/>
                  </a:lnTo>
                  <a:lnTo>
                    <a:pt x="0" y="3784"/>
                  </a:lnTo>
                  <a:lnTo>
                    <a:pt x="79" y="3863"/>
                  </a:lnTo>
                  <a:lnTo>
                    <a:pt x="3857" y="95"/>
                  </a:lnTo>
                  <a:lnTo>
                    <a:pt x="38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18240" y="228600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3">
                  <a:moveTo>
                    <a:pt x="0" y="16"/>
                  </a:moveTo>
                  <a:lnTo>
                    <a:pt x="40" y="113"/>
                  </a:lnTo>
                  <a:lnTo>
                    <a:pt x="12446" y="113"/>
                  </a:lnTo>
                  <a:lnTo>
                    <a:pt x="12446" y="0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640400" y="2287440"/>
              <a:ext cx="180720" cy="211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857" h="3863">
                  <a:moveTo>
                    <a:pt x="40" y="3863"/>
                  </a:moveTo>
                  <a:lnTo>
                    <a:pt x="80" y="3847"/>
                  </a:lnTo>
                  <a:lnTo>
                    <a:pt x="3857" y="79"/>
                  </a:lnTo>
                  <a:lnTo>
                    <a:pt x="3778" y="0"/>
                  </a:lnTo>
                  <a:lnTo>
                    <a:pt x="0" y="3768"/>
                  </a:lnTo>
                  <a:lnTo>
                    <a:pt x="40" y="3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641840" y="249228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2">
                  <a:moveTo>
                    <a:pt x="12446" y="96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2406" y="112"/>
                  </a:lnTo>
                  <a:lnTo>
                    <a:pt x="12446" y="9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84920" y="237816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29" y="287"/>
                  </a:lnTo>
                  <a:lnTo>
                    <a:pt x="450" y="2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57640" y="229392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30" y="287"/>
                  </a:lnTo>
                  <a:lnTo>
                    <a:pt x="450" y="2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721400" y="240192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852" y="989"/>
                  </a:moveTo>
                  <a:lnTo>
                    <a:pt x="5302" y="544"/>
                  </a:lnTo>
                  <a:lnTo>
                    <a:pt x="2072" y="547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2" y="988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794120" y="23176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853" y="989"/>
                  </a:moveTo>
                  <a:lnTo>
                    <a:pt x="5302" y="545"/>
                  </a:lnTo>
                  <a:lnTo>
                    <a:pt x="2072" y="549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80" y="1277"/>
                  </a:lnTo>
                  <a:lnTo>
                    <a:pt x="1672" y="989"/>
                  </a:lnTo>
                  <a:lnTo>
                    <a:pt x="4853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89600" y="238284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6">
                  <a:moveTo>
                    <a:pt x="449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1" y="539"/>
                  </a:lnTo>
                  <a:lnTo>
                    <a:pt x="3922" y="0"/>
                  </a:lnTo>
                  <a:lnTo>
                    <a:pt x="3630" y="286"/>
                  </a:lnTo>
                  <a:lnTo>
                    <a:pt x="449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062680" y="2300400"/>
              <a:ext cx="250560" cy="680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5302" h="1277">
                  <a:moveTo>
                    <a:pt x="449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7"/>
                  </a:lnTo>
                  <a:lnTo>
                    <a:pt x="5302" y="540"/>
                  </a:lnTo>
                  <a:lnTo>
                    <a:pt x="3922" y="0"/>
                  </a:lnTo>
                  <a:lnTo>
                    <a:pt x="3630" y="287"/>
                  </a:lnTo>
                  <a:lnTo>
                    <a:pt x="449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726080" y="240840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7">
                  <a:moveTo>
                    <a:pt x="4852" y="989"/>
                  </a:moveTo>
                  <a:lnTo>
                    <a:pt x="5301" y="545"/>
                  </a:lnTo>
                  <a:lnTo>
                    <a:pt x="2072" y="548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7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00600" y="232416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301" h="1276">
                  <a:moveTo>
                    <a:pt x="4852" y="989"/>
                  </a:moveTo>
                  <a:lnTo>
                    <a:pt x="5301" y="544"/>
                  </a:lnTo>
                  <a:lnTo>
                    <a:pt x="2073" y="547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5" name=""/>
          <p:cNvSpPr/>
          <p:nvPr/>
        </p:nvSpPr>
        <p:spPr>
          <a:xfrm flipV="1">
            <a:off x="1600200" y="1522440"/>
            <a:ext cx="1440" cy="1908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/>
          <p:nvPr/>
        </p:nvSpPr>
        <p:spPr>
          <a:xfrm>
            <a:off x="4713120" y="1936800"/>
            <a:ext cx="743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"/>
          <p:cNvSpPr/>
          <p:nvPr/>
        </p:nvSpPr>
        <p:spPr>
          <a:xfrm>
            <a:off x="2543040" y="2013120"/>
            <a:ext cx="743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"/>
          <p:cNvSpPr/>
          <p:nvPr/>
        </p:nvSpPr>
        <p:spPr>
          <a:xfrm>
            <a:off x="7327800" y="1920960"/>
            <a:ext cx="1600200" cy="10065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/>
          <p:nvPr/>
        </p:nvSpPr>
        <p:spPr>
          <a:xfrm>
            <a:off x="7093080" y="2971800"/>
            <a:ext cx="22032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360" rIns="540360" tIns="270000" bIns="27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rus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"/>
          <p:cNvSpPr/>
          <p:nvPr/>
        </p:nvSpPr>
        <p:spPr>
          <a:xfrm>
            <a:off x="5943600" y="2851200"/>
            <a:ext cx="144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"/>
          <p:cNvSpPr/>
          <p:nvPr/>
        </p:nvSpPr>
        <p:spPr>
          <a:xfrm>
            <a:off x="5535720" y="4791240"/>
            <a:ext cx="1440" cy="455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"/>
          <p:cNvSpPr/>
          <p:nvPr/>
        </p:nvSpPr>
        <p:spPr>
          <a:xfrm>
            <a:off x="6297480" y="4791240"/>
            <a:ext cx="1800" cy="455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5267160" y="5019840"/>
            <a:ext cx="412920" cy="658800"/>
            <a:chOff x="5267160" y="5019840"/>
            <a:chExt cx="412920" cy="658800"/>
          </a:xfrm>
        </p:grpSpPr>
        <p:sp>
          <p:nvSpPr>
            <p:cNvPr id="1484" name=""/>
            <p:cNvSpPr/>
            <p:nvPr/>
          </p:nvSpPr>
          <p:spPr>
            <a:xfrm>
              <a:off x="5267160" y="5067360"/>
              <a:ext cx="36360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268960" y="506880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267160" y="501984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267160" y="501984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291280" y="510552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311800" y="5145120"/>
              <a:ext cx="11592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30760" y="501984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30760" y="501984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270400" y="5638680"/>
              <a:ext cx="3603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70400" y="5313240"/>
              <a:ext cx="3603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67160" y="563400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267160" y="530856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289480" y="5103720"/>
              <a:ext cx="162000" cy="74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6099120" y="5019840"/>
            <a:ext cx="412920" cy="658800"/>
            <a:chOff x="6099120" y="5019840"/>
            <a:chExt cx="412920" cy="658800"/>
          </a:xfrm>
        </p:grpSpPr>
        <p:sp>
          <p:nvSpPr>
            <p:cNvPr id="1498" name=""/>
            <p:cNvSpPr/>
            <p:nvPr/>
          </p:nvSpPr>
          <p:spPr>
            <a:xfrm>
              <a:off x="6099120" y="5067360"/>
              <a:ext cx="36360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00920" y="506880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099120" y="501984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99120" y="501984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122880" y="5105520"/>
              <a:ext cx="16380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43760" y="5145120"/>
              <a:ext cx="11592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462720" y="501984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62720" y="501984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02360" y="5638680"/>
              <a:ext cx="3603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02360" y="5313240"/>
              <a:ext cx="36036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099120" y="563400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99120" y="5308560"/>
              <a:ext cx="363600" cy="180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121440" y="5103720"/>
              <a:ext cx="162000" cy="74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5334120" y="4800600"/>
            <a:ext cx="121896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"/>
          <p:cNvSpPr/>
          <p:nvPr/>
        </p:nvSpPr>
        <p:spPr>
          <a:xfrm>
            <a:off x="5910120" y="5651640"/>
            <a:ext cx="777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"/>
          <p:cNvSpPr/>
          <p:nvPr/>
        </p:nvSpPr>
        <p:spPr>
          <a:xfrm>
            <a:off x="5046840" y="5651640"/>
            <a:ext cx="777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/>
          <p:nvPr/>
        </p:nvSpPr>
        <p:spPr>
          <a:xfrm>
            <a:off x="5105520" y="6095880"/>
            <a:ext cx="213336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360" rIns="540360" tIns="270000" bIns="27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D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"/>
          <p:cNvSpPr/>
          <p:nvPr/>
        </p:nvSpPr>
        <p:spPr>
          <a:xfrm>
            <a:off x="6429240" y="3505320"/>
            <a:ext cx="743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"/>
          <p:cNvSpPr/>
          <p:nvPr/>
        </p:nvSpPr>
        <p:spPr>
          <a:xfrm>
            <a:off x="5257800" y="3641760"/>
            <a:ext cx="762120" cy="1440"/>
          </a:xfrm>
          <a:prstGeom prst="line">
            <a:avLst/>
          </a:prstGeom>
          <a:ln w="50760">
            <a:solidFill>
              <a:srgbClr val="cf0e3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"/>
          <p:cNvSpPr/>
          <p:nvPr/>
        </p:nvSpPr>
        <p:spPr>
          <a:xfrm>
            <a:off x="5410080" y="4419720"/>
            <a:ext cx="53352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952880" y="4191120"/>
            <a:ext cx="609840" cy="380880"/>
            <a:chOff x="4952880" y="4191120"/>
            <a:chExt cx="609840" cy="380880"/>
          </a:xfrm>
        </p:grpSpPr>
        <p:grpSp>
          <p:nvGrpSpPr>
            <p:cNvPr id="1519" name=""/>
            <p:cNvGrpSpPr/>
            <p:nvPr/>
          </p:nvGrpSpPr>
          <p:grpSpPr>
            <a:xfrm>
              <a:off x="4952880" y="4191120"/>
              <a:ext cx="609840" cy="380880"/>
              <a:chOff x="4952880" y="4191120"/>
              <a:chExt cx="609840" cy="380880"/>
            </a:xfrm>
          </p:grpSpPr>
          <p:sp>
            <p:nvSpPr>
              <p:cNvPr id="1520" name=""/>
              <p:cNvSpPr/>
              <p:nvPr/>
            </p:nvSpPr>
            <p:spPr>
              <a:xfrm>
                <a:off x="4952880" y="4254480"/>
                <a:ext cx="55404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954680" y="4255920"/>
                <a:ext cx="550800" cy="31284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506920" y="4191120"/>
                <a:ext cx="55800" cy="3808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06920" y="4191120"/>
                <a:ext cx="55800" cy="3808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952880" y="4191120"/>
                <a:ext cx="609840" cy="6336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952880" y="4191120"/>
                <a:ext cx="609840" cy="6336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>
              <a:off x="5122800" y="4286160"/>
              <a:ext cx="227160" cy="26208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119560" y="4281480"/>
              <a:ext cx="225720" cy="26208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5005440" y="4305240"/>
              <a:ext cx="452520" cy="219240"/>
              <a:chOff x="5005440" y="4305240"/>
              <a:chExt cx="452520" cy="219240"/>
            </a:xfrm>
          </p:grpSpPr>
          <p:sp>
            <p:nvSpPr>
              <p:cNvPr id="1529" name=""/>
              <p:cNvSpPr/>
              <p:nvPr/>
            </p:nvSpPr>
            <p:spPr>
              <a:xfrm>
                <a:off x="5005440" y="444348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005440" y="444348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005440" y="430524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005440" y="430524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008680" y="444672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008680" y="444672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008680" y="430992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008680" y="430992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7" name=""/>
          <p:cNvGrpSpPr/>
          <p:nvPr/>
        </p:nvGrpSpPr>
        <p:grpSpPr>
          <a:xfrm>
            <a:off x="5562720" y="3565440"/>
            <a:ext cx="771480" cy="381240"/>
            <a:chOff x="5562720" y="3565440"/>
            <a:chExt cx="771480" cy="381240"/>
          </a:xfrm>
        </p:grpSpPr>
        <p:sp>
          <p:nvSpPr>
            <p:cNvPr id="1538" name=""/>
            <p:cNvSpPr/>
            <p:nvPr/>
          </p:nvSpPr>
          <p:spPr>
            <a:xfrm>
              <a:off x="5565600" y="3774960"/>
              <a:ext cx="587520" cy="16848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562720" y="3774960"/>
              <a:ext cx="4680" cy="171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13" h="3149">
                  <a:moveTo>
                    <a:pt x="56" y="3149"/>
                  </a:moveTo>
                  <a:lnTo>
                    <a:pt x="113" y="309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3"/>
                  </a:lnTo>
                  <a:lnTo>
                    <a:pt x="56" y="3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565600" y="394020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3">
                  <a:moveTo>
                    <a:pt x="12462" y="57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2406" y="113"/>
                  </a:lnTo>
                  <a:lnTo>
                    <a:pt x="12462" y="5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149880" y="377208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49">
                  <a:moveTo>
                    <a:pt x="56" y="0"/>
                  </a:moveTo>
                  <a:lnTo>
                    <a:pt x="0" y="56"/>
                  </a:lnTo>
                  <a:lnTo>
                    <a:pt x="0" y="3149"/>
                  </a:lnTo>
                  <a:lnTo>
                    <a:pt x="112" y="3149"/>
                  </a:lnTo>
                  <a:lnTo>
                    <a:pt x="112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562720" y="3772080"/>
              <a:ext cx="588960" cy="61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462" h="112">
                  <a:moveTo>
                    <a:pt x="0" y="56"/>
                  </a:moveTo>
                  <a:lnTo>
                    <a:pt x="56" y="112"/>
                  </a:lnTo>
                  <a:lnTo>
                    <a:pt x="12462" y="112"/>
                  </a:lnTo>
                  <a:lnTo>
                    <a:pt x="12462" y="0"/>
                  </a:lnTo>
                  <a:lnTo>
                    <a:pt x="56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53120" y="3568680"/>
              <a:ext cx="177840" cy="3747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778" h="6860">
                  <a:moveTo>
                    <a:pt x="0" y="3767"/>
                  </a:moveTo>
                  <a:lnTo>
                    <a:pt x="3778" y="0"/>
                  </a:lnTo>
                  <a:lnTo>
                    <a:pt x="3778" y="3096"/>
                  </a:lnTo>
                  <a:lnTo>
                    <a:pt x="0" y="6860"/>
                  </a:lnTo>
                  <a:lnTo>
                    <a:pt x="0" y="376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151680" y="356724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3" h="3847">
                  <a:moveTo>
                    <a:pt x="3873" y="40"/>
                  </a:moveTo>
                  <a:lnTo>
                    <a:pt x="3777" y="0"/>
                  </a:lnTo>
                  <a:lnTo>
                    <a:pt x="0" y="3768"/>
                  </a:lnTo>
                  <a:lnTo>
                    <a:pt x="79" y="3847"/>
                  </a:lnTo>
                  <a:lnTo>
                    <a:pt x="3857" y="79"/>
                  </a:lnTo>
                  <a:lnTo>
                    <a:pt x="3873" y="4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29520" y="356868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35">
                  <a:moveTo>
                    <a:pt x="97" y="3135"/>
                  </a:moveTo>
                  <a:lnTo>
                    <a:pt x="113" y="3096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6"/>
                  </a:lnTo>
                  <a:lnTo>
                    <a:pt x="97" y="31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49880" y="373536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4" h="3844">
                  <a:moveTo>
                    <a:pt x="0" y="3804"/>
                  </a:moveTo>
                  <a:lnTo>
                    <a:pt x="96" y="3844"/>
                  </a:lnTo>
                  <a:lnTo>
                    <a:pt x="3874" y="79"/>
                  </a:lnTo>
                  <a:lnTo>
                    <a:pt x="3794" y="0"/>
                  </a:lnTo>
                  <a:lnTo>
                    <a:pt x="17" y="3765"/>
                  </a:lnTo>
                  <a:lnTo>
                    <a:pt x="0" y="380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149880" y="377208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32">
                  <a:moveTo>
                    <a:pt x="17" y="0"/>
                  </a:moveTo>
                  <a:lnTo>
                    <a:pt x="0" y="39"/>
                  </a:lnTo>
                  <a:lnTo>
                    <a:pt x="0" y="3132"/>
                  </a:lnTo>
                  <a:lnTo>
                    <a:pt x="112" y="3132"/>
                  </a:lnTo>
                  <a:lnTo>
                    <a:pt x="112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65600" y="3568680"/>
              <a:ext cx="766800" cy="206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6184" h="3767">
                  <a:moveTo>
                    <a:pt x="12406" y="3767"/>
                  </a:moveTo>
                  <a:lnTo>
                    <a:pt x="16184" y="0"/>
                  </a:lnTo>
                  <a:lnTo>
                    <a:pt x="3778" y="0"/>
                  </a:lnTo>
                  <a:lnTo>
                    <a:pt x="0" y="3767"/>
                  </a:lnTo>
                  <a:lnTo>
                    <a:pt x="12406" y="3767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1680" y="3565440"/>
              <a:ext cx="180720" cy="211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857" h="3863">
                  <a:moveTo>
                    <a:pt x="3817" y="0"/>
                  </a:moveTo>
                  <a:lnTo>
                    <a:pt x="3777" y="16"/>
                  </a:lnTo>
                  <a:lnTo>
                    <a:pt x="0" y="3784"/>
                  </a:lnTo>
                  <a:lnTo>
                    <a:pt x="79" y="3863"/>
                  </a:lnTo>
                  <a:lnTo>
                    <a:pt x="3857" y="95"/>
                  </a:lnTo>
                  <a:lnTo>
                    <a:pt x="38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742000" y="356544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3">
                  <a:moveTo>
                    <a:pt x="0" y="16"/>
                  </a:moveTo>
                  <a:lnTo>
                    <a:pt x="40" y="113"/>
                  </a:lnTo>
                  <a:lnTo>
                    <a:pt x="12446" y="113"/>
                  </a:lnTo>
                  <a:lnTo>
                    <a:pt x="12446" y="0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564160" y="3567240"/>
              <a:ext cx="181080" cy="21096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857" h="3863">
                  <a:moveTo>
                    <a:pt x="40" y="3863"/>
                  </a:moveTo>
                  <a:lnTo>
                    <a:pt x="80" y="3847"/>
                  </a:lnTo>
                  <a:lnTo>
                    <a:pt x="3857" y="79"/>
                  </a:lnTo>
                  <a:lnTo>
                    <a:pt x="3778" y="0"/>
                  </a:lnTo>
                  <a:lnTo>
                    <a:pt x="0" y="3768"/>
                  </a:lnTo>
                  <a:lnTo>
                    <a:pt x="40" y="3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65600" y="3772080"/>
              <a:ext cx="588960" cy="612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446" h="112">
                  <a:moveTo>
                    <a:pt x="12446" y="96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2406" y="112"/>
                  </a:lnTo>
                  <a:lnTo>
                    <a:pt x="12446" y="9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908680" y="365760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29" y="287"/>
                  </a:lnTo>
                  <a:lnTo>
                    <a:pt x="450" y="2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81760" y="357336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30" y="287"/>
                  </a:lnTo>
                  <a:lnTo>
                    <a:pt x="450" y="2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45160" y="368136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852" y="989"/>
                  </a:moveTo>
                  <a:lnTo>
                    <a:pt x="5302" y="544"/>
                  </a:lnTo>
                  <a:lnTo>
                    <a:pt x="2072" y="547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2" y="988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18240" y="359712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853" y="989"/>
                  </a:moveTo>
                  <a:lnTo>
                    <a:pt x="5302" y="545"/>
                  </a:lnTo>
                  <a:lnTo>
                    <a:pt x="2072" y="549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80" y="1277"/>
                  </a:lnTo>
                  <a:lnTo>
                    <a:pt x="1672" y="989"/>
                  </a:lnTo>
                  <a:lnTo>
                    <a:pt x="4853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913360" y="366228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6">
                  <a:moveTo>
                    <a:pt x="449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1" y="539"/>
                  </a:lnTo>
                  <a:lnTo>
                    <a:pt x="3922" y="0"/>
                  </a:lnTo>
                  <a:lnTo>
                    <a:pt x="3630" y="286"/>
                  </a:lnTo>
                  <a:lnTo>
                    <a:pt x="449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86440" y="357984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49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7"/>
                  </a:lnTo>
                  <a:lnTo>
                    <a:pt x="5302" y="540"/>
                  </a:lnTo>
                  <a:lnTo>
                    <a:pt x="3922" y="0"/>
                  </a:lnTo>
                  <a:lnTo>
                    <a:pt x="3630" y="287"/>
                  </a:lnTo>
                  <a:lnTo>
                    <a:pt x="449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649840" y="368784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7">
                  <a:moveTo>
                    <a:pt x="4852" y="989"/>
                  </a:moveTo>
                  <a:lnTo>
                    <a:pt x="5301" y="545"/>
                  </a:lnTo>
                  <a:lnTo>
                    <a:pt x="2072" y="548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7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24360" y="360360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301" h="1276">
                  <a:moveTo>
                    <a:pt x="4852" y="989"/>
                  </a:moveTo>
                  <a:lnTo>
                    <a:pt x="5301" y="544"/>
                  </a:lnTo>
                  <a:lnTo>
                    <a:pt x="2073" y="547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5943600" y="3886200"/>
            <a:ext cx="1440" cy="914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"/>
          <p:cNvSpPr/>
          <p:nvPr/>
        </p:nvSpPr>
        <p:spPr>
          <a:xfrm>
            <a:off x="5257800" y="3657600"/>
            <a:ext cx="1440" cy="533520"/>
          </a:xfrm>
          <a:prstGeom prst="line">
            <a:avLst/>
          </a:prstGeom>
          <a:ln w="50760">
            <a:solidFill>
              <a:srgbClr val="cf0e3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"/>
          <p:cNvSpPr/>
          <p:nvPr/>
        </p:nvSpPr>
        <p:spPr>
          <a:xfrm>
            <a:off x="4495680" y="3505320"/>
            <a:ext cx="7621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66C0E-5C52-4175-9115-0666658864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"/>
          <p:cNvSpPr/>
          <p:nvPr/>
        </p:nvSpPr>
        <p:spPr>
          <a:xfrm>
            <a:off x="380880" y="6356520"/>
            <a:ext cx="403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 flipV="1">
            <a:off x="6629400" y="4113000"/>
            <a:ext cx="1440" cy="12222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"/>
          <p:cNvSpPr/>
          <p:nvPr/>
        </p:nvSpPr>
        <p:spPr>
          <a:xfrm>
            <a:off x="457200" y="-1144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IDS and IPS deployment example in an Enterprise Net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"/>
          <p:cNvSpPr/>
          <p:nvPr/>
        </p:nvSpPr>
        <p:spPr>
          <a:xfrm>
            <a:off x="5334120" y="1279440"/>
            <a:ext cx="196344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360" rIns="540360" tIns="270000" bIns="27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8153280" y="2268000"/>
            <a:ext cx="1800" cy="536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8153280" y="2801520"/>
            <a:ext cx="1800" cy="8413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"/>
          <p:cNvSpPr/>
          <p:nvPr/>
        </p:nvSpPr>
        <p:spPr>
          <a:xfrm>
            <a:off x="5257800" y="3990960"/>
            <a:ext cx="225252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"/>
          <p:cNvSpPr/>
          <p:nvPr/>
        </p:nvSpPr>
        <p:spPr>
          <a:xfrm>
            <a:off x="228600" y="2498760"/>
            <a:ext cx="1905120" cy="2895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"/>
          <p:cNvSpPr/>
          <p:nvPr/>
        </p:nvSpPr>
        <p:spPr>
          <a:xfrm>
            <a:off x="1587960" y="5286240"/>
            <a:ext cx="129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0" y="3990960"/>
            <a:ext cx="144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"/>
          <p:cNvSpPr/>
          <p:nvPr/>
        </p:nvSpPr>
        <p:spPr>
          <a:xfrm>
            <a:off x="3603600" y="4083120"/>
            <a:ext cx="787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"/>
          <p:cNvSpPr/>
          <p:nvPr/>
        </p:nvSpPr>
        <p:spPr>
          <a:xfrm>
            <a:off x="6201000" y="3413160"/>
            <a:ext cx="839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"/>
          <p:cNvSpPr/>
          <p:nvPr/>
        </p:nvSpPr>
        <p:spPr>
          <a:xfrm>
            <a:off x="947880" y="3979800"/>
            <a:ext cx="2252520" cy="1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"/>
          <p:cNvSpPr/>
          <p:nvPr/>
        </p:nvSpPr>
        <p:spPr>
          <a:xfrm>
            <a:off x="3276720" y="3962520"/>
            <a:ext cx="144756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3657600" y="3746520"/>
            <a:ext cx="657360" cy="404640"/>
            <a:chOff x="3657600" y="3746520"/>
            <a:chExt cx="657360" cy="404640"/>
          </a:xfrm>
        </p:grpSpPr>
        <p:grpSp>
          <p:nvGrpSpPr>
            <p:cNvPr id="1580" name=""/>
            <p:cNvGrpSpPr/>
            <p:nvPr/>
          </p:nvGrpSpPr>
          <p:grpSpPr>
            <a:xfrm>
              <a:off x="3657600" y="3746520"/>
              <a:ext cx="657360" cy="404640"/>
              <a:chOff x="3657600" y="3746520"/>
              <a:chExt cx="657360" cy="404640"/>
            </a:xfrm>
          </p:grpSpPr>
          <p:sp>
            <p:nvSpPr>
              <p:cNvPr id="1581" name=""/>
              <p:cNvSpPr/>
              <p:nvPr/>
            </p:nvSpPr>
            <p:spPr>
              <a:xfrm>
                <a:off x="3657600" y="3814920"/>
                <a:ext cx="596880" cy="3362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59040" y="3816360"/>
                <a:ext cx="594000" cy="33336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254480" y="3746520"/>
                <a:ext cx="60480" cy="4046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254480" y="3746520"/>
                <a:ext cx="60480" cy="4046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657600" y="3746520"/>
                <a:ext cx="657360" cy="6840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657600" y="3746520"/>
                <a:ext cx="657360" cy="6840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3840120" y="3848040"/>
              <a:ext cx="244440" cy="2793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36880" y="3843360"/>
              <a:ext cx="243000" cy="27792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9" name=""/>
            <p:cNvGrpSpPr/>
            <p:nvPr/>
          </p:nvGrpSpPr>
          <p:grpSpPr>
            <a:xfrm>
              <a:off x="3714840" y="3868560"/>
              <a:ext cx="487440" cy="233640"/>
              <a:chOff x="3714840" y="3868560"/>
              <a:chExt cx="487440" cy="233640"/>
            </a:xfrm>
          </p:grpSpPr>
          <p:sp>
            <p:nvSpPr>
              <p:cNvPr id="1590" name=""/>
              <p:cNvSpPr/>
              <p:nvPr/>
            </p:nvSpPr>
            <p:spPr>
              <a:xfrm>
                <a:off x="3714840" y="401472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14840" y="401472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714840" y="3868560"/>
                <a:ext cx="484200" cy="8280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14840" y="3868560"/>
                <a:ext cx="484200" cy="8280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718080" y="4019400"/>
                <a:ext cx="484200" cy="8280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718080" y="4019400"/>
                <a:ext cx="484200" cy="8280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718080" y="387360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718080" y="3873600"/>
                <a:ext cx="484200" cy="824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98" name=""/>
          <p:cNvGrpSpPr/>
          <p:nvPr/>
        </p:nvGrpSpPr>
        <p:grpSpPr>
          <a:xfrm>
            <a:off x="1905120" y="4600440"/>
            <a:ext cx="725400" cy="655920"/>
            <a:chOff x="1905120" y="4600440"/>
            <a:chExt cx="725400" cy="655920"/>
          </a:xfrm>
        </p:grpSpPr>
        <p:grpSp>
          <p:nvGrpSpPr>
            <p:cNvPr id="1599" name=""/>
            <p:cNvGrpSpPr/>
            <p:nvPr/>
          </p:nvGrpSpPr>
          <p:grpSpPr>
            <a:xfrm>
              <a:off x="1905120" y="4600440"/>
              <a:ext cx="725400" cy="655920"/>
              <a:chOff x="1905120" y="4600440"/>
              <a:chExt cx="725400" cy="655920"/>
            </a:xfrm>
          </p:grpSpPr>
          <p:sp>
            <p:nvSpPr>
              <p:cNvPr id="1600" name=""/>
              <p:cNvSpPr/>
              <p:nvPr/>
            </p:nvSpPr>
            <p:spPr>
              <a:xfrm>
                <a:off x="1905120" y="5040360"/>
                <a:ext cx="657000" cy="1206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906560" y="5041800"/>
                <a:ext cx="654120" cy="11772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905120" y="4975200"/>
                <a:ext cx="725400" cy="6516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57" h="41">
                    <a:moveTo>
                      <a:pt x="0" y="41"/>
                    </a:moveTo>
                    <a:lnTo>
                      <a:pt x="44" y="0"/>
                    </a:lnTo>
                    <a:lnTo>
                      <a:pt x="457" y="0"/>
                    </a:lnTo>
                    <a:lnTo>
                      <a:pt x="41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905120" y="4975200"/>
                <a:ext cx="725400" cy="6516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57" h="41">
                    <a:moveTo>
                      <a:pt x="0" y="41"/>
                    </a:moveTo>
                    <a:lnTo>
                      <a:pt x="44" y="0"/>
                    </a:lnTo>
                    <a:lnTo>
                      <a:pt x="457" y="0"/>
                    </a:lnTo>
                    <a:lnTo>
                      <a:pt x="41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2368440" y="5095800"/>
                <a:ext cx="1540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562120" y="4975200"/>
                <a:ext cx="68400" cy="185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3" h="117">
                    <a:moveTo>
                      <a:pt x="0" y="117"/>
                    </a:moveTo>
                    <a:lnTo>
                      <a:pt x="43" y="74"/>
                    </a:lnTo>
                    <a:lnTo>
                      <a:pt x="43" y="0"/>
                    </a:lnTo>
                    <a:lnTo>
                      <a:pt x="0" y="41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562120" y="4975200"/>
                <a:ext cx="68400" cy="185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3" h="117">
                    <a:moveTo>
                      <a:pt x="0" y="117"/>
                    </a:moveTo>
                    <a:lnTo>
                      <a:pt x="43" y="74"/>
                    </a:lnTo>
                    <a:lnTo>
                      <a:pt x="43" y="0"/>
                    </a:lnTo>
                    <a:lnTo>
                      <a:pt x="0" y="41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909800" y="5146560"/>
                <a:ext cx="577800" cy="921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4" h="58">
                    <a:moveTo>
                      <a:pt x="0" y="58"/>
                    </a:moveTo>
                    <a:lnTo>
                      <a:pt x="46" y="0"/>
                    </a:lnTo>
                    <a:lnTo>
                      <a:pt x="364" y="0"/>
                    </a:lnTo>
                    <a:lnTo>
                      <a:pt x="318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909800" y="5146560"/>
                <a:ext cx="577800" cy="921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4" h="58">
                    <a:moveTo>
                      <a:pt x="0" y="58"/>
                    </a:moveTo>
                    <a:lnTo>
                      <a:pt x="46" y="0"/>
                    </a:lnTo>
                    <a:lnTo>
                      <a:pt x="364" y="0"/>
                    </a:lnTo>
                    <a:lnTo>
                      <a:pt x="318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414520" y="5146560"/>
                <a:ext cx="73080" cy="106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46" h="67">
                    <a:moveTo>
                      <a:pt x="0" y="67"/>
                    </a:moveTo>
                    <a:lnTo>
                      <a:pt x="46" y="21"/>
                    </a:lnTo>
                    <a:lnTo>
                      <a:pt x="46" y="0"/>
                    </a:lnTo>
                    <a:lnTo>
                      <a:pt x="0" y="5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414520" y="5146560"/>
                <a:ext cx="73080" cy="106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46" h="67">
                    <a:moveTo>
                      <a:pt x="0" y="67"/>
                    </a:moveTo>
                    <a:lnTo>
                      <a:pt x="46" y="21"/>
                    </a:lnTo>
                    <a:lnTo>
                      <a:pt x="46" y="0"/>
                    </a:lnTo>
                    <a:lnTo>
                      <a:pt x="0" y="5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909800" y="5238720"/>
                <a:ext cx="504720" cy="17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911240" y="5240160"/>
                <a:ext cx="501840" cy="1440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008080" y="4975200"/>
                <a:ext cx="515880" cy="5400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25" h="34">
                    <a:moveTo>
                      <a:pt x="0" y="34"/>
                    </a:moveTo>
                    <a:lnTo>
                      <a:pt x="32" y="0"/>
                    </a:lnTo>
                    <a:lnTo>
                      <a:pt x="325" y="0"/>
                    </a:lnTo>
                    <a:lnTo>
                      <a:pt x="29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008080" y="4975200"/>
                <a:ext cx="515880" cy="5400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25" h="34">
                    <a:moveTo>
                      <a:pt x="0" y="34"/>
                    </a:moveTo>
                    <a:lnTo>
                      <a:pt x="32" y="0"/>
                    </a:lnTo>
                    <a:lnTo>
                      <a:pt x="325" y="0"/>
                    </a:lnTo>
                    <a:lnTo>
                      <a:pt x="29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000160" y="4600440"/>
                <a:ext cx="517680" cy="47880"/>
              </a:xfrm>
              <a:custGeom>
                <a:avLst/>
                <a:gdLst>
                  <a:gd name="textAreaLeft" fmla="*/ 0 w 517680"/>
                  <a:gd name="textAreaRight" fmla="*/ 517680 w 5176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26" h="30">
                    <a:moveTo>
                      <a:pt x="0" y="30"/>
                    </a:moveTo>
                    <a:lnTo>
                      <a:pt x="33" y="0"/>
                    </a:lnTo>
                    <a:lnTo>
                      <a:pt x="326" y="0"/>
                    </a:lnTo>
                    <a:lnTo>
                      <a:pt x="29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000160" y="4600440"/>
                <a:ext cx="517680" cy="47880"/>
              </a:xfrm>
              <a:custGeom>
                <a:avLst/>
                <a:gdLst>
                  <a:gd name="textAreaLeft" fmla="*/ 0 w 517680"/>
                  <a:gd name="textAreaRight" fmla="*/ 517680 w 5176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26" h="30">
                    <a:moveTo>
                      <a:pt x="0" y="30"/>
                    </a:moveTo>
                    <a:lnTo>
                      <a:pt x="33" y="0"/>
                    </a:lnTo>
                    <a:lnTo>
                      <a:pt x="326" y="0"/>
                    </a:lnTo>
                    <a:lnTo>
                      <a:pt x="29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b4ff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001960" y="4649760"/>
                <a:ext cx="466560" cy="366840"/>
              </a:xfrm>
              <a:prstGeom prst="rect">
                <a:avLst/>
              </a:prstGeom>
              <a:solidFill>
                <a:srgbClr val="0096d5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043000" y="4697280"/>
                <a:ext cx="384120" cy="282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467080" y="4600440"/>
                <a:ext cx="50760" cy="414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32" h="261">
                    <a:moveTo>
                      <a:pt x="0" y="261"/>
                    </a:moveTo>
                    <a:lnTo>
                      <a:pt x="32" y="229"/>
                    </a:lnTo>
                    <a:lnTo>
                      <a:pt x="32" y="0"/>
                    </a:lnTo>
                    <a:lnTo>
                      <a:pt x="0" y="3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467080" y="4600440"/>
                <a:ext cx="50760" cy="414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32" h="261">
                    <a:moveTo>
                      <a:pt x="0" y="261"/>
                    </a:moveTo>
                    <a:lnTo>
                      <a:pt x="32" y="229"/>
                    </a:lnTo>
                    <a:lnTo>
                      <a:pt x="32" y="0"/>
                    </a:lnTo>
                    <a:lnTo>
                      <a:pt x="0" y="3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005a80"/>
              </a:solidFill>
              <a:ln w="32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2125800" y="4726080"/>
              <a:ext cx="245880" cy="223920"/>
              <a:chOff x="2125800" y="4726080"/>
              <a:chExt cx="245880" cy="223920"/>
            </a:xfrm>
          </p:grpSpPr>
          <p:sp>
            <p:nvSpPr>
              <p:cNvPr id="1622" name=""/>
              <p:cNvSpPr/>
              <p:nvPr/>
            </p:nvSpPr>
            <p:spPr>
              <a:xfrm>
                <a:off x="2128680" y="4729320"/>
                <a:ext cx="223920" cy="22068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41" h="139">
                    <a:moveTo>
                      <a:pt x="0" y="0"/>
                    </a:moveTo>
                    <a:lnTo>
                      <a:pt x="97" y="0"/>
                    </a:lnTo>
                    <a:lnTo>
                      <a:pt x="113" y="25"/>
                    </a:lnTo>
                    <a:lnTo>
                      <a:pt x="113" y="111"/>
                    </a:lnTo>
                    <a:lnTo>
                      <a:pt x="141" y="111"/>
                    </a:lnTo>
                    <a:lnTo>
                      <a:pt x="134" y="139"/>
                    </a:lnTo>
                    <a:lnTo>
                      <a:pt x="42" y="139"/>
                    </a:lnTo>
                    <a:lnTo>
                      <a:pt x="21" y="111"/>
                    </a:lnTo>
                    <a:lnTo>
                      <a:pt x="2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128680" y="4729320"/>
                <a:ext cx="223920" cy="22068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41" h="139">
                    <a:moveTo>
                      <a:pt x="0" y="0"/>
                    </a:moveTo>
                    <a:lnTo>
                      <a:pt x="97" y="0"/>
                    </a:lnTo>
                    <a:lnTo>
                      <a:pt x="113" y="25"/>
                    </a:lnTo>
                    <a:lnTo>
                      <a:pt x="113" y="111"/>
                    </a:lnTo>
                    <a:lnTo>
                      <a:pt x="141" y="111"/>
                    </a:lnTo>
                    <a:lnTo>
                      <a:pt x="134" y="139"/>
                    </a:lnTo>
                    <a:lnTo>
                      <a:pt x="42" y="139"/>
                    </a:lnTo>
                    <a:lnTo>
                      <a:pt x="21" y="111"/>
                    </a:lnTo>
                    <a:lnTo>
                      <a:pt x="2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125800" y="4726080"/>
                <a:ext cx="33120" cy="475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127240" y="4727520"/>
                <a:ext cx="31680" cy="46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2162160" y="4746240"/>
                <a:ext cx="1440" cy="15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162160" y="4905360"/>
                <a:ext cx="61920" cy="44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163600" y="4905360"/>
                <a:ext cx="59040" cy="42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125800" y="476568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308320" y="4765680"/>
                <a:ext cx="144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190600" y="4944960"/>
                <a:ext cx="147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2152800" y="4726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279520" y="47260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279520" y="4727520"/>
                <a:ext cx="32040" cy="460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338560" y="4905360"/>
                <a:ext cx="33120" cy="446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338560" y="4905360"/>
                <a:ext cx="31680" cy="42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220840" y="4905360"/>
                <a:ext cx="146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190600" y="476568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190600" y="478800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190600" y="4824360"/>
                <a:ext cx="88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190600" y="484668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190600" y="4869000"/>
                <a:ext cx="88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190600" y="4890960"/>
                <a:ext cx="88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254320" y="49053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45" name=""/>
          <p:cNvSpPr/>
          <p:nvPr/>
        </p:nvSpPr>
        <p:spPr>
          <a:xfrm>
            <a:off x="5432400" y="3381480"/>
            <a:ext cx="755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2514600" y="3838680"/>
            <a:ext cx="771480" cy="380880"/>
            <a:chOff x="2514600" y="3838680"/>
            <a:chExt cx="771480" cy="380880"/>
          </a:xfrm>
        </p:grpSpPr>
        <p:sp>
          <p:nvSpPr>
            <p:cNvPr id="1647" name=""/>
            <p:cNvSpPr/>
            <p:nvPr/>
          </p:nvSpPr>
          <p:spPr>
            <a:xfrm>
              <a:off x="2517840" y="4048200"/>
              <a:ext cx="587160" cy="16812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514600" y="404820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49">
                  <a:moveTo>
                    <a:pt x="56" y="3149"/>
                  </a:moveTo>
                  <a:lnTo>
                    <a:pt x="113" y="309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3"/>
                  </a:lnTo>
                  <a:lnTo>
                    <a:pt x="56" y="3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517840" y="421308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3">
                  <a:moveTo>
                    <a:pt x="12462" y="57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2406" y="113"/>
                  </a:lnTo>
                  <a:lnTo>
                    <a:pt x="12462" y="5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02120" y="404496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49">
                  <a:moveTo>
                    <a:pt x="56" y="0"/>
                  </a:moveTo>
                  <a:lnTo>
                    <a:pt x="0" y="56"/>
                  </a:lnTo>
                  <a:lnTo>
                    <a:pt x="0" y="3149"/>
                  </a:lnTo>
                  <a:lnTo>
                    <a:pt x="112" y="3149"/>
                  </a:lnTo>
                  <a:lnTo>
                    <a:pt x="112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14600" y="404496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2">
                  <a:moveTo>
                    <a:pt x="0" y="56"/>
                  </a:moveTo>
                  <a:lnTo>
                    <a:pt x="56" y="112"/>
                  </a:lnTo>
                  <a:lnTo>
                    <a:pt x="12462" y="112"/>
                  </a:lnTo>
                  <a:lnTo>
                    <a:pt x="12462" y="0"/>
                  </a:lnTo>
                  <a:lnTo>
                    <a:pt x="56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103560" y="3841920"/>
              <a:ext cx="177840" cy="3744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778" h="6860">
                  <a:moveTo>
                    <a:pt x="0" y="3767"/>
                  </a:moveTo>
                  <a:lnTo>
                    <a:pt x="3778" y="0"/>
                  </a:lnTo>
                  <a:lnTo>
                    <a:pt x="3778" y="3096"/>
                  </a:lnTo>
                  <a:lnTo>
                    <a:pt x="0" y="6860"/>
                  </a:lnTo>
                  <a:lnTo>
                    <a:pt x="0" y="376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103560" y="38401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3" h="3847">
                  <a:moveTo>
                    <a:pt x="3873" y="40"/>
                  </a:moveTo>
                  <a:lnTo>
                    <a:pt x="3777" y="0"/>
                  </a:lnTo>
                  <a:lnTo>
                    <a:pt x="0" y="3768"/>
                  </a:lnTo>
                  <a:lnTo>
                    <a:pt x="79" y="3847"/>
                  </a:lnTo>
                  <a:lnTo>
                    <a:pt x="3857" y="79"/>
                  </a:lnTo>
                  <a:lnTo>
                    <a:pt x="3873" y="4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281400" y="384192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35">
                  <a:moveTo>
                    <a:pt x="97" y="3135"/>
                  </a:moveTo>
                  <a:lnTo>
                    <a:pt x="113" y="3096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6"/>
                  </a:lnTo>
                  <a:lnTo>
                    <a:pt x="97" y="31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02120" y="400860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4" h="3844">
                  <a:moveTo>
                    <a:pt x="0" y="3804"/>
                  </a:moveTo>
                  <a:lnTo>
                    <a:pt x="96" y="3844"/>
                  </a:lnTo>
                  <a:lnTo>
                    <a:pt x="3874" y="79"/>
                  </a:lnTo>
                  <a:lnTo>
                    <a:pt x="3794" y="0"/>
                  </a:lnTo>
                  <a:lnTo>
                    <a:pt x="17" y="3765"/>
                  </a:lnTo>
                  <a:lnTo>
                    <a:pt x="0" y="380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102120" y="404496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32">
                  <a:moveTo>
                    <a:pt x="17" y="0"/>
                  </a:moveTo>
                  <a:lnTo>
                    <a:pt x="0" y="39"/>
                  </a:lnTo>
                  <a:lnTo>
                    <a:pt x="0" y="3132"/>
                  </a:lnTo>
                  <a:lnTo>
                    <a:pt x="112" y="3132"/>
                  </a:lnTo>
                  <a:lnTo>
                    <a:pt x="112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17840" y="3841920"/>
              <a:ext cx="766800" cy="206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6184" h="3767">
                  <a:moveTo>
                    <a:pt x="12406" y="3767"/>
                  </a:moveTo>
                  <a:lnTo>
                    <a:pt x="16184" y="0"/>
                  </a:lnTo>
                  <a:lnTo>
                    <a:pt x="3778" y="0"/>
                  </a:lnTo>
                  <a:lnTo>
                    <a:pt x="0" y="3767"/>
                  </a:lnTo>
                  <a:lnTo>
                    <a:pt x="12406" y="3767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103560" y="3838680"/>
              <a:ext cx="181080" cy="21096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857" h="3863">
                  <a:moveTo>
                    <a:pt x="3817" y="0"/>
                  </a:moveTo>
                  <a:lnTo>
                    <a:pt x="3777" y="16"/>
                  </a:lnTo>
                  <a:lnTo>
                    <a:pt x="0" y="3784"/>
                  </a:lnTo>
                  <a:lnTo>
                    <a:pt x="79" y="3863"/>
                  </a:lnTo>
                  <a:lnTo>
                    <a:pt x="3857" y="95"/>
                  </a:lnTo>
                  <a:lnTo>
                    <a:pt x="38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93880" y="3838680"/>
              <a:ext cx="588960" cy="612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446" h="113">
                  <a:moveTo>
                    <a:pt x="0" y="16"/>
                  </a:moveTo>
                  <a:lnTo>
                    <a:pt x="40" y="113"/>
                  </a:lnTo>
                  <a:lnTo>
                    <a:pt x="12446" y="113"/>
                  </a:lnTo>
                  <a:lnTo>
                    <a:pt x="12446" y="0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516040" y="3840120"/>
              <a:ext cx="181080" cy="21132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857" h="3863">
                  <a:moveTo>
                    <a:pt x="40" y="3863"/>
                  </a:moveTo>
                  <a:lnTo>
                    <a:pt x="80" y="3847"/>
                  </a:lnTo>
                  <a:lnTo>
                    <a:pt x="3857" y="79"/>
                  </a:lnTo>
                  <a:lnTo>
                    <a:pt x="3778" y="0"/>
                  </a:lnTo>
                  <a:lnTo>
                    <a:pt x="0" y="3768"/>
                  </a:lnTo>
                  <a:lnTo>
                    <a:pt x="40" y="3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517840" y="404496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2">
                  <a:moveTo>
                    <a:pt x="12446" y="96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2406" y="112"/>
                  </a:lnTo>
                  <a:lnTo>
                    <a:pt x="12446" y="9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860560" y="3930480"/>
              <a:ext cx="250920" cy="702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29" y="287"/>
                  </a:lnTo>
                  <a:lnTo>
                    <a:pt x="450" y="2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933640" y="384660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30" y="287"/>
                  </a:lnTo>
                  <a:lnTo>
                    <a:pt x="450" y="2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597040" y="395460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852" y="989"/>
                  </a:moveTo>
                  <a:lnTo>
                    <a:pt x="5302" y="544"/>
                  </a:lnTo>
                  <a:lnTo>
                    <a:pt x="2072" y="547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2" y="988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670120" y="387036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853" y="989"/>
                  </a:moveTo>
                  <a:lnTo>
                    <a:pt x="5302" y="545"/>
                  </a:lnTo>
                  <a:lnTo>
                    <a:pt x="2072" y="549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80" y="1277"/>
                  </a:lnTo>
                  <a:lnTo>
                    <a:pt x="1672" y="989"/>
                  </a:lnTo>
                  <a:lnTo>
                    <a:pt x="4853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865600" y="393696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6">
                  <a:moveTo>
                    <a:pt x="449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1" y="539"/>
                  </a:lnTo>
                  <a:lnTo>
                    <a:pt x="3922" y="0"/>
                  </a:lnTo>
                  <a:lnTo>
                    <a:pt x="3630" y="286"/>
                  </a:lnTo>
                  <a:lnTo>
                    <a:pt x="449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938320" y="385272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49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7"/>
                  </a:lnTo>
                  <a:lnTo>
                    <a:pt x="5302" y="540"/>
                  </a:lnTo>
                  <a:lnTo>
                    <a:pt x="3922" y="0"/>
                  </a:lnTo>
                  <a:lnTo>
                    <a:pt x="3630" y="287"/>
                  </a:lnTo>
                  <a:lnTo>
                    <a:pt x="449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602080" y="396072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7">
                  <a:moveTo>
                    <a:pt x="4852" y="989"/>
                  </a:moveTo>
                  <a:lnTo>
                    <a:pt x="5301" y="545"/>
                  </a:lnTo>
                  <a:lnTo>
                    <a:pt x="2072" y="548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7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676600" y="387684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301" h="1276">
                  <a:moveTo>
                    <a:pt x="4852" y="989"/>
                  </a:moveTo>
                  <a:lnTo>
                    <a:pt x="5301" y="544"/>
                  </a:lnTo>
                  <a:lnTo>
                    <a:pt x="2073" y="547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1219320" y="3381480"/>
            <a:ext cx="38088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"/>
          <p:cNvSpPr/>
          <p:nvPr/>
        </p:nvSpPr>
        <p:spPr>
          <a:xfrm>
            <a:off x="1143000" y="4524480"/>
            <a:ext cx="45720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838080" y="3000240"/>
            <a:ext cx="560520" cy="457200"/>
            <a:chOff x="838080" y="3000240"/>
            <a:chExt cx="560520" cy="457200"/>
          </a:xfrm>
        </p:grpSpPr>
        <p:sp>
          <p:nvSpPr>
            <p:cNvPr id="1673" name=""/>
            <p:cNvSpPr/>
            <p:nvPr/>
          </p:nvSpPr>
          <p:spPr>
            <a:xfrm>
              <a:off x="838080" y="32767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8080" y="32767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19160" y="341136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50840" y="341136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23840" y="338292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54080" y="3382920"/>
              <a:ext cx="33480" cy="12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38080" y="3440160"/>
              <a:ext cx="387360" cy="172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39880" y="3441600"/>
              <a:ext cx="38412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01880" y="3011400"/>
              <a:ext cx="38556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03320" y="3011400"/>
              <a:ext cx="38268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7440" y="30002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7440" y="30002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19160" y="3032280"/>
              <a:ext cx="34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20600" y="3033720"/>
              <a:ext cx="34632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936720" y="3289320"/>
              <a:ext cx="409320" cy="842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936720" y="3289320"/>
              <a:ext cx="409320" cy="842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39680" y="3398760"/>
              <a:ext cx="2880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0" name=""/>
            <p:cNvGrpSpPr/>
            <p:nvPr/>
          </p:nvGrpSpPr>
          <p:grpSpPr>
            <a:xfrm>
              <a:off x="1020600" y="3386160"/>
              <a:ext cx="68400" cy="42840"/>
              <a:chOff x="1020600" y="3386160"/>
              <a:chExt cx="68400" cy="42840"/>
            </a:xfrm>
          </p:grpSpPr>
          <p:sp>
            <p:nvSpPr>
              <p:cNvPr id="1691" name=""/>
              <p:cNvSpPr/>
              <p:nvPr/>
            </p:nvSpPr>
            <p:spPr>
              <a:xfrm>
                <a:off x="1020600" y="341460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052640" y="3414600"/>
                <a:ext cx="33120" cy="14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025640" y="3386160"/>
                <a:ext cx="34920" cy="11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055520" y="3386160"/>
                <a:ext cx="33480" cy="11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1225440" y="327672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25440" y="327672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333440" y="326376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333440" y="3265560"/>
              <a:ext cx="28800" cy="144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000080" y="3309840"/>
              <a:ext cx="32544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977400" y="3332160"/>
              <a:ext cx="32724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957240" y="3352680"/>
              <a:ext cx="32688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01880" y="300024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01880" y="300024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685800" y="4371840"/>
            <a:ext cx="560520" cy="457200"/>
            <a:chOff x="685800" y="4371840"/>
            <a:chExt cx="560520" cy="457200"/>
          </a:xfrm>
        </p:grpSpPr>
        <p:sp>
          <p:nvSpPr>
            <p:cNvPr id="1705" name=""/>
            <p:cNvSpPr/>
            <p:nvPr/>
          </p:nvSpPr>
          <p:spPr>
            <a:xfrm>
              <a:off x="685800" y="46483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5800" y="46483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66880" y="478296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98560" y="478296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71560" y="475452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901800" y="4754520"/>
              <a:ext cx="33120" cy="12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85800" y="4811760"/>
              <a:ext cx="387360" cy="172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7240" y="4813200"/>
              <a:ext cx="38448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49240" y="4383000"/>
              <a:ext cx="38592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51040" y="4383000"/>
              <a:ext cx="38232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235160" y="43718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35160" y="43718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66880" y="4403880"/>
              <a:ext cx="34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68320" y="4405320"/>
              <a:ext cx="34596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84080" y="4660920"/>
              <a:ext cx="409680" cy="84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080" y="4660920"/>
              <a:ext cx="409680" cy="84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87400" y="4770360"/>
              <a:ext cx="2844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868320" y="4757760"/>
              <a:ext cx="68400" cy="42840"/>
              <a:chOff x="868320" y="4757760"/>
              <a:chExt cx="68400" cy="42840"/>
            </a:xfrm>
          </p:grpSpPr>
          <p:sp>
            <p:nvSpPr>
              <p:cNvPr id="1723" name=""/>
              <p:cNvSpPr/>
              <p:nvPr/>
            </p:nvSpPr>
            <p:spPr>
              <a:xfrm>
                <a:off x="868320" y="478620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900000" y="4786200"/>
                <a:ext cx="33480" cy="144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73000" y="4757760"/>
                <a:ext cx="34920" cy="11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903240" y="4757760"/>
                <a:ext cx="33480" cy="11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7" name=""/>
            <p:cNvSpPr/>
            <p:nvPr/>
          </p:nvSpPr>
          <p:spPr>
            <a:xfrm>
              <a:off x="1073160" y="464832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73160" y="464832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81160" y="463536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181160" y="4637160"/>
              <a:ext cx="28440" cy="144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847800" y="4681440"/>
              <a:ext cx="32544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825480" y="4703760"/>
              <a:ext cx="32688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804960" y="4724280"/>
              <a:ext cx="32688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49240" y="4371840"/>
              <a:ext cx="397080" cy="111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49240" y="4371840"/>
              <a:ext cx="397080" cy="111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380880" y="3762360"/>
            <a:ext cx="560520" cy="457200"/>
            <a:chOff x="380880" y="3762360"/>
            <a:chExt cx="560520" cy="457200"/>
          </a:xfrm>
        </p:grpSpPr>
        <p:sp>
          <p:nvSpPr>
            <p:cNvPr id="1737" name=""/>
            <p:cNvSpPr/>
            <p:nvPr/>
          </p:nvSpPr>
          <p:spPr>
            <a:xfrm>
              <a:off x="380880" y="4038480"/>
              <a:ext cx="549360" cy="1638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80880" y="4038480"/>
              <a:ext cx="549360" cy="1638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61960" y="417348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3640" y="417348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66640" y="414504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6880" y="4145040"/>
              <a:ext cx="33480" cy="12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80880" y="4202280"/>
              <a:ext cx="387360" cy="172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82680" y="4203720"/>
              <a:ext cx="38412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44680" y="3773520"/>
              <a:ext cx="38556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6120" y="3773520"/>
              <a:ext cx="38268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30240" y="3762360"/>
              <a:ext cx="11160" cy="27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930240" y="3762360"/>
              <a:ext cx="11160" cy="27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61960" y="3794040"/>
              <a:ext cx="34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63400" y="3795840"/>
              <a:ext cx="34632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79520" y="4051440"/>
              <a:ext cx="409320" cy="83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79520" y="4051440"/>
              <a:ext cx="409320" cy="83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82480" y="4160880"/>
              <a:ext cx="2880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54" name=""/>
            <p:cNvGrpSpPr/>
            <p:nvPr/>
          </p:nvGrpSpPr>
          <p:grpSpPr>
            <a:xfrm>
              <a:off x="563400" y="4148280"/>
              <a:ext cx="68400" cy="42840"/>
              <a:chOff x="563400" y="4148280"/>
              <a:chExt cx="68400" cy="42840"/>
            </a:xfrm>
          </p:grpSpPr>
          <p:sp>
            <p:nvSpPr>
              <p:cNvPr id="1755" name=""/>
              <p:cNvSpPr/>
              <p:nvPr/>
            </p:nvSpPr>
            <p:spPr>
              <a:xfrm>
                <a:off x="563400" y="417672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95440" y="4176720"/>
                <a:ext cx="33120" cy="14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68440" y="4148280"/>
                <a:ext cx="34920" cy="10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98320" y="4148280"/>
                <a:ext cx="33480" cy="108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768240" y="403848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68240" y="4038480"/>
              <a:ext cx="162000" cy="177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76240" y="402588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76240" y="4027320"/>
              <a:ext cx="28800" cy="180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42880" y="4071960"/>
              <a:ext cx="32544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20200" y="4094280"/>
              <a:ext cx="32724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500040" y="4114800"/>
              <a:ext cx="32688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44680" y="376236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44680" y="376236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5562720" y="3762360"/>
            <a:ext cx="609480" cy="453960"/>
            <a:chOff x="5562720" y="3762360"/>
            <a:chExt cx="609480" cy="453960"/>
          </a:xfrm>
        </p:grpSpPr>
        <p:sp>
          <p:nvSpPr>
            <p:cNvPr id="1769" name=""/>
            <p:cNvSpPr/>
            <p:nvPr/>
          </p:nvSpPr>
          <p:spPr>
            <a:xfrm>
              <a:off x="5564160" y="3951360"/>
              <a:ext cx="608040" cy="264960"/>
            </a:xfrm>
            <a:prstGeom prst="ellipse">
              <a:avLst/>
            </a:prstGeom>
            <a:solidFill>
              <a:srgbClr val="0078aa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562720" y="3897360"/>
              <a:ext cx="608040" cy="189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562720" y="3897360"/>
              <a:ext cx="608040" cy="189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564160" y="3762360"/>
              <a:ext cx="608040" cy="264960"/>
            </a:xfrm>
            <a:prstGeom prst="ellipse">
              <a:avLst/>
            </a:prstGeom>
            <a:solidFill>
              <a:srgbClr val="00b4ff"/>
            </a:solidFill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5656320" y="3794040"/>
              <a:ext cx="420480" cy="201600"/>
              <a:chOff x="5656320" y="3794040"/>
              <a:chExt cx="420480" cy="20160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5656320" y="3794040"/>
                <a:ext cx="417600" cy="198360"/>
                <a:chOff x="5656320" y="3794040"/>
                <a:chExt cx="417600" cy="19836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5873760" y="3798720"/>
                  <a:ext cx="200160" cy="842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48"/>
                      </a:moveTo>
                      <a:lnTo>
                        <a:pt x="41" y="62"/>
                      </a:lnTo>
                      <a:lnTo>
                        <a:pt x="142" y="20"/>
                      </a:lnTo>
                      <a:lnTo>
                        <a:pt x="187" y="34"/>
                      </a:lnTo>
                      <a:lnTo>
                        <a:pt x="162" y="0"/>
                      </a:lnTo>
                      <a:lnTo>
                        <a:pt x="45" y="0"/>
                      </a:lnTo>
                      <a:lnTo>
                        <a:pt x="93" y="1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873760" y="3798720"/>
                  <a:ext cx="200160" cy="842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48"/>
                      </a:moveTo>
                      <a:lnTo>
                        <a:pt x="41" y="62"/>
                      </a:lnTo>
                      <a:lnTo>
                        <a:pt x="142" y="20"/>
                      </a:lnTo>
                      <a:lnTo>
                        <a:pt x="187" y="34"/>
                      </a:lnTo>
                      <a:lnTo>
                        <a:pt x="162" y="0"/>
                      </a:lnTo>
                      <a:lnTo>
                        <a:pt x="45" y="0"/>
                      </a:lnTo>
                      <a:lnTo>
                        <a:pt x="93" y="1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656320" y="3897360"/>
                  <a:ext cx="198360" cy="88920"/>
                </a:xfrm>
                <a:custGeom>
                  <a:avLst/>
                  <a:gdLst>
                    <a:gd name="textAreaLeft" fmla="*/ 0 w 198360"/>
                    <a:gd name="textAreaRight" fmla="*/ 198720 w 1983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6" h="66">
                      <a:moveTo>
                        <a:pt x="186" y="14"/>
                      </a:moveTo>
                      <a:lnTo>
                        <a:pt x="145" y="0"/>
                      </a:lnTo>
                      <a:lnTo>
                        <a:pt x="48" y="42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656320" y="3897360"/>
                  <a:ext cx="198360" cy="88920"/>
                </a:xfrm>
                <a:custGeom>
                  <a:avLst/>
                  <a:gdLst>
                    <a:gd name="textAreaLeft" fmla="*/ 0 w 198360"/>
                    <a:gd name="textAreaRight" fmla="*/ 198720 w 1983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6" h="66">
                      <a:moveTo>
                        <a:pt x="186" y="14"/>
                      </a:moveTo>
                      <a:lnTo>
                        <a:pt x="145" y="0"/>
                      </a:lnTo>
                      <a:lnTo>
                        <a:pt x="48" y="42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665680" y="3794040"/>
                  <a:ext cx="200160" cy="8568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14"/>
                      </a:moveTo>
                      <a:lnTo>
                        <a:pt x="41" y="0"/>
                      </a:lnTo>
                      <a:lnTo>
                        <a:pt x="142" y="38"/>
                      </a:lnTo>
                      <a:lnTo>
                        <a:pt x="187" y="28"/>
                      </a:lnTo>
                      <a:lnTo>
                        <a:pt x="163" y="63"/>
                      </a:lnTo>
                      <a:lnTo>
                        <a:pt x="45" y="63"/>
                      </a:lnTo>
                      <a:lnTo>
                        <a:pt x="93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665680" y="3794040"/>
                  <a:ext cx="200160" cy="8568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14"/>
                      </a:moveTo>
                      <a:lnTo>
                        <a:pt x="41" y="0"/>
                      </a:lnTo>
                      <a:lnTo>
                        <a:pt x="142" y="38"/>
                      </a:lnTo>
                      <a:lnTo>
                        <a:pt x="187" y="28"/>
                      </a:lnTo>
                      <a:lnTo>
                        <a:pt x="163" y="63"/>
                      </a:lnTo>
                      <a:lnTo>
                        <a:pt x="45" y="63"/>
                      </a:lnTo>
                      <a:lnTo>
                        <a:pt x="93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865840" y="3906720"/>
                  <a:ext cx="200160" cy="8568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187" y="49"/>
                      </a:moveTo>
                      <a:lnTo>
                        <a:pt x="145" y="63"/>
                      </a:lnTo>
                      <a:lnTo>
                        <a:pt x="48" y="21"/>
                      </a:lnTo>
                      <a:lnTo>
                        <a:pt x="0" y="35"/>
                      </a:lnTo>
                      <a:lnTo>
                        <a:pt x="24" y="0"/>
                      </a:lnTo>
                      <a:lnTo>
                        <a:pt x="145" y="0"/>
                      </a:lnTo>
                      <a:lnTo>
                        <a:pt x="93" y="11"/>
                      </a:lnTo>
                      <a:lnTo>
                        <a:pt x="187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865840" y="3906720"/>
                  <a:ext cx="200160" cy="8568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187" y="49"/>
                      </a:moveTo>
                      <a:lnTo>
                        <a:pt x="145" y="63"/>
                      </a:lnTo>
                      <a:lnTo>
                        <a:pt x="48" y="21"/>
                      </a:lnTo>
                      <a:lnTo>
                        <a:pt x="0" y="35"/>
                      </a:lnTo>
                      <a:lnTo>
                        <a:pt x="24" y="0"/>
                      </a:lnTo>
                      <a:lnTo>
                        <a:pt x="145" y="0"/>
                      </a:lnTo>
                      <a:lnTo>
                        <a:pt x="93" y="11"/>
                      </a:lnTo>
                      <a:lnTo>
                        <a:pt x="187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5657760" y="3798720"/>
                <a:ext cx="419040" cy="196920"/>
                <a:chOff x="5657760" y="3798720"/>
                <a:chExt cx="419040" cy="19692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5877000" y="3801960"/>
                  <a:ext cx="199800" cy="856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49"/>
                      </a:moveTo>
                      <a:lnTo>
                        <a:pt x="42" y="63"/>
                      </a:lnTo>
                      <a:lnTo>
                        <a:pt x="142" y="21"/>
                      </a:lnTo>
                      <a:lnTo>
                        <a:pt x="187" y="35"/>
                      </a:lnTo>
                      <a:lnTo>
                        <a:pt x="163" y="0"/>
                      </a:lnTo>
                      <a:lnTo>
                        <a:pt x="45" y="0"/>
                      </a:lnTo>
                      <a:lnTo>
                        <a:pt x="94" y="1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877000" y="3801960"/>
                  <a:ext cx="199800" cy="856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87" h="63">
                      <a:moveTo>
                        <a:pt x="0" y="49"/>
                      </a:moveTo>
                      <a:lnTo>
                        <a:pt x="42" y="63"/>
                      </a:lnTo>
                      <a:lnTo>
                        <a:pt x="142" y="21"/>
                      </a:lnTo>
                      <a:lnTo>
                        <a:pt x="187" y="35"/>
                      </a:lnTo>
                      <a:lnTo>
                        <a:pt x="163" y="0"/>
                      </a:lnTo>
                      <a:lnTo>
                        <a:pt x="45" y="0"/>
                      </a:lnTo>
                      <a:lnTo>
                        <a:pt x="94" y="1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657760" y="3902040"/>
                  <a:ext cx="200160" cy="8892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7" h="66">
                      <a:moveTo>
                        <a:pt x="187" y="14"/>
                      </a:moveTo>
                      <a:lnTo>
                        <a:pt x="145" y="0"/>
                      </a:lnTo>
                      <a:lnTo>
                        <a:pt x="48" y="41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7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5657760" y="3902040"/>
                  <a:ext cx="200160" cy="8892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87" h="66">
                      <a:moveTo>
                        <a:pt x="187" y="14"/>
                      </a:moveTo>
                      <a:lnTo>
                        <a:pt x="145" y="0"/>
                      </a:lnTo>
                      <a:lnTo>
                        <a:pt x="48" y="41"/>
                      </a:lnTo>
                      <a:lnTo>
                        <a:pt x="0" y="28"/>
                      </a:lnTo>
                      <a:lnTo>
                        <a:pt x="24" y="66"/>
                      </a:lnTo>
                      <a:lnTo>
                        <a:pt x="145" y="66"/>
                      </a:lnTo>
                      <a:lnTo>
                        <a:pt x="93" y="52"/>
                      </a:lnTo>
                      <a:lnTo>
                        <a:pt x="187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668920" y="3798720"/>
                  <a:ext cx="200160" cy="842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14"/>
                      </a:moveTo>
                      <a:lnTo>
                        <a:pt x="42" y="0"/>
                      </a:lnTo>
                      <a:lnTo>
                        <a:pt x="142" y="38"/>
                      </a:lnTo>
                      <a:lnTo>
                        <a:pt x="187" y="27"/>
                      </a:lnTo>
                      <a:lnTo>
                        <a:pt x="163" y="62"/>
                      </a:lnTo>
                      <a:lnTo>
                        <a:pt x="45" y="62"/>
                      </a:lnTo>
                      <a:lnTo>
                        <a:pt x="94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668920" y="3798720"/>
                  <a:ext cx="200160" cy="8424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0" y="14"/>
                      </a:moveTo>
                      <a:lnTo>
                        <a:pt x="42" y="0"/>
                      </a:lnTo>
                      <a:lnTo>
                        <a:pt x="142" y="38"/>
                      </a:lnTo>
                      <a:lnTo>
                        <a:pt x="187" y="27"/>
                      </a:lnTo>
                      <a:lnTo>
                        <a:pt x="163" y="62"/>
                      </a:lnTo>
                      <a:lnTo>
                        <a:pt x="45" y="62"/>
                      </a:lnTo>
                      <a:lnTo>
                        <a:pt x="94" y="5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869080" y="3911760"/>
                  <a:ext cx="199800" cy="83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187" y="48"/>
                      </a:moveTo>
                      <a:lnTo>
                        <a:pt x="146" y="62"/>
                      </a:lnTo>
                      <a:lnTo>
                        <a:pt x="49" y="21"/>
                      </a:lnTo>
                      <a:lnTo>
                        <a:pt x="0" y="34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10"/>
                      </a:lnTo>
                      <a:lnTo>
                        <a:pt x="18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5869080" y="3911760"/>
                  <a:ext cx="199800" cy="83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87" h="62">
                      <a:moveTo>
                        <a:pt x="187" y="48"/>
                      </a:moveTo>
                      <a:lnTo>
                        <a:pt x="146" y="62"/>
                      </a:lnTo>
                      <a:lnTo>
                        <a:pt x="49" y="21"/>
                      </a:lnTo>
                      <a:lnTo>
                        <a:pt x="0" y="34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10"/>
                      </a:lnTo>
                      <a:lnTo>
                        <a:pt x="18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792" name=""/>
            <p:cNvSpPr/>
            <p:nvPr/>
          </p:nvSpPr>
          <p:spPr>
            <a:xfrm>
              <a:off x="5562720" y="3892680"/>
              <a:ext cx="1440" cy="18864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170760" y="3892680"/>
              <a:ext cx="1440" cy="188640"/>
            </a:xfrm>
            <a:prstGeom prst="line">
              <a:avLst/>
            </a:prstGeom>
            <a:ln w="46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4638600" y="3762360"/>
            <a:ext cx="771480" cy="380880"/>
            <a:chOff x="4638600" y="3762360"/>
            <a:chExt cx="771480" cy="380880"/>
          </a:xfrm>
        </p:grpSpPr>
        <p:sp>
          <p:nvSpPr>
            <p:cNvPr id="1795" name=""/>
            <p:cNvSpPr/>
            <p:nvPr/>
          </p:nvSpPr>
          <p:spPr>
            <a:xfrm>
              <a:off x="4641840" y="3971880"/>
              <a:ext cx="587520" cy="16848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638600" y="397188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49">
                  <a:moveTo>
                    <a:pt x="56" y="3149"/>
                  </a:moveTo>
                  <a:lnTo>
                    <a:pt x="113" y="309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3"/>
                  </a:lnTo>
                  <a:lnTo>
                    <a:pt x="56" y="3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641840" y="4137120"/>
              <a:ext cx="588960" cy="61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462" h="113">
                  <a:moveTo>
                    <a:pt x="12462" y="57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2406" y="113"/>
                  </a:lnTo>
                  <a:lnTo>
                    <a:pt x="12462" y="5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3968640"/>
              <a:ext cx="4680" cy="171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12" h="3149">
                  <a:moveTo>
                    <a:pt x="56" y="0"/>
                  </a:moveTo>
                  <a:lnTo>
                    <a:pt x="0" y="56"/>
                  </a:lnTo>
                  <a:lnTo>
                    <a:pt x="0" y="3149"/>
                  </a:lnTo>
                  <a:lnTo>
                    <a:pt x="112" y="3149"/>
                  </a:lnTo>
                  <a:lnTo>
                    <a:pt x="112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638600" y="396864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2">
                  <a:moveTo>
                    <a:pt x="0" y="56"/>
                  </a:moveTo>
                  <a:lnTo>
                    <a:pt x="56" y="112"/>
                  </a:lnTo>
                  <a:lnTo>
                    <a:pt x="12462" y="112"/>
                  </a:lnTo>
                  <a:lnTo>
                    <a:pt x="12462" y="0"/>
                  </a:lnTo>
                  <a:lnTo>
                    <a:pt x="56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27560" y="3765600"/>
              <a:ext cx="177840" cy="3747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778" h="6860">
                  <a:moveTo>
                    <a:pt x="0" y="3767"/>
                  </a:moveTo>
                  <a:lnTo>
                    <a:pt x="3778" y="0"/>
                  </a:lnTo>
                  <a:lnTo>
                    <a:pt x="3778" y="3096"/>
                  </a:lnTo>
                  <a:lnTo>
                    <a:pt x="0" y="6860"/>
                  </a:lnTo>
                  <a:lnTo>
                    <a:pt x="0" y="376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26120" y="3763800"/>
              <a:ext cx="182520" cy="2098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3873" h="3847">
                  <a:moveTo>
                    <a:pt x="3873" y="40"/>
                  </a:moveTo>
                  <a:lnTo>
                    <a:pt x="3777" y="0"/>
                  </a:lnTo>
                  <a:lnTo>
                    <a:pt x="0" y="3768"/>
                  </a:lnTo>
                  <a:lnTo>
                    <a:pt x="79" y="3847"/>
                  </a:lnTo>
                  <a:lnTo>
                    <a:pt x="3857" y="79"/>
                  </a:lnTo>
                  <a:lnTo>
                    <a:pt x="3873" y="4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05400" y="376560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35">
                  <a:moveTo>
                    <a:pt x="97" y="3135"/>
                  </a:moveTo>
                  <a:lnTo>
                    <a:pt x="113" y="3096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6"/>
                  </a:lnTo>
                  <a:lnTo>
                    <a:pt x="97" y="31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226120" y="393228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4" h="3844">
                  <a:moveTo>
                    <a:pt x="0" y="3804"/>
                  </a:moveTo>
                  <a:lnTo>
                    <a:pt x="96" y="3844"/>
                  </a:lnTo>
                  <a:lnTo>
                    <a:pt x="3874" y="79"/>
                  </a:lnTo>
                  <a:lnTo>
                    <a:pt x="3794" y="0"/>
                  </a:lnTo>
                  <a:lnTo>
                    <a:pt x="17" y="3765"/>
                  </a:lnTo>
                  <a:lnTo>
                    <a:pt x="0" y="380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226120" y="3968640"/>
              <a:ext cx="4680" cy="171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12" h="3132">
                  <a:moveTo>
                    <a:pt x="17" y="0"/>
                  </a:moveTo>
                  <a:lnTo>
                    <a:pt x="0" y="39"/>
                  </a:lnTo>
                  <a:lnTo>
                    <a:pt x="0" y="3132"/>
                  </a:lnTo>
                  <a:lnTo>
                    <a:pt x="112" y="3132"/>
                  </a:lnTo>
                  <a:lnTo>
                    <a:pt x="112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641840" y="3765600"/>
              <a:ext cx="766800" cy="206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6184" h="3767">
                  <a:moveTo>
                    <a:pt x="12406" y="3767"/>
                  </a:moveTo>
                  <a:lnTo>
                    <a:pt x="16184" y="0"/>
                  </a:lnTo>
                  <a:lnTo>
                    <a:pt x="3778" y="0"/>
                  </a:lnTo>
                  <a:lnTo>
                    <a:pt x="0" y="3767"/>
                  </a:lnTo>
                  <a:lnTo>
                    <a:pt x="12406" y="3767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26120" y="3762360"/>
              <a:ext cx="181080" cy="21132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857" h="3863">
                  <a:moveTo>
                    <a:pt x="3817" y="0"/>
                  </a:moveTo>
                  <a:lnTo>
                    <a:pt x="3777" y="16"/>
                  </a:lnTo>
                  <a:lnTo>
                    <a:pt x="0" y="3784"/>
                  </a:lnTo>
                  <a:lnTo>
                    <a:pt x="79" y="3863"/>
                  </a:lnTo>
                  <a:lnTo>
                    <a:pt x="3857" y="95"/>
                  </a:lnTo>
                  <a:lnTo>
                    <a:pt x="38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18240" y="376236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3">
                  <a:moveTo>
                    <a:pt x="0" y="16"/>
                  </a:moveTo>
                  <a:lnTo>
                    <a:pt x="40" y="113"/>
                  </a:lnTo>
                  <a:lnTo>
                    <a:pt x="12446" y="113"/>
                  </a:lnTo>
                  <a:lnTo>
                    <a:pt x="12446" y="0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640400" y="3763800"/>
              <a:ext cx="180720" cy="211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857" h="3863">
                  <a:moveTo>
                    <a:pt x="40" y="3863"/>
                  </a:moveTo>
                  <a:lnTo>
                    <a:pt x="80" y="3847"/>
                  </a:lnTo>
                  <a:lnTo>
                    <a:pt x="3857" y="79"/>
                  </a:lnTo>
                  <a:lnTo>
                    <a:pt x="3778" y="0"/>
                  </a:lnTo>
                  <a:lnTo>
                    <a:pt x="0" y="3768"/>
                  </a:lnTo>
                  <a:lnTo>
                    <a:pt x="40" y="3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641840" y="396864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2">
                  <a:moveTo>
                    <a:pt x="12446" y="96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2406" y="112"/>
                  </a:lnTo>
                  <a:lnTo>
                    <a:pt x="12446" y="9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984920" y="385452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29" y="287"/>
                  </a:lnTo>
                  <a:lnTo>
                    <a:pt x="450" y="2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57640" y="37702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30" y="287"/>
                  </a:lnTo>
                  <a:lnTo>
                    <a:pt x="450" y="2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21400" y="387828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852" y="989"/>
                  </a:moveTo>
                  <a:lnTo>
                    <a:pt x="5302" y="544"/>
                  </a:lnTo>
                  <a:lnTo>
                    <a:pt x="2072" y="547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2" y="988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794120" y="379404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853" y="989"/>
                  </a:moveTo>
                  <a:lnTo>
                    <a:pt x="5302" y="545"/>
                  </a:lnTo>
                  <a:lnTo>
                    <a:pt x="2072" y="549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80" y="1277"/>
                  </a:lnTo>
                  <a:lnTo>
                    <a:pt x="1672" y="989"/>
                  </a:lnTo>
                  <a:lnTo>
                    <a:pt x="4853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989600" y="385920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6">
                  <a:moveTo>
                    <a:pt x="449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1" y="539"/>
                  </a:lnTo>
                  <a:lnTo>
                    <a:pt x="3922" y="0"/>
                  </a:lnTo>
                  <a:lnTo>
                    <a:pt x="3630" y="286"/>
                  </a:lnTo>
                  <a:lnTo>
                    <a:pt x="449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62680" y="3776760"/>
              <a:ext cx="250560" cy="680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5302" h="1277">
                  <a:moveTo>
                    <a:pt x="449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7"/>
                  </a:lnTo>
                  <a:lnTo>
                    <a:pt x="5302" y="540"/>
                  </a:lnTo>
                  <a:lnTo>
                    <a:pt x="3922" y="0"/>
                  </a:lnTo>
                  <a:lnTo>
                    <a:pt x="3630" y="287"/>
                  </a:lnTo>
                  <a:lnTo>
                    <a:pt x="449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26080" y="388476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7">
                  <a:moveTo>
                    <a:pt x="4852" y="989"/>
                  </a:moveTo>
                  <a:lnTo>
                    <a:pt x="5301" y="545"/>
                  </a:lnTo>
                  <a:lnTo>
                    <a:pt x="2072" y="548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7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800600" y="380052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301" h="1276">
                  <a:moveTo>
                    <a:pt x="4852" y="989"/>
                  </a:moveTo>
                  <a:lnTo>
                    <a:pt x="5301" y="544"/>
                  </a:lnTo>
                  <a:lnTo>
                    <a:pt x="2073" y="547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8" name=""/>
          <p:cNvSpPr/>
          <p:nvPr/>
        </p:nvSpPr>
        <p:spPr>
          <a:xfrm flipV="1">
            <a:off x="1600200" y="2998800"/>
            <a:ext cx="1440" cy="1908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7848720" y="2575080"/>
            <a:ext cx="685800" cy="457200"/>
            <a:chOff x="7848720" y="2575080"/>
            <a:chExt cx="685800" cy="457200"/>
          </a:xfrm>
        </p:grpSpPr>
        <p:grpSp>
          <p:nvGrpSpPr>
            <p:cNvPr id="1820" name=""/>
            <p:cNvGrpSpPr/>
            <p:nvPr/>
          </p:nvGrpSpPr>
          <p:grpSpPr>
            <a:xfrm>
              <a:off x="7848720" y="2575080"/>
              <a:ext cx="685800" cy="457200"/>
              <a:chOff x="7848720" y="2575080"/>
              <a:chExt cx="685800" cy="457200"/>
            </a:xfrm>
          </p:grpSpPr>
          <p:sp>
            <p:nvSpPr>
              <p:cNvPr id="1821" name=""/>
              <p:cNvSpPr/>
              <p:nvPr/>
            </p:nvSpPr>
            <p:spPr>
              <a:xfrm>
                <a:off x="7850160" y="2763720"/>
                <a:ext cx="684360" cy="26856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848720" y="2709720"/>
                <a:ext cx="682560" cy="1908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848720" y="2709720"/>
                <a:ext cx="682560" cy="1908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850160" y="2575080"/>
                <a:ext cx="684360" cy="26820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7953480" y="2604960"/>
                <a:ext cx="473040" cy="204840"/>
                <a:chOff x="7953480" y="2604960"/>
                <a:chExt cx="473040" cy="204840"/>
              </a:xfrm>
            </p:grpSpPr>
            <p:grpSp>
              <p:nvGrpSpPr>
                <p:cNvPr id="1826" name=""/>
                <p:cNvGrpSpPr/>
                <p:nvPr/>
              </p:nvGrpSpPr>
              <p:grpSpPr>
                <a:xfrm>
                  <a:off x="7953480" y="2604960"/>
                  <a:ext cx="469800" cy="200160"/>
                  <a:chOff x="7953480" y="2604960"/>
                  <a:chExt cx="469800" cy="200160"/>
                </a:xfrm>
              </p:grpSpPr>
              <p:sp>
                <p:nvSpPr>
                  <p:cNvPr id="1827" name=""/>
                  <p:cNvSpPr/>
                  <p:nvPr/>
                </p:nvSpPr>
                <p:spPr>
                  <a:xfrm>
                    <a:off x="8197920" y="2611440"/>
                    <a:ext cx="225360" cy="85680"/>
                  </a:xfrm>
                  <a:custGeom>
                    <a:avLst/>
                    <a:gdLst>
                      <a:gd name="textAreaLeft" fmla="*/ 0 w 225360"/>
                      <a:gd name="textAreaRight" fmla="*/ 225720 w 22536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0" y="117"/>
                        </a:moveTo>
                        <a:lnTo>
                          <a:pt x="100" y="149"/>
                        </a:lnTo>
                        <a:lnTo>
                          <a:pt x="342" y="50"/>
                        </a:lnTo>
                        <a:lnTo>
                          <a:pt x="451" y="84"/>
                        </a:lnTo>
                        <a:lnTo>
                          <a:pt x="392" y="0"/>
                        </a:lnTo>
                        <a:lnTo>
                          <a:pt x="108" y="0"/>
                        </a:lnTo>
                        <a:lnTo>
                          <a:pt x="226" y="25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8197920" y="2611440"/>
                    <a:ext cx="225360" cy="85680"/>
                  </a:xfrm>
                  <a:custGeom>
                    <a:avLst/>
                    <a:gdLst>
                      <a:gd name="textAreaLeft" fmla="*/ 0 w 225360"/>
                      <a:gd name="textAreaRight" fmla="*/ 225720 w 22536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0" y="117"/>
                        </a:moveTo>
                        <a:lnTo>
                          <a:pt x="100" y="149"/>
                        </a:lnTo>
                        <a:lnTo>
                          <a:pt x="342" y="50"/>
                        </a:lnTo>
                        <a:lnTo>
                          <a:pt x="451" y="84"/>
                        </a:lnTo>
                        <a:lnTo>
                          <a:pt x="392" y="0"/>
                        </a:lnTo>
                        <a:lnTo>
                          <a:pt x="108" y="0"/>
                        </a:lnTo>
                        <a:lnTo>
                          <a:pt x="226" y="25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7953480" y="2709720"/>
                    <a:ext cx="223560" cy="90720"/>
                  </a:xfrm>
                  <a:custGeom>
                    <a:avLst/>
                    <a:gdLst>
                      <a:gd name="textAreaLeft" fmla="*/ 0 w 223560"/>
                      <a:gd name="textAreaRight" fmla="*/ 223920 w 2235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52" h="158">
                        <a:moveTo>
                          <a:pt x="452" y="33"/>
                        </a:moveTo>
                        <a:lnTo>
                          <a:pt x="351" y="0"/>
                        </a:lnTo>
                        <a:lnTo>
                          <a:pt x="118" y="100"/>
                        </a:lnTo>
                        <a:lnTo>
                          <a:pt x="0" y="66"/>
                        </a:lnTo>
                        <a:lnTo>
                          <a:pt x="59" y="158"/>
                        </a:lnTo>
                        <a:lnTo>
                          <a:pt x="351" y="158"/>
                        </a:lnTo>
                        <a:lnTo>
                          <a:pt x="226" y="125"/>
                        </a:lnTo>
                        <a:lnTo>
                          <a:pt x="452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7953480" y="2709720"/>
                    <a:ext cx="223560" cy="90720"/>
                  </a:xfrm>
                  <a:custGeom>
                    <a:avLst/>
                    <a:gdLst>
                      <a:gd name="textAreaLeft" fmla="*/ 0 w 223560"/>
                      <a:gd name="textAreaRight" fmla="*/ 223920 w 2235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52" h="158">
                        <a:moveTo>
                          <a:pt x="452" y="33"/>
                        </a:moveTo>
                        <a:lnTo>
                          <a:pt x="351" y="0"/>
                        </a:lnTo>
                        <a:lnTo>
                          <a:pt x="118" y="100"/>
                        </a:lnTo>
                        <a:lnTo>
                          <a:pt x="0" y="66"/>
                        </a:lnTo>
                        <a:lnTo>
                          <a:pt x="59" y="158"/>
                        </a:lnTo>
                        <a:lnTo>
                          <a:pt x="351" y="158"/>
                        </a:lnTo>
                        <a:lnTo>
                          <a:pt x="226" y="125"/>
                        </a:lnTo>
                        <a:lnTo>
                          <a:pt x="452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7964640" y="2604960"/>
                    <a:ext cx="225360" cy="85680"/>
                  </a:xfrm>
                  <a:custGeom>
                    <a:avLst/>
                    <a:gdLst>
                      <a:gd name="textAreaLeft" fmla="*/ 0 w 225360"/>
                      <a:gd name="textAreaRight" fmla="*/ 225720 w 22536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0" y="33"/>
                        </a:moveTo>
                        <a:lnTo>
                          <a:pt x="100" y="0"/>
                        </a:lnTo>
                        <a:lnTo>
                          <a:pt x="342" y="92"/>
                        </a:lnTo>
                        <a:lnTo>
                          <a:pt x="451" y="67"/>
                        </a:lnTo>
                        <a:lnTo>
                          <a:pt x="392" y="149"/>
                        </a:lnTo>
                        <a:lnTo>
                          <a:pt x="107" y="149"/>
                        </a:lnTo>
                        <a:lnTo>
                          <a:pt x="225" y="125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7964640" y="2604960"/>
                    <a:ext cx="225360" cy="85680"/>
                  </a:xfrm>
                  <a:custGeom>
                    <a:avLst/>
                    <a:gdLst>
                      <a:gd name="textAreaLeft" fmla="*/ 0 w 225360"/>
                      <a:gd name="textAreaRight" fmla="*/ 225720 w 22536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0" y="33"/>
                        </a:moveTo>
                        <a:lnTo>
                          <a:pt x="100" y="0"/>
                        </a:lnTo>
                        <a:lnTo>
                          <a:pt x="342" y="92"/>
                        </a:lnTo>
                        <a:lnTo>
                          <a:pt x="451" y="67"/>
                        </a:lnTo>
                        <a:lnTo>
                          <a:pt x="392" y="149"/>
                        </a:lnTo>
                        <a:lnTo>
                          <a:pt x="107" y="149"/>
                        </a:lnTo>
                        <a:lnTo>
                          <a:pt x="225" y="125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8190000" y="2720880"/>
                    <a:ext cx="223920" cy="8424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4240"/>
                      <a:gd name="textAreaBottom" fmla="*/ 84600 h 8424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451" y="116"/>
                        </a:moveTo>
                        <a:lnTo>
                          <a:pt x="351" y="149"/>
                        </a:lnTo>
                        <a:lnTo>
                          <a:pt x="117" y="49"/>
                        </a:lnTo>
                        <a:lnTo>
                          <a:pt x="0" y="83"/>
                        </a:lnTo>
                        <a:lnTo>
                          <a:pt x="58" y="0"/>
                        </a:lnTo>
                        <a:lnTo>
                          <a:pt x="351" y="0"/>
                        </a:lnTo>
                        <a:lnTo>
                          <a:pt x="226" y="25"/>
                        </a:lnTo>
                        <a:lnTo>
                          <a:pt x="451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8190000" y="2720880"/>
                    <a:ext cx="223920" cy="8424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4240"/>
                      <a:gd name="textAreaBottom" fmla="*/ 84600 h 8424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451" y="116"/>
                        </a:moveTo>
                        <a:lnTo>
                          <a:pt x="351" y="149"/>
                        </a:lnTo>
                        <a:lnTo>
                          <a:pt x="117" y="49"/>
                        </a:lnTo>
                        <a:lnTo>
                          <a:pt x="0" y="83"/>
                        </a:lnTo>
                        <a:lnTo>
                          <a:pt x="58" y="0"/>
                        </a:lnTo>
                        <a:lnTo>
                          <a:pt x="351" y="0"/>
                        </a:lnTo>
                        <a:lnTo>
                          <a:pt x="226" y="25"/>
                        </a:lnTo>
                        <a:lnTo>
                          <a:pt x="451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35" name=""/>
                <p:cNvGrpSpPr/>
                <p:nvPr/>
              </p:nvGrpSpPr>
              <p:grpSpPr>
                <a:xfrm>
                  <a:off x="7958160" y="2611440"/>
                  <a:ext cx="468360" cy="198360"/>
                  <a:chOff x="7958160" y="2611440"/>
                  <a:chExt cx="468360" cy="19836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8202600" y="2616120"/>
                    <a:ext cx="223920" cy="8424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4240"/>
                      <a:gd name="textAreaBottom" fmla="*/ 84600 h 84240"/>
                    </a:gdLst>
                    <a:ahLst/>
                    <a:rect l="textAreaLeft" t="textAreaTop" r="textAreaRight" b="textAreaBottom"/>
                    <a:pathLst>
                      <a:path w="451" h="148">
                        <a:moveTo>
                          <a:pt x="0" y="116"/>
                        </a:moveTo>
                        <a:lnTo>
                          <a:pt x="100" y="148"/>
                        </a:lnTo>
                        <a:lnTo>
                          <a:pt x="342" y="50"/>
                        </a:lnTo>
                        <a:lnTo>
                          <a:pt x="451" y="83"/>
                        </a:lnTo>
                        <a:lnTo>
                          <a:pt x="393" y="0"/>
                        </a:lnTo>
                        <a:lnTo>
                          <a:pt x="109" y="0"/>
                        </a:lnTo>
                        <a:lnTo>
                          <a:pt x="226" y="25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8202600" y="2616120"/>
                    <a:ext cx="223920" cy="8424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4240"/>
                      <a:gd name="textAreaBottom" fmla="*/ 84600 h 84240"/>
                    </a:gdLst>
                    <a:ahLst/>
                    <a:rect l="textAreaLeft" t="textAreaTop" r="textAreaRight" b="textAreaBottom"/>
                    <a:pathLst>
                      <a:path w="451" h="148">
                        <a:moveTo>
                          <a:pt x="0" y="116"/>
                        </a:moveTo>
                        <a:lnTo>
                          <a:pt x="100" y="148"/>
                        </a:lnTo>
                        <a:lnTo>
                          <a:pt x="342" y="50"/>
                        </a:lnTo>
                        <a:lnTo>
                          <a:pt x="451" y="83"/>
                        </a:lnTo>
                        <a:lnTo>
                          <a:pt x="393" y="0"/>
                        </a:lnTo>
                        <a:lnTo>
                          <a:pt x="109" y="0"/>
                        </a:lnTo>
                        <a:lnTo>
                          <a:pt x="226" y="25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7958160" y="2716200"/>
                    <a:ext cx="223920" cy="8892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451" h="158">
                        <a:moveTo>
                          <a:pt x="451" y="34"/>
                        </a:moveTo>
                        <a:lnTo>
                          <a:pt x="351" y="0"/>
                        </a:lnTo>
                        <a:lnTo>
                          <a:pt x="117" y="100"/>
                        </a:lnTo>
                        <a:lnTo>
                          <a:pt x="0" y="67"/>
                        </a:lnTo>
                        <a:lnTo>
                          <a:pt x="58" y="158"/>
                        </a:lnTo>
                        <a:lnTo>
                          <a:pt x="351" y="158"/>
                        </a:lnTo>
                        <a:lnTo>
                          <a:pt x="225" y="125"/>
                        </a:lnTo>
                        <a:lnTo>
                          <a:pt x="451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7958160" y="2716200"/>
                    <a:ext cx="223920" cy="8892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451" h="158">
                        <a:moveTo>
                          <a:pt x="451" y="34"/>
                        </a:moveTo>
                        <a:lnTo>
                          <a:pt x="351" y="0"/>
                        </a:lnTo>
                        <a:lnTo>
                          <a:pt x="117" y="100"/>
                        </a:lnTo>
                        <a:lnTo>
                          <a:pt x="0" y="67"/>
                        </a:lnTo>
                        <a:lnTo>
                          <a:pt x="58" y="158"/>
                        </a:lnTo>
                        <a:lnTo>
                          <a:pt x="351" y="158"/>
                        </a:lnTo>
                        <a:lnTo>
                          <a:pt x="225" y="125"/>
                        </a:lnTo>
                        <a:lnTo>
                          <a:pt x="451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7969320" y="2611440"/>
                    <a:ext cx="223920" cy="8568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0" y="34"/>
                        </a:moveTo>
                        <a:lnTo>
                          <a:pt x="99" y="0"/>
                        </a:lnTo>
                        <a:lnTo>
                          <a:pt x="342" y="92"/>
                        </a:lnTo>
                        <a:lnTo>
                          <a:pt x="451" y="67"/>
                        </a:lnTo>
                        <a:lnTo>
                          <a:pt x="393" y="149"/>
                        </a:lnTo>
                        <a:lnTo>
                          <a:pt x="108" y="149"/>
                        </a:lnTo>
                        <a:lnTo>
                          <a:pt x="225" y="125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7969320" y="2611440"/>
                    <a:ext cx="223920" cy="8568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0" y="34"/>
                        </a:moveTo>
                        <a:lnTo>
                          <a:pt x="99" y="0"/>
                        </a:lnTo>
                        <a:lnTo>
                          <a:pt x="342" y="92"/>
                        </a:lnTo>
                        <a:lnTo>
                          <a:pt x="451" y="67"/>
                        </a:lnTo>
                        <a:lnTo>
                          <a:pt x="393" y="149"/>
                        </a:lnTo>
                        <a:lnTo>
                          <a:pt x="108" y="149"/>
                        </a:lnTo>
                        <a:lnTo>
                          <a:pt x="225" y="125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8193240" y="2724120"/>
                    <a:ext cx="225360" cy="85680"/>
                  </a:xfrm>
                  <a:custGeom>
                    <a:avLst/>
                    <a:gdLst>
                      <a:gd name="textAreaLeft" fmla="*/ 0 w 225360"/>
                      <a:gd name="textAreaRight" fmla="*/ 225720 w 22536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451" y="116"/>
                        </a:moveTo>
                        <a:lnTo>
                          <a:pt x="351" y="149"/>
                        </a:lnTo>
                        <a:lnTo>
                          <a:pt x="117" y="50"/>
                        </a:lnTo>
                        <a:lnTo>
                          <a:pt x="0" y="83"/>
                        </a:lnTo>
                        <a:lnTo>
                          <a:pt x="59" y="0"/>
                        </a:lnTo>
                        <a:lnTo>
                          <a:pt x="351" y="0"/>
                        </a:lnTo>
                        <a:lnTo>
                          <a:pt x="226" y="25"/>
                        </a:lnTo>
                        <a:lnTo>
                          <a:pt x="451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8193240" y="2724120"/>
                    <a:ext cx="225360" cy="85680"/>
                  </a:xfrm>
                  <a:custGeom>
                    <a:avLst/>
                    <a:gdLst>
                      <a:gd name="textAreaLeft" fmla="*/ 0 w 225360"/>
                      <a:gd name="textAreaRight" fmla="*/ 225720 w 225360"/>
                      <a:gd name="textAreaTop" fmla="*/ 0 h 85680"/>
                      <a:gd name="textAreaBottom" fmla="*/ 86040 h 85680"/>
                    </a:gdLst>
                    <a:ahLst/>
                    <a:rect l="textAreaLeft" t="textAreaTop" r="textAreaRight" b="textAreaBottom"/>
                    <a:pathLst>
                      <a:path w="451" h="149">
                        <a:moveTo>
                          <a:pt x="451" y="116"/>
                        </a:moveTo>
                        <a:lnTo>
                          <a:pt x="351" y="149"/>
                        </a:lnTo>
                        <a:lnTo>
                          <a:pt x="117" y="50"/>
                        </a:lnTo>
                        <a:lnTo>
                          <a:pt x="0" y="83"/>
                        </a:lnTo>
                        <a:lnTo>
                          <a:pt x="59" y="0"/>
                        </a:lnTo>
                        <a:lnTo>
                          <a:pt x="351" y="0"/>
                        </a:lnTo>
                        <a:lnTo>
                          <a:pt x="226" y="25"/>
                        </a:lnTo>
                        <a:lnTo>
                          <a:pt x="451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844" name=""/>
              <p:cNvSpPr/>
              <p:nvPr/>
            </p:nvSpPr>
            <p:spPr>
              <a:xfrm>
                <a:off x="7848720" y="2705040"/>
                <a:ext cx="1440" cy="189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531280" y="2705040"/>
                <a:ext cx="1440" cy="1890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8043840" y="2849400"/>
              <a:ext cx="293760" cy="152640"/>
              <a:chOff x="8043840" y="2849400"/>
              <a:chExt cx="293760" cy="152640"/>
            </a:xfrm>
          </p:grpSpPr>
          <p:sp>
            <p:nvSpPr>
              <p:cNvPr id="1847" name=""/>
              <p:cNvSpPr/>
              <p:nvPr/>
            </p:nvSpPr>
            <p:spPr>
              <a:xfrm>
                <a:off x="8120160" y="2852640"/>
                <a:ext cx="145800" cy="14940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118360" y="2849400"/>
                <a:ext cx="144720" cy="149400"/>
              </a:xfrm>
              <a:prstGeom prst="ellipse">
                <a:avLst/>
              </a:prstGeom>
              <a:noFill/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49" name=""/>
              <p:cNvGrpSpPr/>
              <p:nvPr/>
            </p:nvGrpSpPr>
            <p:grpSpPr>
              <a:xfrm>
                <a:off x="8043840" y="2862360"/>
                <a:ext cx="293760" cy="125280"/>
                <a:chOff x="8043840" y="2862360"/>
                <a:chExt cx="293760" cy="12528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8043840" y="294012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349" y="16"/>
                      </a:moveTo>
                      <a:lnTo>
                        <a:pt x="349" y="37"/>
                      </a:lnTo>
                      <a:lnTo>
                        <a:pt x="28" y="37"/>
                      </a:lnTo>
                      <a:lnTo>
                        <a:pt x="28" y="53"/>
                      </a:lnTo>
                      <a:lnTo>
                        <a:pt x="0" y="25"/>
                      </a:lnTo>
                      <a:lnTo>
                        <a:pt x="28" y="0"/>
                      </a:lnTo>
                      <a:lnTo>
                        <a:pt x="28" y="16"/>
                      </a:lnTo>
                      <a:lnTo>
                        <a:pt x="34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8043840" y="294012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349" y="16"/>
                      </a:moveTo>
                      <a:lnTo>
                        <a:pt x="349" y="37"/>
                      </a:lnTo>
                      <a:lnTo>
                        <a:pt x="28" y="37"/>
                      </a:lnTo>
                      <a:lnTo>
                        <a:pt x="28" y="53"/>
                      </a:lnTo>
                      <a:lnTo>
                        <a:pt x="0" y="25"/>
                      </a:lnTo>
                      <a:lnTo>
                        <a:pt x="28" y="0"/>
                      </a:lnTo>
                      <a:lnTo>
                        <a:pt x="28" y="16"/>
                      </a:lnTo>
                      <a:lnTo>
                        <a:pt x="34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8043840" y="286236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0" y="16"/>
                      </a:moveTo>
                      <a:lnTo>
                        <a:pt x="0" y="38"/>
                      </a:lnTo>
                      <a:lnTo>
                        <a:pt x="324" y="38"/>
                      </a:lnTo>
                      <a:lnTo>
                        <a:pt x="324" y="53"/>
                      </a:lnTo>
                      <a:lnTo>
                        <a:pt x="349" y="25"/>
                      </a:lnTo>
                      <a:lnTo>
                        <a:pt x="324" y="0"/>
                      </a:lnTo>
                      <a:lnTo>
                        <a:pt x="324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8043840" y="286236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0" y="16"/>
                      </a:moveTo>
                      <a:lnTo>
                        <a:pt x="0" y="38"/>
                      </a:lnTo>
                      <a:lnTo>
                        <a:pt x="324" y="38"/>
                      </a:lnTo>
                      <a:lnTo>
                        <a:pt x="324" y="53"/>
                      </a:lnTo>
                      <a:lnTo>
                        <a:pt x="349" y="25"/>
                      </a:lnTo>
                      <a:lnTo>
                        <a:pt x="324" y="0"/>
                      </a:lnTo>
                      <a:lnTo>
                        <a:pt x="324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8047080" y="294336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349" y="16"/>
                      </a:moveTo>
                      <a:lnTo>
                        <a:pt x="349" y="38"/>
                      </a:lnTo>
                      <a:lnTo>
                        <a:pt x="28" y="38"/>
                      </a:lnTo>
                      <a:lnTo>
                        <a:pt x="28" y="53"/>
                      </a:lnTo>
                      <a:lnTo>
                        <a:pt x="0" y="25"/>
                      </a:lnTo>
                      <a:lnTo>
                        <a:pt x="28" y="0"/>
                      </a:lnTo>
                      <a:lnTo>
                        <a:pt x="28" y="16"/>
                      </a:lnTo>
                      <a:lnTo>
                        <a:pt x="349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8047080" y="294336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349" y="16"/>
                      </a:moveTo>
                      <a:lnTo>
                        <a:pt x="349" y="38"/>
                      </a:lnTo>
                      <a:lnTo>
                        <a:pt x="28" y="38"/>
                      </a:lnTo>
                      <a:lnTo>
                        <a:pt x="28" y="53"/>
                      </a:lnTo>
                      <a:lnTo>
                        <a:pt x="0" y="25"/>
                      </a:lnTo>
                      <a:lnTo>
                        <a:pt x="28" y="0"/>
                      </a:lnTo>
                      <a:lnTo>
                        <a:pt x="28" y="16"/>
                      </a:lnTo>
                      <a:lnTo>
                        <a:pt x="349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8047080" y="286560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0" y="15"/>
                      </a:moveTo>
                      <a:lnTo>
                        <a:pt x="0" y="37"/>
                      </a:lnTo>
                      <a:lnTo>
                        <a:pt x="324" y="37"/>
                      </a:lnTo>
                      <a:lnTo>
                        <a:pt x="324" y="53"/>
                      </a:lnTo>
                      <a:lnTo>
                        <a:pt x="349" y="24"/>
                      </a:lnTo>
                      <a:lnTo>
                        <a:pt x="324" y="0"/>
                      </a:lnTo>
                      <a:lnTo>
                        <a:pt x="324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8047080" y="2865600"/>
                  <a:ext cx="290520" cy="44280"/>
                </a:xfrm>
                <a:custGeom>
                  <a:avLst/>
                  <a:gdLst>
                    <a:gd name="textAreaLeft" fmla="*/ 0 w 290520"/>
                    <a:gd name="textAreaRight" fmla="*/ 290520 w 29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49" h="53">
                      <a:moveTo>
                        <a:pt x="0" y="15"/>
                      </a:moveTo>
                      <a:lnTo>
                        <a:pt x="0" y="37"/>
                      </a:lnTo>
                      <a:lnTo>
                        <a:pt x="324" y="37"/>
                      </a:lnTo>
                      <a:lnTo>
                        <a:pt x="324" y="53"/>
                      </a:lnTo>
                      <a:lnTo>
                        <a:pt x="349" y="24"/>
                      </a:lnTo>
                      <a:lnTo>
                        <a:pt x="324" y="0"/>
                      </a:lnTo>
                      <a:lnTo>
                        <a:pt x="324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58" name=""/>
          <p:cNvSpPr/>
          <p:nvPr/>
        </p:nvSpPr>
        <p:spPr>
          <a:xfrm>
            <a:off x="6553080" y="2270160"/>
            <a:ext cx="225288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7238880" y="1735200"/>
            <a:ext cx="1800" cy="536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8458200" y="1658880"/>
            <a:ext cx="1440" cy="612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"/>
          <p:cNvSpPr/>
          <p:nvPr/>
        </p:nvSpPr>
        <p:spPr>
          <a:xfrm>
            <a:off x="6861600" y="2575080"/>
            <a:ext cx="9946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500" spc="-1" strike="noStrike">
                <a:solidFill>
                  <a:srgbClr val="000000"/>
                </a:solidFill>
                <a:latin typeface="Arial"/>
              </a:rPr>
              <a:t>NM-CI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2" name=""/>
          <p:cNvGrpSpPr/>
          <p:nvPr/>
        </p:nvGrpSpPr>
        <p:grpSpPr>
          <a:xfrm>
            <a:off x="6934320" y="1508040"/>
            <a:ext cx="560160" cy="457200"/>
            <a:chOff x="6934320" y="1508040"/>
            <a:chExt cx="560160" cy="457200"/>
          </a:xfrm>
        </p:grpSpPr>
        <p:sp>
          <p:nvSpPr>
            <p:cNvPr id="1863" name=""/>
            <p:cNvSpPr/>
            <p:nvPr/>
          </p:nvSpPr>
          <p:spPr>
            <a:xfrm>
              <a:off x="6934320" y="1784520"/>
              <a:ext cx="549000" cy="16344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934320" y="1784520"/>
              <a:ext cx="549000" cy="16344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113600" y="191916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147080" y="1919160"/>
              <a:ext cx="33120" cy="1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120080" y="189072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149960" y="1890720"/>
              <a:ext cx="33480" cy="12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934320" y="1947960"/>
              <a:ext cx="387360" cy="172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935760" y="1949400"/>
              <a:ext cx="38412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097760" y="1519200"/>
              <a:ext cx="38556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099200" y="1519200"/>
              <a:ext cx="38268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483320" y="15080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483320" y="15080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115040" y="1539720"/>
              <a:ext cx="3495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116840" y="1541520"/>
              <a:ext cx="34596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032600" y="1797120"/>
              <a:ext cx="409680" cy="84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32600" y="1797120"/>
              <a:ext cx="409680" cy="84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137360" y="1906560"/>
              <a:ext cx="2844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0" name=""/>
            <p:cNvGrpSpPr/>
            <p:nvPr/>
          </p:nvGrpSpPr>
          <p:grpSpPr>
            <a:xfrm>
              <a:off x="7116840" y="1893960"/>
              <a:ext cx="68040" cy="42840"/>
              <a:chOff x="7116840" y="1893960"/>
              <a:chExt cx="68040" cy="42840"/>
            </a:xfrm>
          </p:grpSpPr>
          <p:sp>
            <p:nvSpPr>
              <p:cNvPr id="1881" name=""/>
              <p:cNvSpPr/>
              <p:nvPr/>
            </p:nvSpPr>
            <p:spPr>
              <a:xfrm>
                <a:off x="7116840" y="192240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148520" y="1922400"/>
                <a:ext cx="33480" cy="144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121520" y="1893960"/>
                <a:ext cx="34920" cy="11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151760" y="1893960"/>
                <a:ext cx="33120" cy="111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7321680" y="1784520"/>
              <a:ext cx="161640" cy="177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321680" y="1784520"/>
              <a:ext cx="161640" cy="177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427880" y="177156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429680" y="1773360"/>
              <a:ext cx="28440" cy="144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7095960" y="1817640"/>
              <a:ext cx="32544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7074000" y="1839960"/>
              <a:ext cx="32688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7052760" y="1860480"/>
              <a:ext cx="32724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097760" y="150804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97760" y="150804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153280" y="1508040"/>
            <a:ext cx="560520" cy="457200"/>
            <a:chOff x="8153280" y="1508040"/>
            <a:chExt cx="560520" cy="457200"/>
          </a:xfrm>
        </p:grpSpPr>
        <p:sp>
          <p:nvSpPr>
            <p:cNvPr id="1895" name=""/>
            <p:cNvSpPr/>
            <p:nvPr/>
          </p:nvSpPr>
          <p:spPr>
            <a:xfrm>
              <a:off x="8153280" y="17845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153280" y="1784520"/>
              <a:ext cx="549360" cy="1634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3" h="123">
                  <a:moveTo>
                    <a:pt x="117" y="0"/>
                  </a:moveTo>
                  <a:lnTo>
                    <a:pt x="393" y="0"/>
                  </a:lnTo>
                  <a:lnTo>
                    <a:pt x="277" y="123"/>
                  </a:lnTo>
                  <a:lnTo>
                    <a:pt x="0" y="12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334360" y="191916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</a:path>
                <a:path stroke="0" w="21600" h="21600">
                  <a:moveTo>
                    <a:pt x="21469" y="21599"/>
                  </a:moveTo>
                  <a:cubicBezTo>
                    <a:pt x="9590" y="21527"/>
                    <a:pt x="0" y="11878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366040" y="191916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fill="none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</a:path>
                <a:path stroke="0" w="21737" h="21600">
                  <a:moveTo>
                    <a:pt x="21737" y="0"/>
                  </a:moveTo>
                  <a:cubicBezTo>
                    <a:pt x="21737" y="11929"/>
                    <a:pt x="12066" y="21600"/>
                    <a:pt x="137" y="21600"/>
                  </a:cubicBezTo>
                  <a:cubicBezTo>
                    <a:pt x="91" y="21600"/>
                    <a:pt x="45" y="21599"/>
                    <a:pt x="0" y="21599"/>
                  </a:cubicBezTo>
                  <a:lnTo>
                    <a:pt x="137" y="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339040" y="189072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</a:path>
                <a:path stroke="0" w="21597" h="21600">
                  <a:moveTo>
                    <a:pt x="0" y="21214"/>
                  </a:moveTo>
                  <a:cubicBezTo>
                    <a:pt x="210" y="9487"/>
                    <a:pt x="9738" y="70"/>
                    <a:pt x="21467" y="0"/>
                  </a:cubicBezTo>
                  <a:lnTo>
                    <a:pt x="21597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369280" y="1890720"/>
              <a:ext cx="33480" cy="12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fill="none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</a:path>
                <a:path stroke="0" w="21729" h="21600">
                  <a:moveTo>
                    <a:pt x="0" y="0"/>
                  </a:moveTo>
                  <a:cubicBezTo>
                    <a:pt x="44" y="0"/>
                    <a:pt x="88" y="-1"/>
                    <a:pt x="132" y="0"/>
                  </a:cubicBezTo>
                  <a:cubicBezTo>
                    <a:pt x="11921" y="0"/>
                    <a:pt x="21533" y="9453"/>
                    <a:pt x="21729" y="21240"/>
                  </a:cubicBezTo>
                  <a:lnTo>
                    <a:pt x="132" y="21600"/>
                  </a:lnTo>
                  <a:close/>
                </a:path>
              </a:pathLst>
            </a:custGeom>
            <a:noFill/>
            <a:ln w="7920">
              <a:solidFill>
                <a:srgbClr val="dbdb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153280" y="1947960"/>
              <a:ext cx="387360" cy="172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155080" y="1949400"/>
              <a:ext cx="384120" cy="1440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317080" y="1519200"/>
              <a:ext cx="385560" cy="2667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318520" y="1519200"/>
              <a:ext cx="382680" cy="263520"/>
            </a:xfrm>
            <a:prstGeom prst="rect">
              <a:avLst/>
            </a:prstGeom>
            <a:solidFill>
              <a:srgbClr val="a5a585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702640" y="15080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702640" y="1508040"/>
              <a:ext cx="11160" cy="27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8" h="209">
                  <a:moveTo>
                    <a:pt x="8" y="201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209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334360" y="1539720"/>
              <a:ext cx="34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35800" y="1541520"/>
              <a:ext cx="346320" cy="22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251920" y="1797120"/>
              <a:ext cx="409320" cy="842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251920" y="1797120"/>
              <a:ext cx="409320" cy="842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93" h="64">
                  <a:moveTo>
                    <a:pt x="60" y="0"/>
                  </a:moveTo>
                  <a:lnTo>
                    <a:pt x="293" y="0"/>
                  </a:lnTo>
                  <a:lnTo>
                    <a:pt x="233" y="64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3936c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354880" y="1906560"/>
              <a:ext cx="28800" cy="15840"/>
            </a:xfrm>
            <a:prstGeom prst="ellipse">
              <a:avLst/>
            </a:prstGeom>
            <a:solidFill>
              <a:srgbClr val="7a7a5a"/>
            </a:solidFill>
            <a:ln w="3240">
              <a:solidFill>
                <a:srgbClr val="dbdb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8335800" y="1893960"/>
              <a:ext cx="68400" cy="42840"/>
              <a:chOff x="8335800" y="1893960"/>
              <a:chExt cx="68400" cy="42840"/>
            </a:xfrm>
          </p:grpSpPr>
          <p:sp>
            <p:nvSpPr>
              <p:cNvPr id="1913" name=""/>
              <p:cNvSpPr/>
              <p:nvPr/>
            </p:nvSpPr>
            <p:spPr>
              <a:xfrm>
                <a:off x="8335800" y="192240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367840" y="1922400"/>
                <a:ext cx="33120" cy="14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8340840" y="1893960"/>
                <a:ext cx="34920" cy="11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8370720" y="1893960"/>
                <a:ext cx="33480" cy="11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792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>
              <a:off x="8540640" y="178452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540640" y="178452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34">
                  <a:moveTo>
                    <a:pt x="116" y="11"/>
                  </a:moveTo>
                  <a:lnTo>
                    <a:pt x="0" y="134"/>
                  </a:lnTo>
                  <a:lnTo>
                    <a:pt x="0" y="123"/>
                  </a:lnTo>
                  <a:lnTo>
                    <a:pt x="116" y="0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648640" y="1771560"/>
              <a:ext cx="31680" cy="32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648640" y="1773360"/>
              <a:ext cx="28800" cy="1440"/>
            </a:xfrm>
            <a:prstGeom prst="rect">
              <a:avLst/>
            </a:prstGeom>
            <a:solidFill>
              <a:srgbClr val="7a7a5a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8315280" y="1817640"/>
              <a:ext cx="32544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8292600" y="1839960"/>
              <a:ext cx="327240" cy="144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8272440" y="1860480"/>
              <a:ext cx="326880" cy="1800"/>
            </a:xfrm>
            <a:prstGeom prst="line">
              <a:avLst/>
            </a:prstGeom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317080" y="150804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317080" y="1508040"/>
              <a:ext cx="396720" cy="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4" h="8">
                  <a:moveTo>
                    <a:pt x="7" y="0"/>
                  </a:moveTo>
                  <a:lnTo>
                    <a:pt x="284" y="0"/>
                  </a:lnTo>
                  <a:lnTo>
                    <a:pt x="276" y="8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6324480" y="3794040"/>
            <a:ext cx="609840" cy="381240"/>
            <a:chOff x="6324480" y="3794040"/>
            <a:chExt cx="609840" cy="381240"/>
          </a:xfrm>
        </p:grpSpPr>
        <p:grpSp>
          <p:nvGrpSpPr>
            <p:cNvPr id="1927" name=""/>
            <p:cNvGrpSpPr/>
            <p:nvPr/>
          </p:nvGrpSpPr>
          <p:grpSpPr>
            <a:xfrm>
              <a:off x="6324480" y="3794040"/>
              <a:ext cx="609840" cy="381240"/>
              <a:chOff x="6324480" y="3794040"/>
              <a:chExt cx="609840" cy="381240"/>
            </a:xfrm>
          </p:grpSpPr>
          <p:sp>
            <p:nvSpPr>
              <p:cNvPr id="1928" name=""/>
              <p:cNvSpPr/>
              <p:nvPr/>
            </p:nvSpPr>
            <p:spPr>
              <a:xfrm>
                <a:off x="6326280" y="3952800"/>
                <a:ext cx="608040" cy="222480"/>
              </a:xfrm>
              <a:prstGeom prst="ellipse">
                <a:avLst/>
              </a:prstGeom>
              <a:solidFill>
                <a:srgbClr val="0078aa"/>
              </a:solidFill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324480" y="3906720"/>
                <a:ext cx="608040" cy="1587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324480" y="3906720"/>
                <a:ext cx="608040" cy="1587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326280" y="3794040"/>
                <a:ext cx="608040" cy="222480"/>
              </a:xfrm>
              <a:prstGeom prst="ellipse">
                <a:avLst/>
              </a:prstGeom>
              <a:solidFill>
                <a:srgbClr val="00b4ff"/>
              </a:solidFill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324480" y="3902040"/>
                <a:ext cx="1800" cy="158760"/>
              </a:xfrm>
              <a:prstGeom prst="line">
                <a:avLst/>
              </a:prstGeom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932520" y="3902040"/>
                <a:ext cx="1800" cy="158760"/>
              </a:xfrm>
              <a:prstGeom prst="line">
                <a:avLst/>
              </a:prstGeom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6527880" y="3827520"/>
              <a:ext cx="199800" cy="166680"/>
              <a:chOff x="6527880" y="3827520"/>
              <a:chExt cx="199800" cy="166680"/>
            </a:xfrm>
          </p:grpSpPr>
          <p:grpSp>
            <p:nvGrpSpPr>
              <p:cNvPr id="1935" name=""/>
              <p:cNvGrpSpPr/>
              <p:nvPr/>
            </p:nvGrpSpPr>
            <p:grpSpPr>
              <a:xfrm>
                <a:off x="6527880" y="3827520"/>
                <a:ext cx="196920" cy="162000"/>
                <a:chOff x="6527880" y="3827520"/>
                <a:chExt cx="196920" cy="16200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6527880" y="3827520"/>
                  <a:ext cx="142920" cy="16200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138" h="143">
                      <a:moveTo>
                        <a:pt x="0" y="0"/>
                      </a:moveTo>
                      <a:lnTo>
                        <a:pt x="0" y="143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6527880" y="3827520"/>
                  <a:ext cx="142920" cy="16200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138" h="143">
                      <a:moveTo>
                        <a:pt x="0" y="0"/>
                      </a:moveTo>
                      <a:lnTo>
                        <a:pt x="0" y="143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6683400" y="3830760"/>
                  <a:ext cx="41400" cy="14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6683400" y="3830760"/>
                  <a:ext cx="41400" cy="14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6532560" y="3830760"/>
                <a:ext cx="195120" cy="163440"/>
                <a:chOff x="6532560" y="3830760"/>
                <a:chExt cx="195120" cy="16344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6532560" y="3830760"/>
                  <a:ext cx="144360" cy="16344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138" h="144">
                      <a:moveTo>
                        <a:pt x="0" y="0"/>
                      </a:moveTo>
                      <a:lnTo>
                        <a:pt x="0" y="144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532560" y="3830760"/>
                  <a:ext cx="144360" cy="16344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138" h="144">
                      <a:moveTo>
                        <a:pt x="0" y="0"/>
                      </a:moveTo>
                      <a:lnTo>
                        <a:pt x="0" y="144"/>
                      </a:lnTo>
                      <a:lnTo>
                        <a:pt x="138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686640" y="3835440"/>
                  <a:ext cx="4104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686640" y="3835440"/>
                  <a:ext cx="4104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945" name=""/>
          <p:cNvSpPr/>
          <p:nvPr/>
        </p:nvSpPr>
        <p:spPr>
          <a:xfrm>
            <a:off x="184680" y="1584360"/>
            <a:ext cx="221544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360" rIns="540360" tIns="270000" bIns="27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"/>
          <p:cNvSpPr/>
          <p:nvPr/>
        </p:nvSpPr>
        <p:spPr>
          <a:xfrm>
            <a:off x="7391520" y="3276720"/>
            <a:ext cx="1523880" cy="12952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"/>
          <p:cNvSpPr/>
          <p:nvPr/>
        </p:nvSpPr>
        <p:spPr>
          <a:xfrm>
            <a:off x="7093080" y="3413160"/>
            <a:ext cx="22032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360" rIns="540360" tIns="270000" bIns="27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rus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"/>
          <p:cNvSpPr/>
          <p:nvPr/>
        </p:nvSpPr>
        <p:spPr>
          <a:xfrm>
            <a:off x="4876920" y="4572000"/>
            <a:ext cx="3200400" cy="213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"/>
          <p:cNvSpPr/>
          <p:nvPr/>
        </p:nvSpPr>
        <p:spPr>
          <a:xfrm>
            <a:off x="6172200" y="4632480"/>
            <a:ext cx="762120" cy="1440"/>
          </a:xfrm>
          <a:prstGeom prst="line">
            <a:avLst/>
          </a:prstGeom>
          <a:ln w="50760">
            <a:solidFill>
              <a:srgbClr val="cf0e3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"/>
          <p:cNvSpPr/>
          <p:nvPr/>
        </p:nvSpPr>
        <p:spPr>
          <a:xfrm>
            <a:off x="6095880" y="5165640"/>
            <a:ext cx="533520" cy="1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"/>
          <p:cNvSpPr/>
          <p:nvPr/>
        </p:nvSpPr>
        <p:spPr>
          <a:xfrm>
            <a:off x="6095880" y="4632480"/>
            <a:ext cx="1800" cy="533160"/>
          </a:xfrm>
          <a:prstGeom prst="line">
            <a:avLst/>
          </a:prstGeom>
          <a:ln w="50760">
            <a:solidFill>
              <a:srgbClr val="cf0e3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"/>
          <p:cNvSpPr/>
          <p:nvPr/>
        </p:nvSpPr>
        <p:spPr>
          <a:xfrm>
            <a:off x="7066080" y="6200640"/>
            <a:ext cx="66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"/>
          <p:cNvSpPr/>
          <p:nvPr/>
        </p:nvSpPr>
        <p:spPr>
          <a:xfrm>
            <a:off x="5427720" y="6200640"/>
            <a:ext cx="66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"/>
          <p:cNvSpPr/>
          <p:nvPr/>
        </p:nvSpPr>
        <p:spPr>
          <a:xfrm>
            <a:off x="5824440" y="5425920"/>
            <a:ext cx="1800" cy="455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"/>
          <p:cNvSpPr/>
          <p:nvPr/>
        </p:nvSpPr>
        <p:spPr>
          <a:xfrm>
            <a:off x="7272360" y="5425920"/>
            <a:ext cx="1440" cy="455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"/>
          <p:cNvSpPr/>
          <p:nvPr/>
        </p:nvSpPr>
        <p:spPr>
          <a:xfrm>
            <a:off x="5595840" y="5435640"/>
            <a:ext cx="190512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5640480" y="5565600"/>
            <a:ext cx="412560" cy="659160"/>
            <a:chOff x="5640480" y="5565600"/>
            <a:chExt cx="412560" cy="659160"/>
          </a:xfrm>
        </p:grpSpPr>
        <p:sp>
          <p:nvSpPr>
            <p:cNvPr id="1958" name=""/>
            <p:cNvSpPr/>
            <p:nvPr/>
          </p:nvSpPr>
          <p:spPr>
            <a:xfrm>
              <a:off x="5640480" y="5613480"/>
              <a:ext cx="363600" cy="6112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41920" y="561492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640480" y="5565600"/>
              <a:ext cx="412560" cy="478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640480" y="5565600"/>
              <a:ext cx="412560" cy="478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664240" y="565164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684760" y="5689440"/>
              <a:ext cx="11592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004080" y="5565600"/>
              <a:ext cx="48960" cy="6591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004080" y="5565600"/>
              <a:ext cx="48960" cy="6591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645160" y="6183360"/>
              <a:ext cx="35892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645160" y="5857920"/>
              <a:ext cx="35892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640480" y="6180120"/>
              <a:ext cx="36360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640480" y="5854680"/>
              <a:ext cx="36360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662440" y="5649840"/>
              <a:ext cx="162000" cy="74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7164360" y="5564160"/>
            <a:ext cx="412920" cy="658800"/>
            <a:chOff x="7164360" y="5564160"/>
            <a:chExt cx="412920" cy="658800"/>
          </a:xfrm>
        </p:grpSpPr>
        <p:sp>
          <p:nvSpPr>
            <p:cNvPr id="1972" name=""/>
            <p:cNvSpPr/>
            <p:nvPr/>
          </p:nvSpPr>
          <p:spPr>
            <a:xfrm>
              <a:off x="7164360" y="5611680"/>
              <a:ext cx="363600" cy="60984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165800" y="561348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164360" y="556416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164360" y="5564160"/>
              <a:ext cx="412920" cy="475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188120" y="564984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209000" y="5688000"/>
              <a:ext cx="1155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527960" y="556416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527960" y="556416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167600" y="6183360"/>
              <a:ext cx="3603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167600" y="5857920"/>
              <a:ext cx="3603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164360" y="6178680"/>
              <a:ext cx="36360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164360" y="5853240"/>
              <a:ext cx="36360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186680" y="5648400"/>
              <a:ext cx="162000" cy="74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5029200" y="4937040"/>
            <a:ext cx="76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5715000" y="4937040"/>
            <a:ext cx="609480" cy="381240"/>
            <a:chOff x="5715000" y="4937040"/>
            <a:chExt cx="609480" cy="381240"/>
          </a:xfrm>
        </p:grpSpPr>
        <p:grpSp>
          <p:nvGrpSpPr>
            <p:cNvPr id="1987" name=""/>
            <p:cNvGrpSpPr/>
            <p:nvPr/>
          </p:nvGrpSpPr>
          <p:grpSpPr>
            <a:xfrm>
              <a:off x="5715000" y="4937040"/>
              <a:ext cx="609480" cy="381240"/>
              <a:chOff x="5715000" y="4937040"/>
              <a:chExt cx="609480" cy="381240"/>
            </a:xfrm>
          </p:grpSpPr>
          <p:sp>
            <p:nvSpPr>
              <p:cNvPr id="1988" name=""/>
              <p:cNvSpPr/>
              <p:nvPr/>
            </p:nvSpPr>
            <p:spPr>
              <a:xfrm>
                <a:off x="5715000" y="5000760"/>
                <a:ext cx="554040" cy="3175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16440" y="5002200"/>
                <a:ext cx="551160" cy="31428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269040" y="4937040"/>
                <a:ext cx="55440" cy="381240"/>
              </a:xfrm>
              <a:custGeom>
                <a:avLst/>
                <a:gdLst>
                  <a:gd name="textAreaLeft" fmla="*/ 0 w 55440"/>
                  <a:gd name="textAreaRight" fmla="*/ 55440 w 554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6269040" y="4937040"/>
                <a:ext cx="55440" cy="381240"/>
              </a:xfrm>
              <a:custGeom>
                <a:avLst/>
                <a:gdLst>
                  <a:gd name="textAreaLeft" fmla="*/ 0 w 55440"/>
                  <a:gd name="textAreaRight" fmla="*/ 55440 w 554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38" h="255">
                    <a:moveTo>
                      <a:pt x="0" y="255"/>
                    </a:moveTo>
                    <a:lnTo>
                      <a:pt x="38" y="215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715000" y="4937040"/>
                <a:ext cx="609480" cy="6372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15000" y="4937040"/>
                <a:ext cx="609480" cy="6372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414" h="43">
                    <a:moveTo>
                      <a:pt x="376" y="43"/>
                    </a:moveTo>
                    <a:lnTo>
                      <a:pt x="414" y="0"/>
                    </a:lnTo>
                    <a:lnTo>
                      <a:pt x="38" y="0"/>
                    </a:lnTo>
                    <a:lnTo>
                      <a:pt x="0" y="43"/>
                    </a:lnTo>
                    <a:lnTo>
                      <a:pt x="376" y="43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4" name=""/>
            <p:cNvSpPr/>
            <p:nvPr/>
          </p:nvSpPr>
          <p:spPr>
            <a:xfrm>
              <a:off x="5884920" y="5032440"/>
              <a:ext cx="226800" cy="2635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881680" y="5027760"/>
              <a:ext cx="225360" cy="26172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96" name=""/>
            <p:cNvGrpSpPr/>
            <p:nvPr/>
          </p:nvGrpSpPr>
          <p:grpSpPr>
            <a:xfrm>
              <a:off x="5767560" y="5052960"/>
              <a:ext cx="452160" cy="219240"/>
              <a:chOff x="5767560" y="5052960"/>
              <a:chExt cx="452160" cy="219240"/>
            </a:xfrm>
          </p:grpSpPr>
          <p:sp>
            <p:nvSpPr>
              <p:cNvPr id="1997" name=""/>
              <p:cNvSpPr/>
              <p:nvPr/>
            </p:nvSpPr>
            <p:spPr>
              <a:xfrm>
                <a:off x="5767560" y="5189400"/>
                <a:ext cx="448920" cy="7776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767560" y="5189400"/>
                <a:ext cx="448920" cy="7776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4" y="37"/>
                    </a:lnTo>
                    <a:lnTo>
                      <a:pt x="24" y="52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4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67560" y="5052960"/>
                <a:ext cx="448920" cy="7776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67560" y="5052960"/>
                <a:ext cx="448920" cy="7776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3" y="37"/>
                    </a:lnTo>
                    <a:lnTo>
                      <a:pt x="283" y="52"/>
                    </a:lnTo>
                    <a:lnTo>
                      <a:pt x="305" y="24"/>
                    </a:lnTo>
                    <a:lnTo>
                      <a:pt x="283" y="0"/>
                    </a:lnTo>
                    <a:lnTo>
                      <a:pt x="283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770440" y="519444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770440" y="519444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305" y="15"/>
                    </a:moveTo>
                    <a:lnTo>
                      <a:pt x="305" y="37"/>
                    </a:lnTo>
                    <a:lnTo>
                      <a:pt x="25" y="37"/>
                    </a:lnTo>
                    <a:lnTo>
                      <a:pt x="25" y="52"/>
                    </a:lnTo>
                    <a:lnTo>
                      <a:pt x="0" y="24"/>
                    </a:lnTo>
                    <a:lnTo>
                      <a:pt x="25" y="0"/>
                    </a:lnTo>
                    <a:lnTo>
                      <a:pt x="25" y="15"/>
                    </a:lnTo>
                    <a:lnTo>
                      <a:pt x="30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70440" y="505620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770440" y="5056200"/>
                <a:ext cx="449280" cy="777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05" h="52">
                    <a:moveTo>
                      <a:pt x="0" y="15"/>
                    </a:moveTo>
                    <a:lnTo>
                      <a:pt x="0" y="37"/>
                    </a:lnTo>
                    <a:lnTo>
                      <a:pt x="284" y="37"/>
                    </a:lnTo>
                    <a:lnTo>
                      <a:pt x="284" y="52"/>
                    </a:lnTo>
                    <a:lnTo>
                      <a:pt x="305" y="24"/>
                    </a:lnTo>
                    <a:lnTo>
                      <a:pt x="284" y="0"/>
                    </a:lnTo>
                    <a:lnTo>
                      <a:pt x="28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05" name=""/>
          <p:cNvGrpSpPr/>
          <p:nvPr/>
        </p:nvGrpSpPr>
        <p:grpSpPr>
          <a:xfrm>
            <a:off x="6248520" y="4556160"/>
            <a:ext cx="771480" cy="380880"/>
            <a:chOff x="6248520" y="4556160"/>
            <a:chExt cx="771480" cy="380880"/>
          </a:xfrm>
        </p:grpSpPr>
        <p:sp>
          <p:nvSpPr>
            <p:cNvPr id="2006" name=""/>
            <p:cNvSpPr/>
            <p:nvPr/>
          </p:nvSpPr>
          <p:spPr>
            <a:xfrm>
              <a:off x="6251400" y="4765680"/>
              <a:ext cx="587520" cy="16812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248520" y="476568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49">
                  <a:moveTo>
                    <a:pt x="56" y="3149"/>
                  </a:moveTo>
                  <a:lnTo>
                    <a:pt x="113" y="309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3"/>
                  </a:lnTo>
                  <a:lnTo>
                    <a:pt x="56" y="3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251400" y="4930920"/>
              <a:ext cx="588960" cy="61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462" h="113">
                  <a:moveTo>
                    <a:pt x="12462" y="57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2406" y="113"/>
                  </a:lnTo>
                  <a:lnTo>
                    <a:pt x="12462" y="5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835680" y="476244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49">
                  <a:moveTo>
                    <a:pt x="56" y="0"/>
                  </a:moveTo>
                  <a:lnTo>
                    <a:pt x="0" y="56"/>
                  </a:lnTo>
                  <a:lnTo>
                    <a:pt x="0" y="3149"/>
                  </a:lnTo>
                  <a:lnTo>
                    <a:pt x="112" y="3149"/>
                  </a:lnTo>
                  <a:lnTo>
                    <a:pt x="112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248520" y="4762440"/>
              <a:ext cx="588960" cy="64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62" h="112">
                  <a:moveTo>
                    <a:pt x="0" y="56"/>
                  </a:moveTo>
                  <a:lnTo>
                    <a:pt x="56" y="112"/>
                  </a:lnTo>
                  <a:lnTo>
                    <a:pt x="12462" y="112"/>
                  </a:lnTo>
                  <a:lnTo>
                    <a:pt x="12462" y="0"/>
                  </a:lnTo>
                  <a:lnTo>
                    <a:pt x="56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838920" y="4559400"/>
              <a:ext cx="177840" cy="3744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778" h="6860">
                  <a:moveTo>
                    <a:pt x="0" y="3767"/>
                  </a:moveTo>
                  <a:lnTo>
                    <a:pt x="3778" y="0"/>
                  </a:lnTo>
                  <a:lnTo>
                    <a:pt x="3778" y="3096"/>
                  </a:lnTo>
                  <a:lnTo>
                    <a:pt x="0" y="6860"/>
                  </a:lnTo>
                  <a:lnTo>
                    <a:pt x="0" y="376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7480" y="455760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3" h="3847">
                  <a:moveTo>
                    <a:pt x="3873" y="40"/>
                  </a:moveTo>
                  <a:lnTo>
                    <a:pt x="3777" y="0"/>
                  </a:lnTo>
                  <a:lnTo>
                    <a:pt x="0" y="3768"/>
                  </a:lnTo>
                  <a:lnTo>
                    <a:pt x="79" y="3847"/>
                  </a:lnTo>
                  <a:lnTo>
                    <a:pt x="3857" y="79"/>
                  </a:lnTo>
                  <a:lnTo>
                    <a:pt x="3873" y="4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015320" y="455940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" h="3135">
                  <a:moveTo>
                    <a:pt x="97" y="3135"/>
                  </a:moveTo>
                  <a:lnTo>
                    <a:pt x="113" y="3096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3096"/>
                  </a:lnTo>
                  <a:lnTo>
                    <a:pt x="97" y="31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835680" y="472608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74" h="3844">
                  <a:moveTo>
                    <a:pt x="0" y="3804"/>
                  </a:moveTo>
                  <a:lnTo>
                    <a:pt x="96" y="3844"/>
                  </a:lnTo>
                  <a:lnTo>
                    <a:pt x="3874" y="79"/>
                  </a:lnTo>
                  <a:lnTo>
                    <a:pt x="3794" y="0"/>
                  </a:lnTo>
                  <a:lnTo>
                    <a:pt x="17" y="3765"/>
                  </a:lnTo>
                  <a:lnTo>
                    <a:pt x="0" y="380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835680" y="4762440"/>
              <a:ext cx="4680" cy="171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3132">
                  <a:moveTo>
                    <a:pt x="17" y="0"/>
                  </a:moveTo>
                  <a:lnTo>
                    <a:pt x="0" y="39"/>
                  </a:lnTo>
                  <a:lnTo>
                    <a:pt x="0" y="3132"/>
                  </a:lnTo>
                  <a:lnTo>
                    <a:pt x="112" y="3132"/>
                  </a:lnTo>
                  <a:lnTo>
                    <a:pt x="112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51400" y="4559400"/>
              <a:ext cx="766800" cy="206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6184" h="3767">
                  <a:moveTo>
                    <a:pt x="12406" y="3767"/>
                  </a:moveTo>
                  <a:lnTo>
                    <a:pt x="16184" y="0"/>
                  </a:lnTo>
                  <a:lnTo>
                    <a:pt x="3778" y="0"/>
                  </a:lnTo>
                  <a:lnTo>
                    <a:pt x="0" y="3767"/>
                  </a:lnTo>
                  <a:lnTo>
                    <a:pt x="12406" y="3767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37480" y="4556160"/>
              <a:ext cx="180720" cy="210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857" h="3863">
                  <a:moveTo>
                    <a:pt x="3817" y="0"/>
                  </a:moveTo>
                  <a:lnTo>
                    <a:pt x="3777" y="16"/>
                  </a:lnTo>
                  <a:lnTo>
                    <a:pt x="0" y="3784"/>
                  </a:lnTo>
                  <a:lnTo>
                    <a:pt x="79" y="3863"/>
                  </a:lnTo>
                  <a:lnTo>
                    <a:pt x="3857" y="95"/>
                  </a:lnTo>
                  <a:lnTo>
                    <a:pt x="381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27800" y="455616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3">
                  <a:moveTo>
                    <a:pt x="0" y="16"/>
                  </a:moveTo>
                  <a:lnTo>
                    <a:pt x="40" y="113"/>
                  </a:lnTo>
                  <a:lnTo>
                    <a:pt x="12446" y="113"/>
                  </a:lnTo>
                  <a:lnTo>
                    <a:pt x="12446" y="0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49960" y="4557600"/>
              <a:ext cx="181080" cy="211320"/>
            </a:xfrm>
            <a:custGeom>
              <a:avLst/>
              <a:gdLst>
                <a:gd name="textAreaLeft" fmla="*/ 0 w 181080"/>
                <a:gd name="textAreaRight" fmla="*/ 181080 w 1810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857" h="3863">
                  <a:moveTo>
                    <a:pt x="40" y="3863"/>
                  </a:moveTo>
                  <a:lnTo>
                    <a:pt x="80" y="3847"/>
                  </a:lnTo>
                  <a:lnTo>
                    <a:pt x="3857" y="79"/>
                  </a:lnTo>
                  <a:lnTo>
                    <a:pt x="3778" y="0"/>
                  </a:lnTo>
                  <a:lnTo>
                    <a:pt x="0" y="3768"/>
                  </a:lnTo>
                  <a:lnTo>
                    <a:pt x="40" y="3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251400" y="4762440"/>
              <a:ext cx="588960" cy="6480"/>
            </a:xfrm>
            <a:custGeom>
              <a:avLst/>
              <a:gdLst>
                <a:gd name="textAreaLeft" fmla="*/ 0 w 588960"/>
                <a:gd name="textAreaRight" fmla="*/ 588960 w 588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2446" h="112">
                  <a:moveTo>
                    <a:pt x="12446" y="96"/>
                  </a:moveTo>
                  <a:lnTo>
                    <a:pt x="12406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2406" y="112"/>
                  </a:lnTo>
                  <a:lnTo>
                    <a:pt x="12446" y="9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594480" y="464832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29" y="287"/>
                  </a:lnTo>
                  <a:lnTo>
                    <a:pt x="450" y="28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667560" y="45640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302" h="1276">
                  <a:moveTo>
                    <a:pt x="450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2" y="539"/>
                  </a:lnTo>
                  <a:lnTo>
                    <a:pt x="3923" y="0"/>
                  </a:lnTo>
                  <a:lnTo>
                    <a:pt x="3630" y="287"/>
                  </a:lnTo>
                  <a:lnTo>
                    <a:pt x="450" y="28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30960" y="467208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2" h="1276">
                  <a:moveTo>
                    <a:pt x="4852" y="989"/>
                  </a:moveTo>
                  <a:lnTo>
                    <a:pt x="5302" y="544"/>
                  </a:lnTo>
                  <a:lnTo>
                    <a:pt x="2072" y="547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2" y="988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04040" y="458784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400 h 68400"/>
              </a:gdLst>
              <a:ahLst/>
              <a:rect l="textAreaLeft" t="textAreaTop" r="textAreaRight" b="textAreaBottom"/>
              <a:pathLst>
                <a:path w="5302" h="1277">
                  <a:moveTo>
                    <a:pt x="4853" y="989"/>
                  </a:moveTo>
                  <a:lnTo>
                    <a:pt x="5302" y="545"/>
                  </a:lnTo>
                  <a:lnTo>
                    <a:pt x="2072" y="549"/>
                  </a:lnTo>
                  <a:lnTo>
                    <a:pt x="2621" y="0"/>
                  </a:lnTo>
                  <a:lnTo>
                    <a:pt x="0" y="736"/>
                  </a:lnTo>
                  <a:lnTo>
                    <a:pt x="1380" y="1277"/>
                  </a:lnTo>
                  <a:lnTo>
                    <a:pt x="1672" y="989"/>
                  </a:lnTo>
                  <a:lnTo>
                    <a:pt x="4853" y="98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99160" y="4653000"/>
              <a:ext cx="250920" cy="6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6">
                  <a:moveTo>
                    <a:pt x="449" y="286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6"/>
                  </a:lnTo>
                  <a:lnTo>
                    <a:pt x="5301" y="539"/>
                  </a:lnTo>
                  <a:lnTo>
                    <a:pt x="3922" y="0"/>
                  </a:lnTo>
                  <a:lnTo>
                    <a:pt x="3630" y="286"/>
                  </a:lnTo>
                  <a:lnTo>
                    <a:pt x="449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672240" y="457056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5302" h="1277">
                  <a:moveTo>
                    <a:pt x="449" y="287"/>
                  </a:moveTo>
                  <a:lnTo>
                    <a:pt x="0" y="731"/>
                  </a:lnTo>
                  <a:lnTo>
                    <a:pt x="3229" y="728"/>
                  </a:lnTo>
                  <a:lnTo>
                    <a:pt x="2680" y="1277"/>
                  </a:lnTo>
                  <a:lnTo>
                    <a:pt x="5302" y="540"/>
                  </a:lnTo>
                  <a:lnTo>
                    <a:pt x="3922" y="0"/>
                  </a:lnTo>
                  <a:lnTo>
                    <a:pt x="3630" y="287"/>
                  </a:lnTo>
                  <a:lnTo>
                    <a:pt x="449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35640" y="467820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01" h="1277">
                  <a:moveTo>
                    <a:pt x="4852" y="989"/>
                  </a:moveTo>
                  <a:lnTo>
                    <a:pt x="5301" y="545"/>
                  </a:lnTo>
                  <a:lnTo>
                    <a:pt x="2072" y="548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7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410160" y="4594320"/>
              <a:ext cx="250920" cy="680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301" h="1276">
                  <a:moveTo>
                    <a:pt x="4852" y="989"/>
                  </a:moveTo>
                  <a:lnTo>
                    <a:pt x="5301" y="544"/>
                  </a:lnTo>
                  <a:lnTo>
                    <a:pt x="2073" y="547"/>
                  </a:lnTo>
                  <a:lnTo>
                    <a:pt x="2620" y="0"/>
                  </a:lnTo>
                  <a:lnTo>
                    <a:pt x="0" y="736"/>
                  </a:lnTo>
                  <a:lnTo>
                    <a:pt x="1379" y="1276"/>
                  </a:lnTo>
                  <a:lnTo>
                    <a:pt x="1671" y="989"/>
                  </a:lnTo>
                  <a:lnTo>
                    <a:pt x="4852" y="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6629400" y="4876920"/>
            <a:ext cx="1440" cy="5331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/>
          <p:nvPr/>
        </p:nvSpPr>
        <p:spPr>
          <a:xfrm>
            <a:off x="4881600" y="5410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M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"/>
          <p:cNvSpPr/>
          <p:nvPr/>
        </p:nvSpPr>
        <p:spPr>
          <a:xfrm>
            <a:off x="5584320" y="580860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"/>
          <p:cNvSpPr/>
          <p:nvPr/>
        </p:nvSpPr>
        <p:spPr>
          <a:xfrm>
            <a:off x="7108560" y="580860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A0171F-7605-475B-945C-D8516BD34D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"/>
          <p:cNvSpPr/>
          <p:nvPr/>
        </p:nvSpPr>
        <p:spPr>
          <a:xfrm>
            <a:off x="457200" y="6356520"/>
            <a:ext cx="426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/>
          <p:nvPr/>
        </p:nvSpPr>
        <p:spPr>
          <a:xfrm>
            <a:off x="-92880" y="2686680"/>
            <a:ext cx="48960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erformance (Mb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"/>
          <p:cNvSpPr/>
          <p:nvPr/>
        </p:nvSpPr>
        <p:spPr>
          <a:xfrm>
            <a:off x="3200400" y="6308640"/>
            <a:ext cx="297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Network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"/>
          <p:cNvSpPr/>
          <p:nvPr/>
        </p:nvSpPr>
        <p:spPr>
          <a:xfrm>
            <a:off x="533520" y="304920"/>
            <a:ext cx="7623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alibri"/>
              </a:rPr>
              <a:t>Cisco</a:t>
            </a:r>
            <a:r>
              <a:rPr b="1" lang="ca-E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a-ES" sz="4400" spc="-1" strike="noStrike">
                <a:solidFill>
                  <a:srgbClr val="000000"/>
                </a:solidFill>
                <a:latin typeface="Calibri"/>
              </a:rPr>
              <a:t>IDS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"/>
          <p:cNvSpPr/>
          <p:nvPr/>
        </p:nvSpPr>
        <p:spPr>
          <a:xfrm>
            <a:off x="762120" y="1473120"/>
            <a:ext cx="8076960" cy="4648320"/>
          </a:xfrm>
          <a:prstGeom prst="rect">
            <a:avLst/>
          </a:prstGeom>
          <a:gradFill rotWithShape="0">
            <a:gsLst>
              <a:gs pos="0">
                <a:srgbClr val="f7f1ff"/>
              </a:gs>
              <a:gs pos="50000">
                <a:srgbClr val="e4d1ff"/>
              </a:gs>
              <a:gs pos="100000">
                <a:srgbClr val="f7f1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"/>
          <p:cNvSpPr/>
          <p:nvPr/>
        </p:nvSpPr>
        <p:spPr>
          <a:xfrm>
            <a:off x="685800" y="1778040"/>
            <a:ext cx="6781680" cy="4038480"/>
          </a:xfrm>
          <a:prstGeom prst="rect">
            <a:avLst/>
          </a:prstGeom>
          <a:gradFill rotWithShape="0">
            <a:gsLst>
              <a:gs pos="0">
                <a:srgbClr val="eaf5ff"/>
              </a:gs>
              <a:gs pos="50000">
                <a:srgbClr val="bbddff"/>
              </a:gs>
              <a:gs pos="100000">
                <a:srgbClr val="eaf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"/>
          <p:cNvSpPr/>
          <p:nvPr/>
        </p:nvSpPr>
        <p:spPr>
          <a:xfrm>
            <a:off x="7806600" y="2590920"/>
            <a:ext cx="680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IDSM-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"/>
          <p:cNvSpPr/>
          <p:nvPr/>
        </p:nvSpPr>
        <p:spPr>
          <a:xfrm>
            <a:off x="6302520" y="3111480"/>
            <a:ext cx="7822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IDS 4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"/>
          <p:cNvSpPr/>
          <p:nvPr/>
        </p:nvSpPr>
        <p:spPr>
          <a:xfrm rot="5400000">
            <a:off x="2590560" y="3852720"/>
            <a:ext cx="2593800" cy="1371600"/>
          </a:xfrm>
          <a:prstGeom prst="rect">
            <a:avLst/>
          </a:prstGeom>
          <a:gradFill rotWithShape="0">
            <a:gsLst>
              <a:gs pos="0">
                <a:srgbClr val="fff7e1"/>
              </a:gs>
              <a:gs pos="50000">
                <a:srgbClr val="ffe59b"/>
              </a:gs>
              <a:gs pos="100000">
                <a:srgbClr val="fff7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"/>
          <p:cNvSpPr/>
          <p:nvPr/>
        </p:nvSpPr>
        <p:spPr>
          <a:xfrm>
            <a:off x="762120" y="2362320"/>
            <a:ext cx="5257800" cy="3733560"/>
          </a:xfrm>
          <a:prstGeom prst="rect">
            <a:avLst/>
          </a:prstGeom>
          <a:gradFill rotWithShape="0">
            <a:gsLst>
              <a:gs pos="0">
                <a:srgbClr val="e4ffe3"/>
              </a:gs>
              <a:gs pos="50000">
                <a:srgbClr val="bbffb8"/>
              </a:gs>
              <a:gs pos="100000">
                <a:srgbClr val="e4ff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"/>
          <p:cNvSpPr/>
          <p:nvPr/>
        </p:nvSpPr>
        <p:spPr>
          <a:xfrm>
            <a:off x="4944600" y="3581280"/>
            <a:ext cx="7642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IPS 42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"/>
          <p:cNvSpPr/>
          <p:nvPr/>
        </p:nvSpPr>
        <p:spPr>
          <a:xfrm>
            <a:off x="380880" y="5130720"/>
            <a:ext cx="381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"/>
          <p:cNvSpPr/>
          <p:nvPr/>
        </p:nvSpPr>
        <p:spPr>
          <a:xfrm>
            <a:off x="304920" y="1690560"/>
            <a:ext cx="4572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"/>
          <p:cNvSpPr/>
          <p:nvPr/>
        </p:nvSpPr>
        <p:spPr>
          <a:xfrm>
            <a:off x="304920" y="4494240"/>
            <a:ext cx="4572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"/>
          <p:cNvSpPr/>
          <p:nvPr/>
        </p:nvSpPr>
        <p:spPr>
          <a:xfrm>
            <a:off x="304920" y="2556000"/>
            <a:ext cx="4572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"/>
          <p:cNvSpPr/>
          <p:nvPr/>
        </p:nvSpPr>
        <p:spPr>
          <a:xfrm>
            <a:off x="4572000" y="5816520"/>
            <a:ext cx="1447920" cy="397080"/>
          </a:xfrm>
          <a:prstGeom prst="rect">
            <a:avLst/>
          </a:prstGeom>
          <a:solidFill>
            <a:srgbClr val="87d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/>
          <p:nvPr/>
        </p:nvSpPr>
        <p:spPr>
          <a:xfrm>
            <a:off x="304920" y="3546360"/>
            <a:ext cx="4572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"/>
          <p:cNvSpPr/>
          <p:nvPr/>
        </p:nvSpPr>
        <p:spPr>
          <a:xfrm>
            <a:off x="762120" y="3787920"/>
            <a:ext cx="3809880" cy="2306520"/>
          </a:xfrm>
          <a:prstGeom prst="rect">
            <a:avLst/>
          </a:prstGeom>
          <a:gradFill rotWithShape="0">
            <a:gsLst>
              <a:gs pos="0">
                <a:srgbClr val="fff7e1"/>
              </a:gs>
              <a:gs pos="50000">
                <a:srgbClr val="ffe59b"/>
              </a:gs>
              <a:gs pos="100000">
                <a:srgbClr val="fff7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"/>
          <p:cNvSpPr/>
          <p:nvPr/>
        </p:nvSpPr>
        <p:spPr>
          <a:xfrm>
            <a:off x="3124080" y="5821200"/>
            <a:ext cx="1447920" cy="392400"/>
          </a:xfrm>
          <a:prstGeom prst="rect">
            <a:avLst/>
          </a:prstGeom>
          <a:solidFill>
            <a:srgbClr val="775b6b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3200400" y="4401360"/>
            <a:ext cx="1371600" cy="82440"/>
          </a:xfrm>
          <a:prstGeom prst="rect">
            <a:avLst/>
          </a:prstGeom>
          <a:gradFill rotWithShape="0">
            <a:gsLst>
              <a:gs pos="0">
                <a:srgbClr val="fff7e1"/>
              </a:gs>
              <a:gs pos="50000">
                <a:srgbClr val="ffe59b"/>
              </a:gs>
              <a:gs pos="100000">
                <a:srgbClr val="fff7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"/>
          <p:cNvSpPr/>
          <p:nvPr/>
        </p:nvSpPr>
        <p:spPr>
          <a:xfrm>
            <a:off x="762120" y="4470480"/>
            <a:ext cx="2438280" cy="1623960"/>
          </a:xfrm>
          <a:prstGeom prst="rect">
            <a:avLst/>
          </a:prstGeom>
          <a:gradFill rotWithShape="0">
            <a:gsLst>
              <a:gs pos="0">
                <a:srgbClr val="fcd8de"/>
              </a:gs>
              <a:gs pos="50000">
                <a:srgbClr val="f67e92"/>
              </a:gs>
              <a:gs pos="100000">
                <a:srgbClr val="fcd8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"/>
          <p:cNvSpPr/>
          <p:nvPr/>
        </p:nvSpPr>
        <p:spPr>
          <a:xfrm>
            <a:off x="2279160" y="5288040"/>
            <a:ext cx="7642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IPS 42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"/>
          <p:cNvSpPr/>
          <p:nvPr/>
        </p:nvSpPr>
        <p:spPr>
          <a:xfrm>
            <a:off x="2057400" y="5821200"/>
            <a:ext cx="1143000" cy="392400"/>
          </a:xfrm>
          <a:prstGeom prst="rect">
            <a:avLst/>
          </a:prstGeom>
          <a:solidFill>
            <a:srgbClr val="87a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"/>
          <p:cNvSpPr/>
          <p:nvPr/>
        </p:nvSpPr>
        <p:spPr>
          <a:xfrm rot="5400000">
            <a:off x="2053800" y="1952280"/>
            <a:ext cx="1228680" cy="3809880"/>
          </a:xfrm>
          <a:prstGeom prst="rect">
            <a:avLst/>
          </a:prstGeom>
          <a:gradFill rotWithShape="0">
            <a:gsLst>
              <a:gs pos="0">
                <a:srgbClr val="fff7e1"/>
              </a:gs>
              <a:gs pos="50000">
                <a:srgbClr val="ffe59b"/>
              </a:gs>
              <a:gs pos="100000">
                <a:srgbClr val="fff7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"/>
          <p:cNvSpPr/>
          <p:nvPr/>
        </p:nvSpPr>
        <p:spPr>
          <a:xfrm>
            <a:off x="762120" y="4994280"/>
            <a:ext cx="1295280" cy="819000"/>
          </a:xfrm>
          <a:prstGeom prst="rect">
            <a:avLst/>
          </a:prstGeom>
          <a:solidFill>
            <a:srgbClr val="d3a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"/>
          <p:cNvSpPr/>
          <p:nvPr/>
        </p:nvSpPr>
        <p:spPr>
          <a:xfrm>
            <a:off x="762120" y="5799240"/>
            <a:ext cx="1295280" cy="414360"/>
          </a:xfrm>
          <a:prstGeom prst="rect">
            <a:avLst/>
          </a:prstGeom>
          <a:solidFill>
            <a:srgbClr val="ffc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912960" y="4994280"/>
            <a:ext cx="1144440" cy="460440"/>
            <a:chOff x="912960" y="4994280"/>
            <a:chExt cx="1144440" cy="460440"/>
          </a:xfrm>
        </p:grpSpPr>
        <p:graphicFrame>
          <p:nvGraphicFramePr>
            <p:cNvPr id="2061" name=""/>
            <p:cNvGraphicFramePr/>
            <p:nvPr/>
          </p:nvGraphicFramePr>
          <p:xfrm>
            <a:off x="912960" y="4994280"/>
            <a:ext cx="1144440" cy="4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2960" y="4994280"/>
                      <a:ext cx="114444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3" name=""/>
            <p:cNvSpPr/>
            <p:nvPr/>
          </p:nvSpPr>
          <p:spPr>
            <a:xfrm>
              <a:off x="912960" y="4994280"/>
              <a:ext cx="1144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762120" y="5881680"/>
            <a:ext cx="1295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0/100/1000 T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"/>
          <p:cNvSpPr/>
          <p:nvPr/>
        </p:nvSpPr>
        <p:spPr>
          <a:xfrm>
            <a:off x="912960" y="5410080"/>
            <a:ext cx="106812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NM-CIDS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"/>
          <p:cNvSpPr/>
          <p:nvPr/>
        </p:nvSpPr>
        <p:spPr>
          <a:xfrm>
            <a:off x="2212920" y="5881680"/>
            <a:ext cx="847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0/100 T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3200400" y="3241800"/>
            <a:ext cx="1371600" cy="1244520"/>
            <a:chOff x="3200400" y="3241800"/>
            <a:chExt cx="1371600" cy="1244520"/>
          </a:xfrm>
        </p:grpSpPr>
        <p:pic>
          <p:nvPicPr>
            <p:cNvPr id="2068" name="" descr=""/>
            <p:cNvPicPr/>
            <p:nvPr/>
          </p:nvPicPr>
          <p:blipFill>
            <a:blip r:embed="rId3"/>
            <a:stretch/>
          </p:blipFill>
          <p:spPr>
            <a:xfrm>
              <a:off x="3200400" y="3241800"/>
              <a:ext cx="1371600" cy="1244520"/>
            </a:xfrm>
            <a:prstGeom prst="rect">
              <a:avLst/>
            </a:prstGeom>
            <a:ln w="19080">
              <a:solidFill>
                <a:srgbClr val="99cccc"/>
              </a:solidFill>
              <a:miter/>
            </a:ln>
          </p:spPr>
        </p:pic>
        <p:sp>
          <p:nvSpPr>
            <p:cNvPr id="2069" name=""/>
            <p:cNvSpPr/>
            <p:nvPr/>
          </p:nvSpPr>
          <p:spPr>
            <a:xfrm>
              <a:off x="3200400" y="3241800"/>
              <a:ext cx="137160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0" name=""/>
          <p:cNvSpPr/>
          <p:nvPr/>
        </p:nvSpPr>
        <p:spPr>
          <a:xfrm flipV="1">
            <a:off x="3200400" y="4537080"/>
            <a:ext cx="1371600" cy="76320"/>
          </a:xfrm>
          <a:prstGeom prst="rect">
            <a:avLst/>
          </a:prstGeom>
          <a:gradFill rotWithShape="0">
            <a:gsLst>
              <a:gs pos="0">
                <a:srgbClr val="fff7e1"/>
              </a:gs>
              <a:gs pos="50000">
                <a:srgbClr val="ffe59b"/>
              </a:gs>
              <a:gs pos="100000">
                <a:srgbClr val="fff7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"/>
          <p:cNvSpPr/>
          <p:nvPr/>
        </p:nvSpPr>
        <p:spPr>
          <a:xfrm>
            <a:off x="3507120" y="4572000"/>
            <a:ext cx="7581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IP-SS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"/>
          <p:cNvSpPr/>
          <p:nvPr/>
        </p:nvSpPr>
        <p:spPr>
          <a:xfrm>
            <a:off x="4572000" y="3470400"/>
            <a:ext cx="228600" cy="1295280"/>
          </a:xfrm>
          <a:prstGeom prst="rect">
            <a:avLst/>
          </a:prstGeom>
          <a:solidFill>
            <a:srgbClr val="c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3" name=""/>
          <p:cNvGrpSpPr/>
          <p:nvPr/>
        </p:nvGrpSpPr>
        <p:grpSpPr>
          <a:xfrm>
            <a:off x="4572000" y="2327400"/>
            <a:ext cx="1447920" cy="1152360"/>
            <a:chOff x="4572000" y="2327400"/>
            <a:chExt cx="1447920" cy="1152360"/>
          </a:xfrm>
        </p:grpSpPr>
        <p:pic>
          <p:nvPicPr>
            <p:cNvPr id="2074" name="" descr=""/>
            <p:cNvPicPr/>
            <p:nvPr/>
          </p:nvPicPr>
          <p:blipFill>
            <a:blip r:embed="rId4"/>
            <a:stretch/>
          </p:blipFill>
          <p:spPr>
            <a:xfrm>
              <a:off x="4572000" y="2327400"/>
              <a:ext cx="1447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5" name=""/>
            <p:cNvSpPr/>
            <p:nvPr/>
          </p:nvSpPr>
          <p:spPr>
            <a:xfrm>
              <a:off x="4572000" y="2327400"/>
              <a:ext cx="144792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2057400" y="4460760"/>
            <a:ext cx="1143000" cy="822600"/>
            <a:chOff x="2057400" y="4460760"/>
            <a:chExt cx="1143000" cy="822600"/>
          </a:xfrm>
        </p:grpSpPr>
        <p:pic>
          <p:nvPicPr>
            <p:cNvPr id="2077" name="" descr=""/>
            <p:cNvPicPr/>
            <p:nvPr/>
          </p:nvPicPr>
          <p:blipFill>
            <a:blip r:embed="rId5"/>
            <a:stretch/>
          </p:blipFill>
          <p:spPr>
            <a:xfrm>
              <a:off x="2057400" y="4460760"/>
              <a:ext cx="11430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8" name=""/>
            <p:cNvSpPr/>
            <p:nvPr/>
          </p:nvSpPr>
          <p:spPr>
            <a:xfrm>
              <a:off x="2057400" y="4460760"/>
              <a:ext cx="11430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4675680" y="5775480"/>
            <a:ext cx="115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0/100/1000 T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000 S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0" name="" descr=""/>
          <p:cNvPicPr/>
          <p:nvPr/>
        </p:nvPicPr>
        <p:blipFill>
          <a:blip r:embed="rId6"/>
          <a:stretch/>
        </p:blipFill>
        <p:spPr>
          <a:xfrm>
            <a:off x="6019920" y="1793880"/>
            <a:ext cx="1447560" cy="1300320"/>
          </a:xfrm>
          <a:prstGeom prst="rect">
            <a:avLst/>
          </a:prstGeom>
          <a:ln w="0">
            <a:noFill/>
          </a:ln>
        </p:spPr>
      </p:pic>
      <p:sp>
        <p:nvSpPr>
          <p:cNvPr id="2081" name=""/>
          <p:cNvSpPr/>
          <p:nvPr/>
        </p:nvSpPr>
        <p:spPr>
          <a:xfrm>
            <a:off x="6019920" y="5816520"/>
            <a:ext cx="1523880" cy="397080"/>
          </a:xfrm>
          <a:prstGeom prst="rect">
            <a:avLst/>
          </a:prstGeom>
          <a:solidFill>
            <a:srgbClr val="f8c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"/>
          <p:cNvSpPr/>
          <p:nvPr/>
        </p:nvSpPr>
        <p:spPr>
          <a:xfrm>
            <a:off x="6209280" y="5908680"/>
            <a:ext cx="1154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0/100/1000 T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"/>
          <p:cNvSpPr/>
          <p:nvPr/>
        </p:nvSpPr>
        <p:spPr>
          <a:xfrm>
            <a:off x="7467480" y="5832360"/>
            <a:ext cx="1371600" cy="381240"/>
          </a:xfrm>
          <a:prstGeom prst="rect">
            <a:avLst/>
          </a:prstGeom>
          <a:solidFill>
            <a:srgbClr val="ffcc0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4" name=""/>
          <p:cNvGraphicFramePr/>
          <p:nvPr/>
        </p:nvGraphicFramePr>
        <p:xfrm>
          <a:off x="7467480" y="1523880"/>
          <a:ext cx="1343160" cy="101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1523880"/>
                    <a:ext cx="13431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6" name=""/>
          <p:cNvSpPr/>
          <p:nvPr/>
        </p:nvSpPr>
        <p:spPr>
          <a:xfrm flipV="1">
            <a:off x="723960" y="6202080"/>
            <a:ext cx="8115120" cy="1260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"/>
          <p:cNvSpPr/>
          <p:nvPr/>
        </p:nvSpPr>
        <p:spPr>
          <a:xfrm>
            <a:off x="7548480" y="5867280"/>
            <a:ext cx="10825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witched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"/>
          <p:cNvSpPr/>
          <p:nvPr/>
        </p:nvSpPr>
        <p:spPr>
          <a:xfrm flipH="1" flipV="1">
            <a:off x="721800" y="1446120"/>
            <a:ext cx="41400" cy="480384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"/>
          <p:cNvSpPr/>
          <p:nvPr/>
        </p:nvSpPr>
        <p:spPr>
          <a:xfrm>
            <a:off x="3312000" y="5867280"/>
            <a:ext cx="1154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0/100/1000 T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xonomy of intrusion detection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miscuous &amp; Inline Mode Protection: IDS, 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S and IPS Deployment Considerations &amp; examp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isco IDS fam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nor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DS/IPS Vulnerab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ow to protect I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fied Threat Management (UT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FD3624-102B-4558-8D76-5E69FA6894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n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n source, freely available software except for ru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stalled as dedicated server on Windows and Linux, Solaris operating syste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Arial"/>
              </a:rPr>
              <a:t>Placed as network sensor in a net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  <a:ea typeface="Arial"/>
              </a:rPr>
              <a:t>Ru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Arial"/>
              </a:rPr>
              <a:t> are set of instructions defined to take certain action after matching some sort of signatures (atomic or composi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338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lert tcp $HOME_NET any -&gt; $EXTERNAL_NET any (content:"uk.youtube.com”;msg:"someone visited YouTube"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6CE829-2A75-4D7C-9C88-E67BAD81EF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nort Mo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niffer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Used to sniff traffic from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Traffic will be captured using libpcap or winpca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Traffic will be captured directly from the sensor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ogger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Simple logging into a file. Two possible formats are Binary and ASCI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Logging into a Database (eg. MySQL)</a:t>
            </a:r>
            <a:r>
              <a:rPr b="0" lang="fa-IR" sz="22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Can be used for creating the normal traffic pro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trusion Detection / Pre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The rules will be used in this mode of snort to detect unwanted activ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64FCB0-26A2-4A28-BE20-C010DCA084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"/>
          <p:cNvSpPr/>
          <p:nvPr/>
        </p:nvSpPr>
        <p:spPr>
          <a:xfrm>
            <a:off x="457200" y="6356520"/>
            <a:ext cx="41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DS/IPS Vulnera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8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isco IPS Packet Handling Do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 July 2006, a DoS vulnerability was discovered on Cisco IPS 4200 series models which were running version 5.1 softwa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nort Rule Matching Backtrack DoS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nort versions 1.8 through 2.6 had a DoS vulnerability , found on January 11, 2007 which can exploit Snort's rule matching algorithm by using a crafted packet. This could cause the algorithm to slow down to the point where detection may become unavailable.  Snort was quick to release version 2.6.1 which corrected this iss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7524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2823A0-6519-41AD-996F-CA89C7CED4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"/>
          <p:cNvSpPr/>
          <p:nvPr/>
        </p:nvSpPr>
        <p:spPr>
          <a:xfrm>
            <a:off x="762120" y="6356520"/>
            <a:ext cx="4190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to protect ID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"/>
          <p:cNvSpPr/>
          <p:nvPr/>
        </p:nvSpPr>
        <p:spPr>
          <a:xfrm>
            <a:off x="609480" y="11430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8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n't run any service on your IDS sens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latform on which you are running IDS should be patched with the latest releases from your vend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figure the IDS machine so that it does not respond to ping (ICMP Echo-type) pack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r accounts should not be created except those that are absolutely necess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752400"/>
          </a:xfrm>
          <a:prstGeom prst="rect">
            <a:avLst/>
          </a:prstGeom>
          <a:ln w="0">
            <a:noFill/>
          </a:ln>
        </p:spPr>
      </p:pic>
      <p:sp>
        <p:nvSpPr>
          <p:cNvPr id="210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694CA-B668-432B-B971-7D611DAEB5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"/>
          <p:cNvSpPr/>
          <p:nvPr/>
        </p:nvSpPr>
        <p:spPr>
          <a:xfrm>
            <a:off x="838080" y="635652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nified Threat Management (UT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"/>
          <p:cNvSpPr/>
          <p:nvPr/>
        </p:nvSpPr>
        <p:spPr>
          <a:xfrm>
            <a:off x="457200" y="1295280"/>
            <a:ext cx="82296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fied Threat Management (UTM) is a network device that have many features in one box,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DS, IPS, Firewall, Spyware, Anti Spam , Anti Phish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nti Virus, Content (www) Filter, VP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tangle, Watchgu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tangle Demo: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untangle.com/video_overview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0B7104-793F-41EA-BAC1-2771444BB9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"/>
          <p:cNvSpPr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trusion detection syste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D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 is software or hardware designed to monitor, analyze  and respond to network traffic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an be classified a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Profil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ignature based intrusion detec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ignatures can be defined a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Atomic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omposit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an be available a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Hos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Network based Intrusion detec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IDS is used a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promiscuous mode protec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i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D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IPS is used a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Inline mode protec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for sec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internal networ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isco 4200 ser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IDS and IPS sensors offer rich set of features for ISD and 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nor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is an open source, free IDS and can operate i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niff , logg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Intrusion detection/preven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modes. Snort us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rul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to analyze traff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IDS/IPS software can be vulnerable to exploits so ru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patched version, and shutdown unnecessary servic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ified Threat Management (UTM) is a network device that have many features in one box. E.g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Untangle, Watchguar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32B3A7-668D-43A7-A2EE-9AD213BA0E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usion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protection from attacks against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ypes of network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Reconnaiss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Denial of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730840" y="1600200"/>
          <a:ext cx="2548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0840" y="1600200"/>
                    <a:ext cx="2548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917DBD-29BD-4341-8FE1-D0070FA8B1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usion detection system (I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ntrusion detection syste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(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D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) is software or hardware designed to monitor, analyze and respond to events occurring in a computer system or network for signs of possible incidents of violation in security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The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cidents of violation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an be unwanted attempts to access, manipulate or disable computer systems, mainly via a network, such as the Int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1200"/>
                <a:tab algn="l" pos="1425600"/>
                <a:tab algn="l" pos="2340000"/>
                <a:tab algn="l" pos="3254400"/>
                <a:tab algn="l" pos="4168800"/>
                <a:tab algn="l" pos="5083200"/>
                <a:tab algn="l" pos="5997600"/>
                <a:tab algn="l" pos="6912000"/>
                <a:tab algn="l" pos="7826400"/>
                <a:tab algn="l" pos="8740800"/>
                <a:tab algn="l" pos="96552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8A9A75-CDC6-4506-989A-83EFF3B8B6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lassification of Intrusion De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ofile or Anomaly based intrusion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Monitors network traffic and compares it against an established baseline for normal u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DejaVu Sans"/>
              </a:rPr>
              <a:t>Bandwidth, protocols, ports and devices generally connecting to each oth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Alerts the administrator or user when traffic is detected which is anomalous, or significantly different, than the baseli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Example: Snort Spade plug-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Prone to high number of false-posi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9AA6B3-A270-4626-A238-D421F5C848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lassification of Intrusion De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ignature based intrusion det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Also known a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Misuse Det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A signature based IDS will monitor packets on the network and compare them against a database of signatures or attributes from known malicious thre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Similar to the way most antivirus software detects malwa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Examples: Cisco Sensors 4200 series, Sn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Less prone to false positiv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Unable to detect zero-day threats whose signatures are not avail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A1CB96-179E-4FE7-909F-441043865B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gnature based intrusion de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3716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ign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A set of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patter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s pertaining to typical intrusion activity that, when matched, generate an ala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gnature Ty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Atom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—Trigger contained in a single pac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Example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ooking for the pattern “/etc/passwd “in the traf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Composi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DejaVu Sans"/>
              </a:rPr>
              <a:t>—Trigger contained in a series of multiple pac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58DD0E-B880-4827-A02C-BF2F171A95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ypes of Intrusion Detecti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ost based intrusion detectio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oftware (Agents) installed on computers to monitor input and output packets from 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t performs log analysis, file integrity checking, policy monitoring, rootkit detection, real-time alerting and active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Examples: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isco Security Agent (CSA) , OSSEC, Tripw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6E244-C92F-45C0-A19F-BF7F0F343A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80880" y="2270160"/>
            <a:ext cx="3613320" cy="3397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43840" y="3233880"/>
            <a:ext cx="11073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360" rIns="540360" tIns="270000" bIns="27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5354640" y="4371840"/>
            <a:ext cx="1440" cy="455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6116760" y="4371840"/>
            <a:ext cx="1440" cy="455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5810400" y="343224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5735520" y="3914640"/>
            <a:ext cx="1800" cy="4572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150480" y="1781280"/>
            <a:ext cx="20232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360" rIns="540360" tIns="270000" bIns="27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orpo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59120" y="3949560"/>
            <a:ext cx="1440" cy="424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527120" y="4232160"/>
            <a:ext cx="646200" cy="557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flipV="1">
            <a:off x="1192320" y="3951000"/>
            <a:ext cx="144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62120" y="4232160"/>
            <a:ext cx="645840" cy="557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2744640" y="3951000"/>
            <a:ext cx="180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2314440" y="4232160"/>
            <a:ext cx="646200" cy="55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V="1">
            <a:off x="3510000" y="3951360"/>
            <a:ext cx="1440" cy="5112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078000" y="4219560"/>
            <a:ext cx="646200" cy="557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35160" y="3652920"/>
            <a:ext cx="1800" cy="3045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371600" y="3227040"/>
            <a:ext cx="144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362320" y="3227040"/>
            <a:ext cx="1440" cy="4222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998640" y="2870280"/>
            <a:ext cx="645840" cy="557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1981080" y="2847960"/>
            <a:ext cx="646200" cy="557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50400" y="467676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638520"/>
            <a:ext cx="251460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>
            <a:off x="933480" y="3951360"/>
            <a:ext cx="667080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5602320" y="3556080"/>
            <a:ext cx="264960" cy="668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6638760" y="3152880"/>
            <a:ext cx="2046600" cy="1600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29400" y="3425760"/>
            <a:ext cx="227952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360" rIns="540360" tIns="270000" bIns="2700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trus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1698120" y="467676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2484000" y="467676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3241440" y="467676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1458720" y="282744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2352240" y="282744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5875200" y="5121360"/>
            <a:ext cx="1389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NS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4438800" y="5121360"/>
            <a:ext cx="134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WWW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51600" y="4511520"/>
            <a:ext cx="412560" cy="658800"/>
            <a:chOff x="5151600" y="4511520"/>
            <a:chExt cx="412560" cy="658800"/>
          </a:xfrm>
        </p:grpSpPr>
        <p:sp>
          <p:nvSpPr>
            <p:cNvPr id="278" name=""/>
            <p:cNvSpPr/>
            <p:nvPr/>
          </p:nvSpPr>
          <p:spPr>
            <a:xfrm>
              <a:off x="5151600" y="4559400"/>
              <a:ext cx="36324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53040" y="456084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51600" y="4511520"/>
              <a:ext cx="412560" cy="478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51600" y="4511520"/>
              <a:ext cx="412560" cy="478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75360" y="459756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95880" y="4635360"/>
              <a:ext cx="11592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14840" y="4511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4840" y="4511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56280" y="5129280"/>
              <a:ext cx="3585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56280" y="4803840"/>
              <a:ext cx="3585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51600" y="5126040"/>
              <a:ext cx="36324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51600" y="4800600"/>
              <a:ext cx="36324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73560" y="4595760"/>
              <a:ext cx="162000" cy="74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918040" y="4511520"/>
            <a:ext cx="412920" cy="658800"/>
            <a:chOff x="5918040" y="4511520"/>
            <a:chExt cx="412920" cy="658800"/>
          </a:xfrm>
        </p:grpSpPr>
        <p:sp>
          <p:nvSpPr>
            <p:cNvPr id="292" name=""/>
            <p:cNvSpPr/>
            <p:nvPr/>
          </p:nvSpPr>
          <p:spPr>
            <a:xfrm>
              <a:off x="5918040" y="4559400"/>
              <a:ext cx="363600" cy="6094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19840" y="4560840"/>
              <a:ext cx="360360" cy="60804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18040" y="4511520"/>
              <a:ext cx="412920" cy="4788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18040" y="4511520"/>
              <a:ext cx="412920" cy="4788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2160" y="4597560"/>
              <a:ext cx="163440" cy="77760"/>
            </a:xfrm>
            <a:prstGeom prst="rect">
              <a:avLst/>
            </a:prstGeom>
            <a:solidFill>
              <a:srgbClr val="c9c9b6"/>
            </a:solidFill>
            <a:ln w="468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62680" y="4635360"/>
              <a:ext cx="115920" cy="180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81640" y="4511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81640" y="4511520"/>
              <a:ext cx="49320" cy="658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21280" y="5129280"/>
              <a:ext cx="3603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21280" y="4803840"/>
              <a:ext cx="360360" cy="1440"/>
            </a:xfrm>
            <a:prstGeom prst="line">
              <a:avLst/>
            </a:prstGeom>
            <a:ln w="9360">
              <a:solidFill>
                <a:srgbClr val="ede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18040" y="5126040"/>
              <a:ext cx="36360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18040" y="4800600"/>
              <a:ext cx="363600" cy="1440"/>
            </a:xfrm>
            <a:prstGeom prst="line">
              <a:avLst/>
            </a:prstGeom>
            <a:ln w="936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0360" y="4595760"/>
              <a:ext cx="162000" cy="74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noFill/>
            <a:ln w="4680">
              <a:solidFill>
                <a:srgbClr val="eded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126040" y="4381560"/>
            <a:ext cx="1219320" cy="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4777920" y="486252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6141600" y="4862520"/>
            <a:ext cx="4593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4f81bd"/>
                </a:solidFill>
                <a:latin typeface="Calibri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alibri"/>
              </a:rPr>
              <a:t>Host-Based Intrusion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F8F67A-6129-4C55-AB15-1AE82DA38A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635652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ngineering and Management of Secure Computer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hurram updated by cm34</dc:creator>
  <dc:description>updated for 2010-11</dc:description>
  <dc:language>en-US</dc:language>
  <cp:lastModifiedBy>M Clements</cp:lastModifiedBy>
  <dcterms:modified xsi:type="dcterms:W3CDTF">2010-10-14T22:37:32Z</dcterms:modified>
  <cp:revision>114</cp:revision>
  <dc:subject/>
  <dc:title>IDS and IPS</dc:title>
</cp:coreProperties>
</file>